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13.jpeg" ContentType="image/jpeg"/>
  <Override PartName="/ppt/media/image23.png" ContentType="image/png"/>
  <Override PartName="/ppt/media/image29.wmf" ContentType="image/x-wmf"/>
  <Override PartName="/ppt/media/image1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5.wmf" ContentType="image/x-wmf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4.png" ContentType="image/png"/>
  <Override PartName="/ppt/media/image25.png" ContentType="image/png"/>
  <Override PartName="/ppt/media/image28.png" ContentType="image/png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16B-10B8-463A-8DD2-A7028E8E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02D-C8C4-4602-ACC0-D58C1D57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56D-F6C6-44EA-B09A-0BBBA6BC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4D6-89D9-48E6-8745-84FF62B2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55E3-121B-45F0-BED9-ECBC66C7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29E4-8488-4E12-AF37-86485477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FF9B-D8A8-4883-9B1D-9131F2E3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4594-FCEC-4C16-AF6D-8A9E48B9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96A6-11FA-4DA5-9681-51187A71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B880-8CC1-4990-B85D-34728F01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1205-123C-4C08-A248-E1E89075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752-D2F5-4CD2-894C-55D97C8A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2907-DC44-4CBD-A2D3-D0AFD7BA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655E-7C1F-4440-903B-2AA2EEBF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FD6E-32DD-45CE-8B7E-83146947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DB6B-F8F8-41E0-82E9-36360CA8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B76D-B48D-43FD-9965-65D26312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035-95E7-4B5D-A6E9-5993C2B0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015-9573-439B-BA3F-68A9C0D9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534-9EB2-4C1D-8DBB-229F1B6D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78C-0CBD-45CE-A0D7-AB543DE4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63C-4329-4414-831F-FA2E1A97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488-A77F-411B-829D-CD55D7D7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168-F193-4B79-8858-CFC622F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9009-5CCC-4E2A-B3D1-49A04CAC3BFF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E744-CD08-4976-9941-E1F3AF14565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Localización e Instalacion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9 de octubre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ales de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édi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F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1971720" cy="76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1366920" cy="88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132000" y="37162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076720" y="3789360"/>
            <a:ext cx="209556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859280" y="4724280"/>
            <a:ext cx="1276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Kmart versus Wal-M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 entre Falabella, Almacenes París y Ripley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24000" y="2997360"/>
            <a:ext cx="40323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mbiente: temperatura, aire, ruido, olor, iluminación música (pulso, époc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ayout: Menú, comida, bas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quipamiento: Probadores, disponibilidad de la rop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tail: Pasillos, góndol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ímbol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Vestime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coración (mármol – made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2997360"/>
            <a:ext cx="1440000" cy="8254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Tip-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Victori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64360" y="2782800"/>
            <a:ext cx="18860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5940360" y="2852640"/>
          <a:ext cx="114300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2852640"/>
                    <a:ext cx="11430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661080" y="5300640"/>
          <a:ext cx="215280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61080" y="5300640"/>
                    <a:ext cx="2152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580000" y="5157720"/>
            <a:ext cx="933480" cy="1085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309840" y="5227560"/>
            <a:ext cx="15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bjetivos de un 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splazamiento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Salas de cirugía, almuerzos de pacientes, baños de muje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gur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Fiestas de año nuevo, espacio en bomberos, bóve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rivac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Baño, cocina en restaurantes, boxes en clín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obustez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Drive-in, estacionamiento, restaurants de más pisos, congestión en mesani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mun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Químicos de lavandería, fum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resupue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ezar chico pero pensar en gran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rreras de ent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ones prem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raf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80000" y="4724280"/>
            <a:ext cx="20163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ervice Deliv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y to deal with compet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ujo de Clientes y de Trabajo: Localización, equipamiento, lay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sonal: Procedimientos, ro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das: calidad, satisfacción,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nca termina, es cre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Nuev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xonomía: Tecnología, Gente, Sist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tomat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agramas (Blueprinting) Einstein Weintra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ront – back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 estraté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xonomía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plicaciones Automá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ixed Sequence (F): (un paso) entrada al estacionamiento, control de asistencia, contestadora, papel higiénico, reg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 Sequence (V): (varios pasos) IVR, Ascensor, transferencia electrónica, carw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lligent (I): (sensores) Piloto automático, Coca-Cola, SD20A, semáfo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ert System (E): (datos) clasificar errores, diagnóstico de pacientes, pronóst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otally automated system (T): (sensores y datos) ruteo en tiempo real, sorter, C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modelos de nego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rgan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ltura: creencias de los miembros de una organización (3M innovación, Metro, Endesa exactitud, Bci diferencia, Capel pisquito, Procter Emprendimien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oderamiento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rámide (Mc Donalds) Up or Go (DM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 invertida (Información – Instrucción) (ECM) relación cliente proveedor (MOP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ación (Unimarc – Taco B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finición del Probl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foques de Sol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sos Espe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l de Contac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lut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icultades en el pasad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ísticas negativas del medi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Qué hiciste? Qué harí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nte esta situación difícil, qué harí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Quién es José Mosquer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ren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Repres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étrica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tributo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4365720"/>
            <a:ext cx="4248360" cy="201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96000" y="3429000"/>
            <a:ext cx="2166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Ubic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esos (cultu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sibilidades de expan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leg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servici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Integraméd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22760" y="4869000"/>
            <a:ext cx="2505240" cy="1185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54720" y="2133720"/>
            <a:ext cx="1278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ormación: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ASEN, Origen – destino,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del mercado (j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dad, sexo, actividad, et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 de las ubicaciones (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lculabil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rror de estim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por ubic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f(merc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,j=1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... , merc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,j=J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asti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f(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=1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... , 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=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10480" y="692280"/>
          <a:ext cx="85716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0480" y="692280"/>
                    <a:ext cx="85716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27920" y="1052640"/>
            <a:ext cx="2476440" cy="428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716440" y="2779560"/>
            <a:ext cx="173520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141880" y="4146480"/>
            <a:ext cx="3390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imizar tiempos de 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imizar cost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ximizar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t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cios públic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étrica de atribut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medio, máximo, mín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or persona, por via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295280" cy="544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08360" y="3213000"/>
            <a:ext cx="2448000" cy="347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284720" y="3933720"/>
            <a:ext cx="1200240" cy="1111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724360" y="4632480"/>
            <a:ext cx="33483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foques de 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: min – max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tim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euríst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Greedy (penalizad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3265560"/>
            <a:ext cx="3743640" cy="261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0920" y="3373560"/>
            <a:ext cx="12258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tancia entre compet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ustering competi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esibilidad – Vis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592360" cy="19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6588000" y="2852640"/>
          <a:ext cx="116064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2852640"/>
                    <a:ext cx="11606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87280" y="4365720"/>
          <a:ext cx="2951280" cy="13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365720"/>
                    <a:ext cx="29512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tancia entre Loca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nib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s impulsivas – publicidad cru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 superpone con el efecto “alta densidad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454040" cy="206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09368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124000" y="5100480"/>
          <a:ext cx="2519280" cy="15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100480"/>
                    <a:ext cx="251928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10-29T20:55:17Z</dcterms:modified>
  <cp:revision>134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