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5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12B-DB64-47C5-9DD1-5EE7D9E4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4F5-8E0F-45D5-8118-EFF6004F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D81-8308-495C-AE63-3913DD68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C5C-24E9-4A27-9670-6905CAA0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917B-D8A1-441A-8E25-036D475F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4D11-2CDE-4195-8418-66C93428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E31C-F37B-4B50-9C13-015DB757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A601-3E5B-4C19-A70F-8104F506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9223-6135-469B-9503-345EF781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C00E-B6B1-4DC4-82EA-F444B717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D5F1-F50D-4AB0-A66F-1945062E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5A9-0188-4EF3-AA4C-B259FB26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D8A2-9899-49CD-A6F3-EBC6212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135E-5D82-44E4-90D2-C876628C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F4BB-D7BC-4F67-A52A-463FE600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C2A9-AD11-4EEF-B201-996317BA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FD91-6658-4F5B-AC57-373D969F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914-8674-41AA-92D6-45FF6389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93F-137E-48F6-8077-BD511512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BE9B-C763-4A33-95DC-8E5358DA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538-3F98-4ADA-884B-C547227A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C4DE-D9F1-4CD9-8DA4-CD0A9265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8C3E-2977-4C95-B984-025AEB35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C96-6EC3-4536-A24E-CA2A54E8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9078-C255-49B9-A586-D418D95B1B04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1A9D-D73F-4CC5-9C37-7F864602EDF7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Relación con el Client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5 de noviembr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059280" y="5373720"/>
            <a:ext cx="12952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56000" y="981000"/>
            <a:ext cx="914400" cy="837720"/>
            <a:chOff x="2556000" y="981000"/>
            <a:chExt cx="914400" cy="837720"/>
          </a:xfrm>
        </p:grpSpPr>
        <p:grpSp>
          <p:nvGrpSpPr>
            <p:cNvPr id="146" name=""/>
            <p:cNvGrpSpPr/>
            <p:nvPr/>
          </p:nvGrpSpPr>
          <p:grpSpPr>
            <a:xfrm>
              <a:off x="2556000" y="1285560"/>
              <a:ext cx="914400" cy="533160"/>
              <a:chOff x="2556000" y="1285560"/>
              <a:chExt cx="914400" cy="533160"/>
            </a:xfrm>
          </p:grpSpPr>
          <p:sp>
            <p:nvSpPr>
              <p:cNvPr id="147" name=""/>
              <p:cNvSpPr/>
              <p:nvPr/>
            </p:nvSpPr>
            <p:spPr>
              <a:xfrm>
                <a:off x="27082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368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654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82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368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654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6323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609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0895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23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609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895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556000" y="1438200"/>
                <a:ext cx="838080" cy="380520"/>
                <a:chOff x="2556000" y="1438200"/>
                <a:chExt cx="838080" cy="380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26323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609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895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5560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7846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132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560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7846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132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9" name=""/>
            <p:cNvGrpSpPr/>
            <p:nvPr/>
          </p:nvGrpSpPr>
          <p:grpSpPr>
            <a:xfrm>
              <a:off x="2556000" y="981000"/>
              <a:ext cx="914400" cy="532440"/>
              <a:chOff x="2556000" y="981000"/>
              <a:chExt cx="914400" cy="532440"/>
            </a:xfrm>
          </p:grpSpPr>
          <p:sp>
            <p:nvSpPr>
              <p:cNvPr id="170" name=""/>
              <p:cNvSpPr/>
              <p:nvPr/>
            </p:nvSpPr>
            <p:spPr>
              <a:xfrm>
                <a:off x="27082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368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654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082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368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654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323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609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0895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323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609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895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2556000" y="1133280"/>
                <a:ext cx="838080" cy="380160"/>
                <a:chOff x="2556000" y="1133280"/>
                <a:chExt cx="838080" cy="380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26323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609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0895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5560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846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132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560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7846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132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92" name=""/>
          <p:cNvGraphicFramePr/>
          <p:nvPr/>
        </p:nvGraphicFramePr>
        <p:xfrm>
          <a:off x="762120" y="2362320"/>
          <a:ext cx="63244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62320"/>
                    <a:ext cx="63244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OL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Pregun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ductos con éxito en la región Es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mpo promedio desde la entrega hasta la cobranza para los locales de Ñuñoa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ventos (Indicad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mensiones (texto, niveles de detalle, cambian poco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556000" y="981000"/>
            <a:ext cx="914400" cy="837720"/>
            <a:chOff x="2556000" y="981000"/>
            <a:chExt cx="914400" cy="837720"/>
          </a:xfrm>
        </p:grpSpPr>
        <p:grpSp>
          <p:nvGrpSpPr>
            <p:cNvPr id="197" name=""/>
            <p:cNvGrpSpPr/>
            <p:nvPr/>
          </p:nvGrpSpPr>
          <p:grpSpPr>
            <a:xfrm>
              <a:off x="2556000" y="1285560"/>
              <a:ext cx="914400" cy="533160"/>
              <a:chOff x="2556000" y="1285560"/>
              <a:chExt cx="914400" cy="533160"/>
            </a:xfrm>
          </p:grpSpPr>
          <p:sp>
            <p:nvSpPr>
              <p:cNvPr id="198" name=""/>
              <p:cNvSpPr/>
              <p:nvPr/>
            </p:nvSpPr>
            <p:spPr>
              <a:xfrm>
                <a:off x="27082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368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65480" y="143820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082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9368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65480" y="1285560"/>
                <a:ext cx="30492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323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609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89520" y="151416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6323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609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89520" y="1361880"/>
                <a:ext cx="304560" cy="22860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2556000" y="1438200"/>
                <a:ext cx="838080" cy="380520"/>
                <a:chOff x="2556000" y="1438200"/>
                <a:chExt cx="838080" cy="3805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6323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8609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089520" y="1514160"/>
                  <a:ext cx="30456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5560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7846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013200" y="159048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5560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7846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013200" y="1438200"/>
                  <a:ext cx="304920" cy="2282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0" name=""/>
            <p:cNvGrpSpPr/>
            <p:nvPr/>
          </p:nvGrpSpPr>
          <p:grpSpPr>
            <a:xfrm>
              <a:off x="2556000" y="981000"/>
              <a:ext cx="914400" cy="532440"/>
              <a:chOff x="2556000" y="981000"/>
              <a:chExt cx="914400" cy="532440"/>
            </a:xfrm>
          </p:grpSpPr>
          <p:sp>
            <p:nvSpPr>
              <p:cNvPr id="221" name=""/>
              <p:cNvSpPr/>
              <p:nvPr/>
            </p:nvSpPr>
            <p:spPr>
              <a:xfrm>
                <a:off x="27082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368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65480" y="113328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7082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9368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65480" y="981000"/>
                <a:ext cx="30492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323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09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89520" y="120924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6323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8609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89520" y="1056960"/>
                <a:ext cx="304560" cy="228240"/>
              </a:xfrm>
              <a:prstGeom prst="cube">
                <a:avLst>
                  <a:gd name="adj" fmla="val 25000"/>
                </a:avLst>
              </a:prstGeom>
              <a:solidFill>
                <a:srgbClr val="66ccff"/>
              </a:solidFill>
              <a:ln w="1260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2556000" y="1133280"/>
                <a:ext cx="838080" cy="380160"/>
                <a:chOff x="2556000" y="1133280"/>
                <a:chExt cx="838080" cy="380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6323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09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089520" y="1209240"/>
                  <a:ext cx="30456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5560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7846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013200" y="128556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5560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7846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013200" y="1133280"/>
                  <a:ext cx="304920" cy="2278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1260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79640" y="5373720"/>
            <a:ext cx="1079640" cy="1079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990720" y="3048120"/>
          <a:ext cx="74660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8120"/>
                    <a:ext cx="74660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990720" y="2743200"/>
          <a:ext cx="441000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743200"/>
                    <a:ext cx="44100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epor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57080" y="2305080"/>
          <a:ext cx="709164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305080"/>
                    <a:ext cx="70916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xecutive Information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356000" y="5373720"/>
            <a:ext cx="129564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xecutive Information Syste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838080" y="2387520"/>
          <a:ext cx="693432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87520"/>
                    <a:ext cx="693432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581800" y="5157720"/>
            <a:ext cx="1295280" cy="1295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523880" y="2276640"/>
            <a:ext cx="4275360" cy="4572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607160" y="3251160"/>
            <a:ext cx="1231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48194"/>
              <a:gd name="adj5" fmla="val 247916"/>
              <a:gd name="adj6" fmla="val -29562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Baja Asoci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7080" y="4651200"/>
            <a:ext cx="11682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61958"/>
              <a:gd name="adj5" fmla="val -108333"/>
              <a:gd name="adj6" fmla="val 21956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Alta Asociació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6195960" y="4221000"/>
                <a:ext cx="269712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∧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U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6588000" y="519444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Tahoma"/>
              </a:rPr>
              <a:t>Según datos de Economax, Julio 2000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3623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mento de Ver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con el Cliente (CR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ol de la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ligros de un C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24000" y="2009880"/>
            <a:ext cx="6335640" cy="5379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588000" y="2492280"/>
            <a:ext cx="236232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M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76932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gmen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tribu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amañ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luste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odelos de propen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s-ES" sz="1200" spc="-1" strike="noStrike">
                <a:solidFill>
                  <a:srgbClr val="003366"/>
                </a:solidFill>
                <a:latin typeface="Arial"/>
              </a:rPr>
              <a:t>ijk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= Prob segmen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adquiera producto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dada la acción </a:t>
            </a: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k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preci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tras variables: Productos ya existentes, acciones ya ejecutad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ifetime val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Fug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Avoid the Four Perils (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839520" y="23619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crear antes la Estrategia de Marketing (Segmentar, Posicionar, Competenc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 rediseñar antes los procesos en los que intervienen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asar el éxito en la Tecnología (Informática vs. Proyecto Empresa, Pilot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osar a los clie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4653000"/>
            <a:ext cx="6624720" cy="0"/>
          </a:xfrm>
          <a:prstGeom prst="line">
            <a:avLst/>
          </a:prstGeom>
          <a:ln w="572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mento de Ver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3021120"/>
            <a:ext cx="109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1640" y="3021120"/>
            <a:ext cx="1098720" cy="3071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00720" y="3021120"/>
            <a:ext cx="1098360" cy="3071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137280" y="3021120"/>
            <a:ext cx="1098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mento de Ver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trada al loc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Localización – Instalacion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Entreg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Gestión de la Espera – Oferta – Demand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ransaccione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Diseño de Procesos – Capacity Planni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pagos que realiza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Pricing – Diseño de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os despacho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Localiz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nsultas, posventa, reclamos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Calid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omunic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Promociones – Estrateg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Las visitas al sitio web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(Tecnologí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Gestión de la Relación con el Clien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trolar los momentos de ver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cambio de inform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lación uno a u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frecer produ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ectar fug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mento de rentabi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ceso organizacional y técnic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C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 de CRM (P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43160" y="2468520"/>
            <a:ext cx="9144000" cy="3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Morgan"/>
          <p:cNvPicPr/>
          <p:nvPr/>
        </p:nvPicPr>
        <p:blipFill>
          <a:blip r:embed="rId1"/>
          <a:stretch/>
        </p:blipFill>
        <p:spPr>
          <a:xfrm>
            <a:off x="914400" y="4114800"/>
            <a:ext cx="3657600" cy="245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876920" y="3429000"/>
          <a:ext cx="2971800" cy="51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3429000"/>
                    <a:ext cx="297180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5715000" y="2666880"/>
          <a:ext cx="2666880" cy="55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2666880"/>
                    <a:ext cx="26668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590920" y="2743200"/>
          <a:ext cx="2361960" cy="438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2743200"/>
                    <a:ext cx="23619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371600" y="2438280"/>
          <a:ext cx="620640" cy="990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2438280"/>
                    <a:ext cx="6206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800600" y="4038480"/>
            <a:ext cx="396252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nfoque de un C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24000" y="2708280"/>
            <a:ext cx="1892520" cy="1239840"/>
          </a:xfrm>
          <a:custGeom>
            <a:avLst/>
            <a:gdLst>
              <a:gd name="textAreaLeft" fmla="*/ 236520 w 1892520"/>
              <a:gd name="textAreaRight" fmla="*/ 1656000 w 189252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ffe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Capt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nuevos clien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06880" y="2708280"/>
            <a:ext cx="1892160" cy="1239840"/>
          </a:xfrm>
          <a:custGeom>
            <a:avLst/>
            <a:gdLst>
              <a:gd name="textAreaLeft" fmla="*/ 236520 w 1892160"/>
              <a:gd name="textAreaRight" fmla="*/ 1655640 w 189216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3e1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Desarrol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valor de compr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7960" y="2708280"/>
            <a:ext cx="1892520" cy="1239840"/>
          </a:xfrm>
          <a:custGeom>
            <a:avLst/>
            <a:gdLst>
              <a:gd name="textAreaLeft" fmla="*/ 236520 w 1892520"/>
              <a:gd name="textAreaRight" fmla="*/ 1656000 w 1892520"/>
              <a:gd name="textAreaTop" fmla="*/ 309960 h 1239840"/>
              <a:gd name="textAreaBottom" fmla="*/ 929880 h 123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fc7e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 Narrow"/>
              </a:rPr>
              <a:t>Reten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(clientes existent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0320" y="3017880"/>
            <a:ext cx="12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Ciclo de V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de Clien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6000" y="3727440"/>
            <a:ext cx="1561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Diferenci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Innov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Conveniec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Marketing direc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9080" y="3716280"/>
            <a:ext cx="1748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Sistematiz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ervicio al cli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egment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Venta cruzad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Procesos repetibl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00000" y="3727440"/>
            <a:ext cx="1867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Adaptació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Entender al clien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Nuevos producto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Programas de lealta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3881520"/>
            <a:ext cx="99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Narrow"/>
              </a:rPr>
              <a:t>Enfoque CR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73320" y="5373720"/>
            <a:ext cx="5734080" cy="398880"/>
          </a:xfrm>
          <a:prstGeom prst="rect">
            <a:avLst/>
          </a:prstGeom>
          <a:solidFill>
            <a:srgbClr val="39a0d9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Narrow"/>
              </a:rPr>
              <a:t>Aplicaciones Integradas de CR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83720" y="5138640"/>
            <a:ext cx="980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 Narrow"/>
              </a:rPr>
              <a:t>Softwa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Sieb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Orac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Clarif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 Narrow"/>
              </a:rPr>
              <a:t>Epiphan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terfa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l Center, web, e-m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lmacenamien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a Warehou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ata Warehou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24200" y="2421000"/>
            <a:ext cx="4952880" cy="414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42920" y="367992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Automátic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91280" y="371628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Man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64360" y="4422600"/>
            <a:ext cx="1728720" cy="1789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Format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Actualiz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Llenad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00:25:18Z</dcterms:created>
  <dc:creator>Joselyn Bravo</dc:creator>
  <dc:description/>
  <dc:language>en-US</dc:language>
  <cp:lastModifiedBy>Joselyn Bravo</cp:lastModifiedBy>
  <dcterms:modified xsi:type="dcterms:W3CDTF">2007-11-05T20:16:51Z</dcterms:modified>
  <cp:revision>145</cp:revision>
  <dc:subject/>
  <dc:title>Gestión de la Ofer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