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B21-6755-45CA-8C79-796F89C998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F2E3-71E6-4A40-A98B-846F3A4945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BE4-8AB9-4F39-B519-0FF2C1BA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6BAC-6171-4842-AE9B-8198B818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CCF-F10C-4345-96D6-DE69DA64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89-3CCC-4026-BE51-3CCF6B16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D7A-7D10-4F02-B030-ED09B460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75B-E65F-4D2C-B841-EF93F85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730-B774-496E-8BB8-969141B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807-9CA0-417A-8BC5-20C88A5C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DAC-BC1D-4C8A-AC81-F6A0013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164-66F6-4F34-9A8F-BCA60A5C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D96-44FD-4763-89CA-C061DACF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BDD-5F2D-4AA3-892E-5DB9F688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9804-1811-4E21-8F0E-26BA7D6AB108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743E-68BF-4B87-979E-01A35068991E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cela Guzmán 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2007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2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A68-EAFE-41D2-9D4D-86D0D1CFDD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CF18A-0868-4BBC-9DCB-5CBE8F363B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ED2-0B2E-400C-AF3F-69CC3898FB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DF66C-64EC-445B-81ED-605005C394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217-1FBA-48B8-A2B8-A511B02C42A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9C05A-3C6E-4D11-B73D-823BAFBB12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6.- La ley es la expresión de la voluntad general. Todos los ciudadanos tienen derecho a contribuir a su elaboración, personalmente o por medio de sus representantes. Debe ser la misma para todos, ya sea que proteja o que sancione. Como todos los ciudadanos son iguales ante ella, todos son igualmente admisibles en toda dignidad, cargo o empleo públicos, según sus capacidades y sin otra distinción que la de sus virtudes y sus talentos.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Industrial736 BT"/>
              </a:rPr>
              <a:t>Artículo 38.- Una ley orgánica constitucional determinará la organización básica de la Administración Pública, garantizará la carrera funcionaria y los principios de carácter técnico y profesional en que deba fundarse, y asegurará tanto la igualdad de oportunidades de ingreso a ella como la capacitación y el perfeccionamiento de sus integrantes.</a:t>
            </a:r>
            <a:r>
              <a:rPr b="1" lang="en-US" sz="16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Industrial736 BT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A14-667E-4393-9A9D-A2A5F9CD4F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12654-179F-4C65-8FDC-51DF407746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1B0-55A6-4BD7-9B57-8B59D6440B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9C54A-47FA-4C16-9F4F-42BE0DD2DA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F73-6AAE-4931-A776-3A9FF3E141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D5985-4B5E-44D5-BBA2-5A3C9E3C88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E6D-113D-4A00-A45E-E5262BC97D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F4D74-7EC6-499A-88B8-768C010EAD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a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E70-A332-44E5-A134-E61BE4E952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EA464-646E-4888-BDCC-7AAB7BDCF3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6B7-51DD-4008-B30A-3C235BE665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4AED2-A5F6-455E-8F0A-1A9F632444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029-FF7D-4EE5-8AE1-58E7ED0F0D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6A9CD-C19B-425E-A23F-D3F516102E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D79-563F-4F9A-94BF-E1AA7D582A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657CC-7871-4417-B4B8-5A04524471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FB2-60F5-4269-8160-04C3BB7DE4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A407E-3DEF-4257-9D9C-BCD6F905F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EL EMPLEO PUBLICO EN AMERICA LATIN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56000" y="2276640"/>
            <a:ext cx="4105080" cy="3816360"/>
            <a:chOff x="2556000" y="2276640"/>
            <a:chExt cx="4105080" cy="3816360"/>
          </a:xfrm>
        </p:grpSpPr>
        <p:sp>
          <p:nvSpPr>
            <p:cNvPr id="131" name="Pyr1"/>
            <p:cNvSpPr/>
            <p:nvPr/>
          </p:nvSpPr>
          <p:spPr>
            <a:xfrm>
              <a:off x="4153320" y="2276640"/>
              <a:ext cx="920160" cy="845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DIREC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Pyr2"/>
            <p:cNvSpPr/>
            <p:nvPr/>
          </p:nvSpPr>
          <p:spPr>
            <a:xfrm>
              <a:off x="3620520" y="3122280"/>
              <a:ext cx="1980720" cy="9921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PROFESIONA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Pyr3"/>
            <p:cNvSpPr/>
            <p:nvPr/>
          </p:nvSpPr>
          <p:spPr>
            <a:xfrm>
              <a:off x="3093480" y="4114800"/>
              <a:ext cx="3034440" cy="991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ECN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Pyr4"/>
            <p:cNvSpPr/>
            <p:nvPr/>
          </p:nvSpPr>
          <p:spPr>
            <a:xfrm>
              <a:off x="2556000" y="5100840"/>
              <a:ext cx="4105080" cy="99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DMINISTRATIV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0800000">
            <a:off x="2050560" y="2205000"/>
            <a:ext cx="358920" cy="1224000"/>
          </a:xfrm>
          <a:custGeom>
            <a:avLst/>
            <a:gdLst>
              <a:gd name="textAreaLeft" fmla="*/ 0 w 358920"/>
              <a:gd name="textAreaRight" fmla="*/ 129600 w 358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2050560" y="3500280"/>
            <a:ext cx="358920" cy="259272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2997360"/>
            <a:ext cx="360360" cy="3095640"/>
          </a:xfrm>
          <a:custGeom>
            <a:avLst/>
            <a:gdLst>
              <a:gd name="textAreaLeft" fmla="*/ 0 w 360360"/>
              <a:gd name="textAreaRight" fmla="*/ 12996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77080" y="213372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8526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SERVICIO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5013360"/>
            <a:ext cx="9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TRATOCOM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42100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CONFIANZA POLI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365720"/>
            <a:ext cx="9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773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SISTEMAS DE SERVICIO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1700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imes New Roman"/>
              </a:rPr>
              <a:t>AMERICA LA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4C9-5755-4856-9A5C-D5EEBDACB1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B58F5-52F2-4BD3-AD96-038AAFBA45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350-EBC7-4BB6-91C1-651E6F89DF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39728-CB62-4449-ABCB-AC71815555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307-C609-4239-BFAA-183B57CBA9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AA13-7781-4FE9-99CF-EBD5F1352C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98D-D68F-4306-AE4D-979DA29AED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A34CC-687C-424F-8CA9-0FB840987C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00D-C32F-46F8-B9BC-E17A55BDC1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266B9-7727-4325-BA69-A43C4B316C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-335880"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358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8BA-5B81-4ACD-85E2-F7B1652783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B37EA-7B76-48D8-AD23-BC42E9095AB5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73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78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86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642-1320-4983-AC10-BAEABB0D39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8666A-7733-47FF-B22F-6A8F4E5C8503}" type="datetime1">
              <a:rPr lang="en-US"/>
              <a:t>07/28/26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942-5019-4B42-889D-3B7697C70B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C5D55-BFDA-43A8-8E7A-CF05F31638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563-4682-4760-926A-871D9984B5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9DE9D-A724-470E-BFE9-3E12A5342E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DB4-1DB8-4A9C-864D-A6C42B2DCB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FCF01-8865-4DCC-891B-78999EA124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F86-72A6-4EA4-924D-D0D139BB1B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FAFB0-B8FF-45C2-81D5-32AC1E0B38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Dependencia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ción Cen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58.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traloría General de la Repúbl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oder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7.9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ngreso N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inisterio Públ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3.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335-819C-4D91-B316-30E8C83B78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2FF8D-F428-4259-831D-DCCE19A0EA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Chile: Personal Civil del Gobierno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Industrial736 BT"/>
              </a:rPr>
              <a:t>Según Estamento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2133720"/>
          <a:ext cx="7848360" cy="4064040"/>
        </p:xfrm>
        <a:graphic>
          <a:graphicData uri="http://schemas.openxmlformats.org/drawingml/2006/table">
            <a:tbl>
              <a:tblPr/>
              <a:tblGrid>
                <a:gridCol w="5638680"/>
                <a:gridCol w="220968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6.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Directivos no 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.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rofes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9.4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écn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47.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ministrativos y Auxili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56.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otal Sector Públ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172.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7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016-47CF-4FAB-9C97-CAF6737AF8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DB0AA-5E5F-42AA-95B9-BA2C0C0112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: adaptación a necesidades, tensiones, fragilidad, etc 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7AE-91BC-4B89-BE2D-50D55F9A3C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B4D7C-83E7-4B4D-8A1C-C74588A588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del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A58-BF91-4414-B10F-047565A09F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572E0-6AF3-4299-9A16-D2C4BAECE8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195-ED8F-4DE2-9E7D-9D27B33FE0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4C729-1D3C-43FE-9948-68CD91B26E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USUARIO</cp:lastModifiedBy>
  <dcterms:modified xsi:type="dcterms:W3CDTF">2007-11-09T19:51:27Z</dcterms:modified>
  <cp:revision>12</cp:revision>
  <dc:subject/>
  <dc:title>RECURSOS HUMANOS</dc:title>
</cp:coreProperties>
</file>