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7CB9-3EEF-424A-B04F-CEB777ABFF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3E95-3724-44CE-91EE-A8E24DB538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AC0-A66C-4AD5-9A04-9B3C9FD8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C5E-D6FA-44FA-8D52-FB7FF85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5AA-ECE2-4275-903A-933E162D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956-BBDB-4B6C-AB35-0457EB1B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AC6-5095-44E3-9A2E-38B2E64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739-DBBE-4D8F-B8D0-B251BA11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A55-B6A7-41DD-AC33-2CCBEEC2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7C5-F14D-49C8-8988-D882284F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1B4-7BD0-446D-AA41-8205ECD0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033-60D0-4439-AF97-45D8234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01B-F1F2-445C-8CB0-4F7A4574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1D0-BBC3-4044-BFB1-EC4C23C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F561-62B6-4886-8375-81813D085126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D587-BBF7-40A4-9E89-ED49FBE9C1DF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Topicos de 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io Marce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MGPP-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Segundo semestre 2005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9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21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26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34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40320" y="5181480"/>
            <a:ext cx="2450880" cy="777960"/>
            <a:chOff x="6340320" y="5181480"/>
            <a:chExt cx="2450880" cy="777960"/>
          </a:xfrm>
        </p:grpSpPr>
        <p:grpSp>
          <p:nvGrpSpPr>
            <p:cNvPr id="141" name=""/>
            <p:cNvGrpSpPr/>
            <p:nvPr/>
          </p:nvGrpSpPr>
          <p:grpSpPr>
            <a:xfrm>
              <a:off x="6557400" y="5261040"/>
              <a:ext cx="2124720" cy="647640"/>
              <a:chOff x="6557400" y="5261040"/>
              <a:chExt cx="212472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00760" y="5261040"/>
                <a:ext cx="1641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DESEMP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7400" y="5545440"/>
                <a:ext cx="2124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SOBRESAL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40320" y="5181480"/>
              <a:ext cx="2450880" cy="777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6A5-6F6C-4705-A8A9-209B7315B8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CEFFD-A9E6-457E-AFC2-FE85CD48E055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A18-ACD8-49EA-BC83-C161041661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1FD52-D6FA-45B7-A323-4F7688DF23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3E7-85C4-4ECB-96DF-BC685C06B91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5C563-FBAF-4C8C-8221-9C33B88ED8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560-A667-42FC-A24B-2416A64B87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71198-AA9D-421B-ADDE-9620A0063B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828800"/>
          <a:ext cx="68580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6858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7C4-9363-4C2F-B7E0-1AAB0E3382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D8801-75BF-4C5E-9FF0-A4812C8963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600200"/>
          <a:ext cx="6234120" cy="472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00200"/>
                    <a:ext cx="62341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3C9-3DE9-4C8D-90BF-8DCD91C53C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ADB2D-1A8D-42C5-A5B4-C4E6E1D67A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69C-8C71-458D-9580-41BDECF931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86AAC-1BC9-4044-AA2F-7690B8EBC8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tipo “consenso de Washington”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6B2-23B3-49A3-8BFF-EC3611220E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8EC05-75E2-48AA-83A7-E26A30A67B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de “public choice”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en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F8E-1A40-4A27-AC7F-07D25DCD239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7A380-6554-4442-8A8E-E5FC1D9D9A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F74-F144-4E5D-AC2F-FB3CB54481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1F3C2-2802-4530-B904-3F71547536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470-92B3-48F1-BCBE-A41F0132FD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12F5C-EF3B-473B-BE98-E66D866BEE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 y relacionadas con ethos instituc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CB7-D398-431D-92FA-9D840B180C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D4ECE-0188-436B-9C2F-060E0F87CB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6A4-9200-484C-BEBE-2D8A19B492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909D9-8798-4258-8C88-5242C1FDD5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8FC-2889-41D6-A519-49B59155FC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464DE-1A6C-49EF-932C-9CFD4C888F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Alemá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lección por etap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bina teoría y prác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F6D-5A03-41EC-B486-191711E62A4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F02EB-5BC9-4711-B5D5-F4FD17119D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F95-BF6E-42AF-B775-FEB4BF27D71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73FA5-D865-498E-8892-CF95F3EA64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e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AAB-7EA9-44C1-A1C0-5D95ABA8408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E6CBC-56E7-421F-A20D-43994ADF0F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12E-0674-4E80-BA50-BC2CDFDD022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71ED7-3BDE-4FD3-A314-E79D22D4F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6306-1241-41C9-ACBB-39095047FE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0758D-8865-4A6E-9E32-B3701E9724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0F4-F217-4085-89C8-CED2A59C91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9883D-8C8E-4A4E-B354-73BD09AD64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¿Y QUE PUEDEN HACER LAS ORGANIZACIONES PUBLICAS CON MAYOR AUTONOMIA EN GRH?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competencia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obtención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movilidad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desarrollo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F61-B580-4D3F-B977-B55A1FB165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C0881-A966-4BD0-A514-69164CA875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E57-670F-4FFE-A756-938103471E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85BF3-D90E-41C9-BDCC-51E90F958E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ERENCIAS ENT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520" y="1862280"/>
            <a:ext cx="8178480" cy="4012560"/>
            <a:chOff x="641520" y="1862280"/>
            <a:chExt cx="8178480" cy="4012560"/>
          </a:xfrm>
        </p:grpSpPr>
        <p:sp>
          <p:nvSpPr>
            <p:cNvPr id="191" name=""/>
            <p:cNvSpPr/>
            <p:nvPr/>
          </p:nvSpPr>
          <p:spPr>
            <a:xfrm>
              <a:off x="641520" y="1862280"/>
              <a:ext cx="3282840" cy="33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IGUALES, RESULTADOS DESIG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ONECTADA DE LOS PROBLEMAS COTIDIANOS EN EL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FORMAL EN AULA, DONDE EL PROFESOR ES  QUIEN ENSEÑ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1862280"/>
              <a:ext cx="3816360" cy="40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DESIGUALES, RESULTADOS SIMI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AS EN EL TRABAJO SON EL PUNTO DE PARTIDA DE LOS 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PERSONA Y EN EL APRENDIZAJE INFORMAL, DONDE EL PROFESOR ES UNO DE LOS AGENTES DE ENSEÑANZA, ADEMÁS DE LOS COLEGAS 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41520" y="1895400"/>
            <a:ext cx="8178480" cy="4052520"/>
            <a:chOff x="641520" y="1895400"/>
            <a:chExt cx="8178480" cy="4052520"/>
          </a:xfrm>
        </p:grpSpPr>
        <p:sp>
          <p:nvSpPr>
            <p:cNvPr id="195" name=""/>
            <p:cNvSpPr/>
            <p:nvPr/>
          </p:nvSpPr>
          <p:spPr>
            <a:xfrm>
              <a:off x="641520" y="1895400"/>
              <a:ext cx="328284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DE TEMAS TECNICOS; EN CASO QUE LO SOCIAL ERA PARTE DEL CURRICULUM, EL TRATAMIENTO FORMATIVO ERA SIMILAR A LO TÉC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ON AL FINAL DEL CURSO Y SIN UNA REFERENCIA TRANSPARENTE DE LOS CRITERIOS DE DESEMPEÑO Y CONOCIMIENTOS APLIC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1895400"/>
              <a:ext cx="3816360" cy="40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COMPETENCIA SOCIAL Y EMOCIONAL SON PARTE MEDULAR DE LA FORMACIÓN PORQUE INCIDEN EN LA CAPACIDAD DE APRENDER; ESTO REQUIERE EL DESAPRENDIZAJE DE HÁBITOS VIEJOS DE PENSAMIENTO, SENTIMIENTOS Y DE AC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f1f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EL DIAGNOSTICO DE NECESIDADE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FORMACIÓN EMPIEZA CON LA EVALUACIÓN BASADA EN LAS CAPACIDADES A DESARROLLAR; LA AUTOEVALUACIÓN ES EL EJE DEL PROCESO DE ENSEÑANZA-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UNAS DIFERENCIAS DE 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 LA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19200" y="219240"/>
          <a:ext cx="7908840" cy="6162480"/>
        </p:xfrm>
        <a:graphic>
          <a:graphicData uri="http://schemas.openxmlformats.org/drawingml/2006/table">
            <a:tbl>
              <a:tblPr/>
              <a:tblGrid>
                <a:gridCol w="2800440"/>
                <a:gridCol w="2560320"/>
                <a:gridCol w="2548080"/>
              </a:tblGrid>
              <a:tr h="6915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proxi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Impacto en los Resultados de l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Ex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ema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No ‘traje a la medid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ción pa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Grupos gr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uto Estudio audio, video, CD,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entrado en pen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’ grupos peque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Estudio de Ca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equeños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munidades de Prácticas (Aprendizaje en A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amente 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Sesiones cortas y frec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 / Tutoría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en situaciones concretas,  Inten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uy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647-7A29-4182-B7CF-63F492C972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E6964-CFDA-4545-93AE-13160D07AA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E1B-1309-4B74-B407-FA85748F5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FB80C-5CCB-40DD-B838-3F94C1E8CB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5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C20-D808-4705-94EF-DA382663AF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5DC97-ACF6-4F92-9596-81B13DA226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69A-B3F7-4049-8E9C-EFC8AB10A6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280FE-E356-4CC7-90B8-4D95B75AB9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F39-09D6-49AE-AE2E-C4C0673E42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75885-646F-417F-8064-BC97506042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A99-FA56-4C08-8192-63FE8350C5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17EC2-121A-4256-B729-1C4A852D9303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mmc</cp:lastModifiedBy>
  <dcterms:modified xsi:type="dcterms:W3CDTF">2005-09-23T14:13:17Z</dcterms:modified>
  <cp:revision>5</cp:revision>
  <dc:subject/>
  <dc:title>RECURSOS HUMANOS</dc:title>
</cp:coreProperties>
</file>