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4FA-D7A7-4117-88AD-45D48D1F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198-3D7B-4842-A1A4-F936E161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BA6-682D-4F40-8310-8AA415F0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E24-59DF-4F28-BA5C-59B96B0C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75C3-BBA4-456A-A886-45436F0E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17A4-381B-42D3-A8E7-38BCA1AD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178A-46A1-45F6-9C2E-460A6361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D476-0CE2-4FD6-8F56-B02560CB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4289-4C9B-402B-8408-13814455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D9F8-11BA-4635-924E-DE56FC77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3634-902D-4589-AD78-10E2266E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7FC-FE09-4A4D-A591-30465A2D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437E-150A-419A-93BB-53A6E923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3C0A-A4A1-4EDC-BB4A-8CE17478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FBA8-BDF4-4C83-A095-7A387538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B957-D0A3-4AE6-8D76-BFABE222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3224-1603-4AB3-A139-78254B40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CE0-016B-4320-A3B1-F20A6A7E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D28-08B6-464B-A104-5DC47397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46E-6E78-4540-A7BC-D73D813B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3CA-F40F-4003-A6DA-8B9147A7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3A8-9D11-4929-BA01-2BE0CF49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B67-D5E2-4FE5-8FE7-B9419399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8BD-069A-4358-A8DB-AB731DC4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2AAF-A24F-4D19-A288-4DCE8899B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85B3-D393-405C-86BD-CDD80C53E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D67C-4C20-4AD3-B984-58D18914E8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415A-0092-4064-BD2B-55FE7011A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361960"/>
            <a:ext cx="7313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SCENTRALIZ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2880" y="4190760"/>
            <a:ext cx="7313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ópicos de Finanz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de Septiembre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FICIENCIA ECONOMICA Y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7086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onomía del bienestar: eficiencia se maximiza cuando distribución de recursos se adecúa a preferencias ciudad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: bienes públicos, consumo no excluy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puesta: teorema de la descentralización de O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enes y servicios públicos deben proporcionarse en el nivel más descentralizado en que se apropie la mayor parte de sus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28B-5881-4207-B520-2453B576D4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2D00F-A173-429C-9929-5730F4435F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NTES DE LA 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ficiencia en asignación de recursos no depende sólo de proximidad física, sino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Elegibilidad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isiones se aplican a bienes públicos cuyos beneficios sean apropiados a nivel regional/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Gobernabilidad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mecanismos mediante los cuales comunidad regional/local exprese sus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lexibilidad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ión/municipio tiene flexibilidad para adecuar oferta de bienes públicos a preferencias de la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65D-8F6E-40C0-9CDB-F56AD1AB10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6B01E-ED74-47AB-B5D8-4547EE61B4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LACION PRINCIPAL-A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ortaleza y localización de mandatos 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ntajas comparativas de gobiernos subnacionales en cumplimiento de mandatos 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ema clave: estructura de incentivos, medición de actividad/desempeño, rendición de cuentas, mecanismo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ECD-B8F4-4714-A381-80B782688A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425B5-95CD-4A84-B156-37204A64AC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ONTR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731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oría: dictador benevolente asigna funciones y financiamiento para maximizar bien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plia variedad de arreglos institucionales y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países cuentan con funciones y recursos asignados a nivel sub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so de la historia y tipo de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elos mixtos e importancia de transferencias intergubern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erposición de funciones, conflictos, necesidad de coord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E6A-D8C1-4899-AD2B-FD70ED4AEC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B8894-6049-4B11-B5C4-EE776CE9B5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00400" y="1752480"/>
            <a:ext cx="396252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GRAMAS,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 EXTERNA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IENES MERITO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RVICIOS CON DESECONOM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ESC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SIGNACION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1371600"/>
            <a:ext cx="1752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IENES PU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56272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IENES PU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LO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A6A-15DE-47AF-8086-BAD360AFDD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3A8EE-1268-4925-BF82-E7EDEC2F40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SIGNACION DE I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533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estabilizadores: 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redistributivos: ingres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que gravan factores móviles: utilidade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que gravan factores fijos: impuest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rechos, cobro por prestaciones: permisos cir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1676520"/>
            <a:ext cx="304920" cy="190476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3733920"/>
            <a:ext cx="304920" cy="152388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3280" y="24382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42670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o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FBE-76CA-4340-A62B-6FB6D865EC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E3803-7CFA-4F16-B693-894FDB6593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SBALANCES EN FINANCIAMIENTO SUB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balances verticales: funciones municipales – ingresos propios municip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balances horizontales: ingresos propios municipales, entre muni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98D-8E7B-4FD1-8DCF-50960891838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F0047-B937-4191-95FA-721D341D85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RANS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di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jetas a restricción presupues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CB4-09A5-4623-B108-56FB2E4D917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CA366-6C4B-4D72-984F-256E52FF4B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ACIONALIDAD PARA TRANS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olver desbalances vert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olver desbalances horizo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flejar extern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centivos para cumplir objetivos de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AD8-DA05-448A-8311-B760D3A0DB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6CEE3-1C2B-41B7-AE70-FA5CECE429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52480" y="762120"/>
          <a:ext cx="6747120" cy="533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762120"/>
                    <a:ext cx="6747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BA9-7423-4EBC-86A7-46F6FFFF5B04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DA38C-FC6B-4F83-8AA4-516FE2A493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APITU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croestructura: nivel político-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ón de balances de poderes, régimen político, tipo de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ocupaciones: contrapesos, balances de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croestructura: organización est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datos institu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aturaleza de la organización y su estructur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 burocrática, matr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 divi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B46-5855-495D-8D23-6CC2159C01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084AC-166E-45DD-946B-119BBDC72D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ROBLEMAS EMPI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iciencia en asignación y eficiencia en uso de los 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ilt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dad adminis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lismo, corru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85A-9B76-428D-8C41-DF04EC926E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FFDE1-31A3-4898-B1F0-DF886C2842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APITU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croestructura: descentr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croestructura: division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6FF-47F5-4560-B8C6-76A0E05A6F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40D3D-8464-4373-A424-CC04BE58CF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X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entralizac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entralización administ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escentralización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oncentrac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oncentración fu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FA9-1A44-45D1-8906-38CD9D3DD0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71282-B124-409B-95FC-6865F1BBA6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OTIVACIONES PARA A LA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ustraciones con incompetencia gubern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úsqueda de instancias de participación-democracia más cerca de la 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equilibrios geo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CD12-1F0A-4819-8165-9989BBD5C1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C724C-CAE5-4FF2-A6F6-ADE897C0B3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ACIONALIDAD ECONOMICA Y POLI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sión económica: eficiencia y equidad en distribución de actividades públicas; distribución de funciones y 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sión política: asignación de poder, autoridad y responsabilidad sobre decisione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91B-B06A-485B-87F7-05E3DC07FE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9592D-C4D2-4B5E-83B9-543FEC517B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UNDAMENTOS ECONÓMICOS DE LA DESCEN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ones del gobier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i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4F8-E291-4218-9F12-50AAC0E5AC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4ADDD-B938-421C-8FC5-4D4D0A0083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228600"/>
            <a:ext cx="64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UNDAMENTOS ECONÓMICOS DE LA DESCEN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447920"/>
            <a:ext cx="7467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rovisión de bienes y servicios por los gobiernos subnacionales se ajusta mejor a las necesidades y preferencias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uando la comunidad se enfrenta al costo económico de las decisiones que la afectan directamente, se maximiza la racionalidad de las decisiones colectiva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s gobiernos subnacionales tienen ventajas comparativas en la provisión de bienes y servicios cuyos beneficios se perciben a nivel local y también cuando es posible entregarlos de modo diferenciado, de acuerdo a las preferencias (necesidades)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xisten bienes y servicios públicos en que se producen deseconomías de escala y donde una administración descentralizada aumenta la eficiencia ope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F58-92F8-4D4C-9800-F031196FFB0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13A65-2421-4231-A3E3-243A4EC784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7432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FOQUES ECONOMICOS ALTERNATIVOS SOBRE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542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cción públic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ximización del bienestar, ajustando responsabilidades y financiamiento al nivel en que se apropian benef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lación principal-a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timizar provisión de servicios públicos, combinando economías/deseconomías de escala, eficiencia productiva, acceso 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B39-4CFF-4F51-A7CC-85783AC223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353DC-464B-4D0F-96B8-4B79FF6A3E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01:33:57Z</dcterms:created>
  <dc:creator>mmc</dc:creator>
  <dc:description/>
  <dc:language>en-US</dc:language>
  <cp:lastModifiedBy>Mmarcel</cp:lastModifiedBy>
  <dcterms:modified xsi:type="dcterms:W3CDTF">2005-09-04T23:45:37Z</dcterms:modified>
  <cp:revision>4</cp:revision>
  <dc:subject/>
  <dc:title>DESCENTRALIZAC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