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1A3CE-90B1-468F-8D09-CC09D754A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47560" y="396432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76F8D-6771-49BC-8E16-D10048D4B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951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E4652-A30F-443B-A3C0-7CA5689CC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2040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9324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4756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92040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9324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431E6-C3DA-4BCC-A739-CFE0FEC7F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7DFE2-AFEB-4A06-843F-7874CA8BF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A2B9C-942F-43C5-89DB-5BE5C90C2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A402A-6570-48C9-8BFE-969A9F8AE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05565-C061-46BB-8E43-5947FF801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6465B-1884-4C2E-A649-54485B643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447560" y="274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E9333-F664-4172-84EC-A705AA889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98E67-4546-4060-AFB4-216FA6912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B66B3-57FE-4B8D-ACA9-3DD05977D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951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E9FAA-DBEE-477A-A3A6-F307DC1EE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E601E-B85A-4B4D-8268-EE2A49A93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447560" y="396432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20513-D432-4B71-87B9-D77374CBC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951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CBFB7-A92F-4964-89A9-F4BC37565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92040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39324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44756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92040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39324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CBAA0-F580-40D2-9477-D4EB19A2C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85EC0-A105-449A-9A05-05EE19205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D7E02-428C-459B-8E9E-A466D4730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FFE5C-4010-4089-AD3A-A0BA330A7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47560" y="274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EA3D2-70F3-42CF-B6FE-371D09990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BFDB7-1043-4CCC-A0ED-F13ACF6E8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951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5EE69-3FC8-4465-8A05-0E78AF313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49C99-19A0-49C3-89DD-F2D0D7160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425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1ADD2-08E9-4481-AB16-E68820EDDB3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733560" y="6524640"/>
            <a:ext cx="289548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3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C0281-D352-4872-806E-536ABDF187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42880" y="2971800"/>
            <a:ext cx="73137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14425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2FC8E-AC48-4574-B704-E48781E7CEF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733560" y="6524640"/>
            <a:ext cx="289548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7813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D13D1-B20E-4B61-AC30-4C0DCA059D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447560" y="2361960"/>
            <a:ext cx="7313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DESCENTRALIZAC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442880" y="4190760"/>
            <a:ext cx="731376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ópicos de Finanzas Públi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 de Septiembre, 20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EFICIENCIA ECONOMICA Y DESCENTRALIZAC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240" y="1447920"/>
            <a:ext cx="7086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conomía del bienestar: eficiencia se maximiza cuando distribución de recursos se adecúa a preferencias ciudadan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Problema: bienes públicos, consumo no excluy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Respuesta: teorema de la descentralización de O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Bienes y servicios públicos deben proporcionarse en el nivel más descentralizado en que se apropie la mayor parte de sus benefic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scentralizació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63916-7B79-4F0D-9EAB-776AAE90701D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951B4F-7E29-46C6-B673-A3494D2C75F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DETERMINANTES DE LA EFICIENC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ficiencia en asignación de recursos no depende sólo de proximidad física, sino d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Elegibilidad.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ecisiones se aplican a bienes públicos cuyos beneficios sean apropiados a nivel regional/lo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Gobernabilidad.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xisten mecanismos mediante los cuales comunidad regional/local exprese sus preferenc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Flexibilidad.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Región/municipio tiene flexibilidad para adecuar oferta de bienes públicos a preferencias de la ciudadan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scentralizació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71A5C-835D-4EAB-B13F-1211A3057609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6D4871-B403-4417-BD35-E074334DAAB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RELACION PRINCIPAL-AG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Fortaleza y localización de mandatos polít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Ventajas comparativas de gobiernos subnacionales en cumplimiento de mandatos nacion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Tema clave: estructura de incentivos, medición de actividad/desempeño, rendición de cuentas, mecanismos de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scentralizació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0BECC-C3F1-4A04-9227-897EC039B17E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04A6C9-3609-4CF8-AAF5-B3EC32E7287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CONTRAS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447560" y="1294920"/>
            <a:ext cx="73134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Teoría: dictador benevolente asigna funciones y financiamiento para maximizar bienest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Realida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mplia variedad de arreglos institucionales y financier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Todos los países cuentan con funciones y recursos asignados a nivel subnaci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eso de la historia y tipo de est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Modelos mixtos e importancia de transferencias intergubernament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uperposición de funciones, conflictos, necesidad de coordin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scentralizació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57B1D-11BA-41D6-9A51-B71819FDF9EC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A01933-51A4-466B-8AC4-AA30D00AAC0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3200400" y="1752480"/>
            <a:ext cx="3962520" cy="40388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PROGRAMAS, PROYECT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CON EXTERNALIDAD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BIENES MERITOR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SERVICIOS CON DESECONOMI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DE ESCAL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ASIGNACION DE FUNC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267080" y="1371600"/>
            <a:ext cx="175284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BIENES PUBL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NACION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267080" y="5562720"/>
            <a:ext cx="18288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BIENES PUBL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LOC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scentralizació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6BFA6-79EE-433E-BB23-626F1F0BE58B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D1C90F-B834-4C22-8B77-B88183246E2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ASIGNACION DE IMPUES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5333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Impuestos estabilizadores: I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Impuestos redistributivos: ingresos person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Impuestos que gravan factores móviles: utilidades empres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Impuestos que gravan factores fijos: impuesto territ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Derechos, cobro por prestaciones: permisos circul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781680" y="1676520"/>
            <a:ext cx="304920" cy="1904760"/>
          </a:xfrm>
          <a:custGeom>
            <a:avLst/>
            <a:gdLst>
              <a:gd name="textAreaLeft" fmla="*/ 0 w 304920"/>
              <a:gd name="textAreaRight" fmla="*/ 110160 w 304920"/>
              <a:gd name="textAreaTop" fmla="*/ 49680 h 1904760"/>
              <a:gd name="textAreaBottom" fmla="*/ 1855080 h 1904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781680" y="3733920"/>
            <a:ext cx="304920" cy="1523880"/>
          </a:xfrm>
          <a:custGeom>
            <a:avLst/>
            <a:gdLst>
              <a:gd name="textAreaLeft" fmla="*/ 0 w 304920"/>
              <a:gd name="textAreaRight" fmla="*/ 110160 w 30492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163280" y="2438280"/>
            <a:ext cx="149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nacion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238880" y="4267080"/>
            <a:ext cx="152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loc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scentralizació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9EDA0-0F78-49CF-8AB0-EAB633562C6A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277E3B-2AF0-4087-9CAD-18E52B7AC58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DESBALANCES EN FINANCIAMIENTO SUBNAC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Desbalances verticales: funciones municipales – ingresos propios municip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Desbalances horizontales: ingresos propios municipales, entre municip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scentralizació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4ADF1-C094-42CF-98C1-97D6CABA009D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9CB057-17FD-4B44-A58A-14E07FEB082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TRANSFERENCI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Condiciona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Confinanciami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Redistribu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Sujetas a restricción presupuesta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scentralizació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02C61-2DA3-40C0-8966-B55396C7291C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FF42DD-CC81-487D-801C-898AAD19E56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RACIONALIDAD PARA TRANSFERENCI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Resolver desbalances vertic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Resolver desbalances horizont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Reflejar externalida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Incentivos para cumplir objetivos de princip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scentralizació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CB4FE-8933-455C-97DB-B34CD597176D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4DB6E7-E536-470C-BBBD-83D81F40187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4" name=""/>
          <p:cNvGraphicFramePr/>
          <p:nvPr/>
        </p:nvGraphicFramePr>
        <p:xfrm>
          <a:off x="1752480" y="762120"/>
          <a:ext cx="6747120" cy="53337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52480" y="762120"/>
                    <a:ext cx="6747120" cy="533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scentralizació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06755-DF51-405B-84E2-0D05CDDD636A}" type="slidenum">
              <a:t>1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96AF11-B291-4607-93FF-FB3F565A90D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RECAPITULAC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Macroestructura: nivel político-instituc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xpresión de balances de poderes, régimen político, tipo de est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reocupaciones: contrapesos, balances de po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Microestructura: organización esta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Mandatos institucion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Naturaleza de la organización y su estructura inter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structura burocrática, matric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structura divisi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scentralizació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B5C5B-1E24-4916-9585-A59695317B46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22846B-C645-4F3C-B85F-6D66B0172EB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PROBLEMAS EMPIR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ficiencia en asignación y eficiencia en uso de los recurs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Filtracion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apacidad administrati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lientelismo, corrup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scentralizació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AB3E1-E968-4938-A6F2-496F95E27E0A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2DE0E3-6C7F-4838-85C3-913F43FE2E0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RECAPITULAC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Macroestructura: descentraliz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Microestructura: divisionaliz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scentralizació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6C2D1-8CBF-49EF-A7D7-A91BC43CEDB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1ED002-2A46-430C-B3DE-7492330C77D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TAXONOM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Descentralización terri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Descentralización administrati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000000"/>
                </a:solidFill>
                <a:latin typeface="Arial"/>
              </a:rPr>
              <a:t>Descentralización fisc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Desconcentración terri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Desconcentración func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scentralizació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FB9B4-508E-467E-A974-29117B76C5F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61D54F-1527-4B4A-B360-46601BCE9BC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MOTIVACIONES PARA A LA DESCENTRALIZAC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Frustraciones con incompetencia gubername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Búsqueda de instancias de participación-democracia más cerca de la g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Desequilibrios geopolít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scentralizació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01EF6-1BBB-414B-A4D9-45B6E476C95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EA983D-111E-4CDA-8751-C65CB806DB9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RACIONALIDAD ECONOMICA Y POLIT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Visión económica: eficiencia y equidad en distribución de actividades públicas; distribución de funciones y financiami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Visión política: asignación de poder, autoridad y responsabilidad sobre decisiones públ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scentralizació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DE7D3-F99F-49EE-8AD5-D1F6C90C59C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FD8BB2-1AFE-4F08-BC68-80C039659F9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  <a:ea typeface="Arial"/>
              </a:rPr>
              <a:t>FUNDAMENTOS ECONÓMICOS DE LA DESCENTRALIZ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Funciones del gobiern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stabiliz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Redistribu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signación de recur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scentralizació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9F079-CB08-433D-867E-8747AE44F67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6ACC1A-6CA8-4631-8EBF-99589150C89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371600" y="228600"/>
            <a:ext cx="6419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  <a:ea typeface="Arial"/>
              </a:rPr>
              <a:t>FUNDAMENTOS ECONÓMICOS DE LA DESCENTRALIZ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295280" y="1447920"/>
            <a:ext cx="74678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Provisión de bienes y servicios por los gobiernos subnacionales se ajusta mejor a las necesidades y preferencias de la comunid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Cuando la comunidad se enfrenta al costo económico de las decisiones que la afectan directamente, se maximiza la racionalidad de las decisiones colectivas.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L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os gobiernos subnacionales tienen ventajas comparativas en la provisión de bienes y servicios cuyos beneficios se perciben a nivel local y también cuando es posible entregarlos de modo diferenciado, de acuerdo a las preferencias (necesidades) de la comunid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Existen bienes y servicios públicos en que se producen deseconomías de escala y donde una administración descentralizada aumenta la eficiencia operativ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scentralizació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9E915-6709-4546-A0D5-FCD582456DD8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B8779D-5584-4456-8867-66A3EA01182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71240" y="274320"/>
            <a:ext cx="738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ENFOQUES ECONOMICOS ALTERNATIVOS SOBRE DESCENTRALIZAC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19320" y="1828440"/>
            <a:ext cx="75420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lección pública loc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Maximización del bienestar, ajustando responsabilidades y financiamiento al nivel en que se apropian benefic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Relación principal-ag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Optimizar provisión de servicios públicos, combinando economías/deseconomías de escala, eficiencia productiva, acceso a inform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scentralizació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5AE8F-CF8A-4E6E-B873-B5CD1F3E1E46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1296C1-57E0-47D9-BDCD-90EF51C063F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2T01:33:57Z</dcterms:created>
  <dc:creator>mmc</dc:creator>
  <dc:description/>
  <dc:language>en-US</dc:language>
  <cp:lastModifiedBy>Mmarcel</cp:lastModifiedBy>
  <dcterms:modified xsi:type="dcterms:W3CDTF">2005-09-04T23:45:37Z</dcterms:modified>
  <cp:revision>4</cp:revision>
  <dc:subject/>
  <dc:title>DESCENTRALIZAC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594373082</vt:lpwstr>
  </property>
</Properties>
</file>