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A11-A73F-41BE-A0E7-BDD1FE1B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2CC-5042-4395-BC32-4C0ED707F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74C2-DA1C-47F4-B879-45E669304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E822-0BBD-4A33-8281-8877F5FD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B702-5652-4FA0-9CED-6126DF27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F14-7E93-40BC-88A1-4E30DAA3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407-F149-4E35-BEFD-6E307AE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870-241D-4AF3-9459-119228B8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90A-386F-4C63-A579-A395A13B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4884-4BB4-4544-96DD-4EA311B2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2E5-7316-4E18-85FD-17049369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2575-7086-489C-A43D-0AB7D24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E8D5-4376-4E45-AB99-94BA196B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1BE8-3148-4D69-8F98-FA794F1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BA1B-9841-4CF1-BDCB-9CC23FC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DCD7-5429-42A0-88D0-E3F6B51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DCB-5B05-46CA-B226-627EDDA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CC34-4475-4532-A129-C199355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CF9E-4CB2-4DE0-A5B3-D590664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0924-809C-4A8B-A533-DF32809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BFAD-898A-449F-9FE2-CD0B1710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FA6-95E8-4B84-9BDB-EDAC2B58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11B-D6BA-460D-924C-CC5819F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AAF-1A53-450A-AE29-795F98D4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3D7-325B-4979-B6D5-3BB44DB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EA7-AA6C-4FAD-8F65-7A1DBC54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B00-60B7-4A1B-B70E-D500DAF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5CA-A2AF-47D5-91CD-440FA00C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EEB-990D-42D1-BAD1-376AEC1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820-1167-4939-BE10-814F3D507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5A7-AF7E-4D90-A4D7-8943654C0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DESCENTRALIZACIÓN EN AMÉRICA LATINA Y EQUIDAD SOCIAL Y TERRITORI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76720" y="2781000"/>
            <a:ext cx="324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comend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724280"/>
            <a:ext cx="6696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ván Fi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gíster en Gestión y Políticas Públicas, 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antiago, 5 de noviembre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838080"/>
            <a:ext cx="2664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91440" y="1484280"/>
            <a:ext cx="2212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8920" y="204840"/>
            <a:ext cx="42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Antique Olive"/>
              </a:rPr>
              <a:t>Tipo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450864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84872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Descentralización política: Condiciones de eficiencia</a:t>
            </a:r>
            <a:br>
              <a:rPr sz="28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69640" y="1773000"/>
            <a:ext cx="750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descentralización de la provisión de un bien público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 conveniente cuand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1440" indent="-3614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manda está geográficamente diferenciad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fact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a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lturales y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49320" indent="-33876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estruc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97120" indent="-54216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es producti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2781360"/>
          <a:ext cx="8135640" cy="2900160"/>
        </p:xfrm>
        <a:graphic>
          <a:graphicData uri="http://schemas.openxmlformats.org/drawingml/2006/table">
            <a:tbl>
              <a:tblPr/>
              <a:tblGrid>
                <a:gridCol w="2663640"/>
                <a:gridCol w="1055880"/>
                <a:gridCol w="1104840"/>
                <a:gridCol w="1008000"/>
                <a:gridCol w="2303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Qu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á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ón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ipos de Bie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infraestructura bás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ritor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 de educación y sal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os servicios transferidos tienen una demanda diferenciada sobre qué, cuánto y dónde prove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logra la mayor la correspondencia posible entre diferenciación geográfica de la demanda de cada bien y una circunscripción político-administrativa (a partir de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no coincidencia de mapas de demanda con mapas político-administra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Máximo acercamiento al ciudad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Agrupamiento de circunscripciones en función de las distintas deman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6920" y="515520"/>
            <a:ext cx="706284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Ordenamiento territori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4560" y="1699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administraciones de cada nivel son de capacidad simi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grandes disparidades entre administraciones del mismo nivel, sobre todo muni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609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auración de gobiernos de nivel superior (Ej. Gobiernos region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sociaciones como organizaciones de derecho público (Ej.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usión de municipios (Ej. Euro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609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decisiones sobre gasto se basan en decisiones sobre los respectivos aportes loc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aración beneficio/cos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 partir de Musgr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nomía para determinar alícuotas de im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Problema: desigualdad de ingr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proporcionales a cada esfuerzo fiscal,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dido no en términos absolutos sino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 como proporción del respectivo ingreso de los aport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42920" y="1916280"/>
          <a:ext cx="7777080" cy="3863880"/>
        </p:xfrm>
        <a:graphic>
          <a:graphicData uri="http://schemas.openxmlformats.org/drawingml/2006/table">
            <a:tbl>
              <a:tblPr/>
              <a:tblGrid>
                <a:gridCol w="1244520"/>
                <a:gridCol w="717840"/>
                <a:gridCol w="718920"/>
                <a:gridCol w="744480"/>
                <a:gridCol w="690840"/>
                <a:gridCol w="717480"/>
                <a:gridCol w="717480"/>
                <a:gridCol w="719280"/>
                <a:gridCol w="717480"/>
                <a:gridCol w="788760"/>
              </a:tblGrid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BO" sz="18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 </a:t>
                      </a:r>
                      <a:r>
                        <a:rPr b="0" lang="es-BO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Vt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Y.Pe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s-BO" sz="15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R.N</a:t>
                      </a:r>
                      <a:r>
                        <a:rPr b="0" lang="es-BO" sz="1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r>
                        <a:rPr b="0" lang="es-BO" sz="19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R.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eh) In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900000" y="5937120"/>
            <a:ext cx="79930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R.N: Sobre explotación de recursos naturales (Regalías), pero </a:t>
            </a:r>
            <a:r>
              <a:rPr b="0" lang="es-BO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Act: Sobre actividades económicas (Patentes municip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Los procesos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Contexto históric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447560"/>
            <a:ext cx="813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teceden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scentr. Administrativ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itor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i="1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Desconcentra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la producción y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Mayor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inversi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sde los 80’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Políti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Times New Roman"/>
              </a:rPr>
              <a:t>Democrat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epto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-3045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algunos casos previa descentralización administrativa, y aun fiscal (caso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Particip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obernabilidad democr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+ </a:t>
            </a:r>
            <a:r>
              <a:rPr b="0" lang="es-ES_tradnl" sz="2400" spc="-1" strike="noStrike">
                <a:solidFill>
                  <a:srgbClr val="99ff99"/>
                </a:solidFill>
                <a:latin typeface="Times New Roman"/>
              </a:rPr>
              <a:t>Globalización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Objetiv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</a:t>
            </a:r>
            <a:r>
              <a:rPr b="0" lang="es-ES_tradnl" sz="2400" spc="-1" strike="noStrike">
                <a:solidFill>
                  <a:srgbClr val="ff9966"/>
                </a:solidFill>
                <a:latin typeface="Times New Roman"/>
              </a:rPr>
              <a:t>Autonomí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ara el desarroll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5445000"/>
            <a:ext cx="748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4597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ransferencias y eficienc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90720" y="2179800"/>
          <a:ext cx="7619760" cy="3921120"/>
        </p:xfrm>
        <a:graphic>
          <a:graphicData uri="http://schemas.openxmlformats.org/drawingml/2006/table">
            <a:tbl>
              <a:tblPr/>
              <a:tblGrid>
                <a:gridCol w="1349280"/>
                <a:gridCol w="1182600"/>
                <a:gridCol w="2649600"/>
                <a:gridCol w="2438280"/>
              </a:tblGrid>
              <a:tr h="602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 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74600" y="3789360"/>
            <a:ext cx="3353040" cy="2306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773360"/>
            <a:ext cx="3353040" cy="20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1773360"/>
            <a:ext cx="2971800" cy="2016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27640" y="1557360"/>
            <a:ext cx="0" cy="530064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105264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56120" y="182736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472428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13971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5589720"/>
            <a:ext cx="3519720" cy="5806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erencias para fines específicos: México, Brasil, Argent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2298600"/>
            <a:ext cx="144756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134136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26172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Transferencias en América Latin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81400" y="51577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17204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844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4653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70200" y="2269080"/>
            <a:ext cx="3944160" cy="260856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8560" y="359568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06560" y="2730240"/>
            <a:ext cx="1364400" cy="1975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1844640"/>
            <a:ext cx="18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ú, Ecu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2852640"/>
            <a:ext cx="136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03280" y="1268280"/>
            <a:ext cx="1225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ff"/>
                </a:solidFill>
                <a:latin typeface="Times New Roman"/>
              </a:rPr>
              <a:t>Regal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6920" y="2492280"/>
            <a:ext cx="93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7160" y="4797360"/>
            <a:ext cx="1298520" cy="398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6216480"/>
            <a:ext cx="33130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ransferencias sociales: (Chile),  Colombi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5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925720" y="5177880"/>
            <a:ext cx="419040" cy="103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3000" y="229860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preferencias ciudadanas están adecuadamente represe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Inadecuados sistemas de re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s de solu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stema electoral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ticas de participac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7280" y="609120"/>
            <a:ext cx="66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Economías de escal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s ganancias en eficiencia son superiores a las pérdidas de economías de escala (Ostrom et al., 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Problema: división político-administ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incipio de solución: agrupación territorial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hasta encontrar equilibrio entre beneficios y pérd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475920"/>
            <a:ext cx="652464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lgunas conclusion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procesos de descentralización no se han dado con un reordenamiento territorial político-administrativo: disparidades en capacidades 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os países unitarios se tendió a dar un tratamiento similar a bienes sociales y a bienes territoriales (pero diferenciación temprana en Chile con transferencia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 diferencia poco entre funciones como autonomías y funciones como agentes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onflicto entre eficiencia  (decisiones autónomas sobre la base de aportes locales)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sistemas de transferencias no inducen vinculación de decisiones sobre gasto con decisiones sobre ingreso (excepto en estados de México)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sólo posible en escasos municipios “rico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caso acercamiento al ciudadano. Cuando se llega al nivel local, excesiva disparidad (excepto en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nivel municipal las preferencias ciudadanas no están adecuadamente represent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33276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Times New Roman"/>
              </a:rPr>
              <a:t>Recomendaciones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Principio fundament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11240" y="1449000"/>
            <a:ext cx="7664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Diferenciar entre bienes sociales, territoriales y mix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sociales: bienes de consumo individual o familiar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el Estado garantiza a todos los habitantes cierto nivel mínimo de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territoriales: bienes de consumo colectivo o individu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cuya cuantía de provisión depende de decisiones en el nivel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Bienes mixtos: bienes de consumo individual o familiar cuya cuantía de provisión depende de decisiones en el nivel local,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para los que se cuenta con subsidios nacionales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. Ej. agua po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ffff"/>
                </a:solidFill>
                <a:latin typeface="Times New Roman"/>
              </a:rPr>
              <a:t>Aplicar principio de igualdad jurídica del ciudada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sociales: igual satisfacción mínima garantizada por el Est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Bienes territoriales: igual satisfacción a igual sacri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8159760" cy="123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sociale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en Bienes Sociales* por Pobre, Máximo y Mínimo por Estado, según Región (2002), en Reais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11280" y="1628640"/>
          <a:ext cx="8281800" cy="4110120"/>
        </p:xfrm>
        <a:graphic>
          <a:graphicData uri="http://schemas.openxmlformats.org/drawingml/2006/table">
            <a:tbl>
              <a:tblPr/>
              <a:tblGrid>
                <a:gridCol w="1873080"/>
                <a:gridCol w="1440000"/>
                <a:gridCol w="2448000"/>
                <a:gridCol w="252072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 (Reai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re: 2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á: 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ipe: 11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anhaô: 6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Distrito Federal: 4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o Grosso: 2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o Paulo: 41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írito Santo: 20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ta Catarina: 41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ná: 23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468360" y="5769000"/>
            <a:ext cx="85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uente: Cristina Aziz (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609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 Bienes sociales: educación escolar, atención a la salud, vivienda y asistencia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Qué se descentralizó? A qué nivel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27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Qué se descentralizó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mpliación de competencias en infraestructura básica (vialidad, saneami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visión de educación y salud (nov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enezuela y Ecuador, sujeto a requer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cia qué nivel de gobierno autónom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federales: primero al nivel inter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íses unitarios: prioritariamente a los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rasil (desde 1988): a estad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municip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democrática vs. jerárqu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: Gasto Anual en Educación Pública por Estudiante, por Región y por Comuna según Mínimo y Máximo – 2005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(En Miles de Pesos)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-468360" y="1347840"/>
            <a:ext cx="10907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88544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ffff"/>
                </a:solidFill>
                <a:latin typeface="Times New Roman"/>
              </a:rPr>
              <a:t>Gasto en bienes territoriales: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asil: Gasto Territorial por Habitante según Esfuerzo Fiscal Subnacional, por Región (200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436760"/>
          <a:ext cx="8712000" cy="4368600"/>
        </p:xfrm>
        <a:graphic>
          <a:graphicData uri="http://schemas.openxmlformats.org/drawingml/2006/table">
            <a:tbl>
              <a:tblPr/>
              <a:tblGrid>
                <a:gridCol w="1866600"/>
                <a:gridCol w="1866960"/>
                <a:gridCol w="1692360"/>
                <a:gridCol w="1600200"/>
                <a:gridCol w="1685880"/>
              </a:tblGrid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s/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Hab. en Bienes Territori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En Reai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is por 1% de Esfuerzo Fis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ración respecto a Región Nordes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O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e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68360" y="5950080"/>
            <a:ext cx="8523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ente: Elaborado sobre datos de Cristina Aziz (2006).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Las transferencias fiscales y el gasto público en la federación Brasileñ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(Tesis de Magister, U de Chi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sé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hile: Gasto Territorial por Habitante según Esfuerzo Fiscal Municipal Directo, por Región (2005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143000"/>
          <a:ext cx="8229600" cy="5227560"/>
        </p:xfrm>
        <a:graphic>
          <a:graphicData uri="http://schemas.openxmlformats.org/drawingml/2006/table">
            <a:tbl>
              <a:tblPr/>
              <a:tblGrid>
                <a:gridCol w="949320"/>
                <a:gridCol w="1108080"/>
                <a:gridCol w="1028880"/>
                <a:gridCol w="1028520"/>
                <a:gridCol w="1662120"/>
                <a:gridCol w="1028520"/>
                <a:gridCol w="142416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fuerzo Fisc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 por 0.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ín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áxi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3,8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miñ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erra Gord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l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7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4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erra Amaril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4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i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4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aman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8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barbal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paraí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queh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mbaro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hilem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6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 Jav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llá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s Alam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i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9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lipeu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rranq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ullí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isé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ihaiqu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7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unta Are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,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veni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li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ac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685800" y="64450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ente: Elaborado en base a datos del SINIM (Chile, 200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rdenamiento territorial político-administrativ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gual nivel de autonomía para ambos niveles de gobiernos subnacionales, definir ámbitos para cada ni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Gobiernos regionales en el nivel intermedio (Chile, Perú, Ecuador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dministraciones locales de capacidad similar: consorcios territoriales públicos (Brasil 2005) para municipios peque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lación de pre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r sistemas electorales locales: sistemas de representacion territo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bienes territoriales: procesos participativos de decisión sobre gas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y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stad para definir alícuo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ir contribuciones comuni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ncular transferencias a aporte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r exenciones: beneficios &gt;&gt; contribu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ormar los sistemas de transfer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16000" y="1387440"/>
            <a:ext cx="7848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bre propuesta ILPES 1998: transformar los sistemas de transferencias intergubernamentales en dos sistema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ubsidi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Sociales, para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gualación de derechos social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arantizar una canasta de bienes y servicios, integrado 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r gobiernos subnacionales (Colombia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stema de Transferencias Territoriales, para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igualación del derecho a proveerse de bienes locales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tinado a  apoyar el desarrollo local y regional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 partir de servicios de infraestruct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libre disponibilidad pero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porcionales al esfuerzo loc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ributación local/ingreso geográfico (o ponderada por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yendo contribuciones comunitarias (desde 2003 en legislación de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Guatemal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rofundizar la descentralizació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ecidas estas condiciones de eficiencia y equidad: transferir gradualmente a gobiernos subnacionales: individuales o asociados, según configuración geográfica de la deman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utonomías: toda la provisión de bienes públicos con demanda geográficamente diferenci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vidad e 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 agentes: todo aquello donde la proximidad aumente la eficiencia glob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920" y="2221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el gasto autónom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589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Elaborado sobre datos del FMI, 1992-ultimo año disponible, excepto Brasil: 1991-1998, y México: 1991-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66680" y="1052640"/>
          <a:ext cx="7467840" cy="45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52640"/>
                    <a:ext cx="746784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11600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nicipios en países desarrollados: Dinamarca: 58%, EE.UU.: 2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6009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Bibliografí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8360" y="1079280"/>
            <a:ext cx="8064360" cy="56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ziz, Cristina (2006) “Las transferencias fiscales y el gasto público en la federación brasileña: un análisis de la inequidad espacial en el acceso a bienes sociales y territoriales”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Tesis de Magíster en Gestión y Políticas Públicas, U de Ch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lombia (2001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Ley 715, Sistema General de Particip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uverger, Maurice (1970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stitutions politiques et droit constitutionnel (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. Ariel 197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inot, Iván (1998) “Descentralización en América Latina: cómo conciliar eficiencia con equidad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, Reforma y Democracia 10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2) “Descentralización y participación en América Latina: una mirada desde la economía”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Revista de la CEPAL 78 (Diciemb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_________ (2007)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“Los procesos de descentralización en América Latina”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Investigaciones Regionales No. 10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(Primave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Guatemala (2002)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Acuerdo Gubernativo 312-2002, Reglamento de la Ley General de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LPES/CEPAL (1998). 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Reflexiones sobre el Desarrollo y la Responsabilidad del Estad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. CEPAL, LC/IP/L.154. Cap. III, Sección D. Descentralización y Desarrollo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usgrave, Richard and Peggy (1989)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ublic finance in theory and practic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Trad. McGraw-Hill 199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ates, Wallace (1972)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Fiscal federalis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Trad. IEAL 197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____________(1999) “An essay on fiscal federalism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ournal of Economic Literature Vol. XX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strom, Vincent; Tiebout, Charles; Warren, Robert (1961) “The organization of government in metropolitan areas: a theoretical inquiry”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merican Political Science Review 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Wiesner, Eduardo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992).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olombia: descentralización y federalismo fisc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.  DNP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89800" cy="99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Descentralización de decisiones sobre gasto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197000"/>
          <a:ext cx="7991640" cy="5256360"/>
        </p:xfrm>
        <a:graphic>
          <a:graphicData uri="http://schemas.openxmlformats.org/drawingml/2006/table">
            <a:tbl>
              <a:tblPr/>
              <a:tblGrid>
                <a:gridCol w="1295640"/>
                <a:gridCol w="720720"/>
                <a:gridCol w="647640"/>
                <a:gridCol w="720720"/>
                <a:gridCol w="718920"/>
                <a:gridCol w="719280"/>
                <a:gridCol w="792360"/>
                <a:gridCol w="792000"/>
                <a:gridCol w="792000"/>
                <a:gridCol w="79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vici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MÉ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V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B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CH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9966"/>
                          </a:solidFill>
                          <a:latin typeface="Times New Roman"/>
                        </a:rPr>
                        <a:t>E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 Bás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Educ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Prima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Infraest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Pers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Salud 2o. y 3r 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fr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a generación de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609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laborado sobre datos del FMI: 1992–último año disponible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xcepto Brasil: 1991-1998, y México: 1991-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Times New Roman"/>
              </a:rPr>
              <a:t>Evaluación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¿Autonomías o agentes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 conveniente definir claramente en qué casos los gobiernos locales se comportarán como autonomías y en qué otros como agentes del gobiern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utonomías deben poder adoptar decisiones políticas sobre qué proveer, cuánto proveer, dónde proveer y con qué aportes ciudadanos prov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casos en que actúan como agentes, sólo ejecutan decisiones del gobierno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los países de la región, salvo en algunos casos (subsidios en Chile, SISBEN en Colombia, bolsa familia en Brasil) esta diferenciación no está bien defin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7-11-05T14:44:09Z</dcterms:modified>
  <cp:revision>173</cp:revision>
  <dc:subject/>
  <dc:title>Descentralización Fiscal y Financiamiento del Desarrollo Local/Regional</dc:title>
</cp:coreProperties>
</file>