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E894B-8B70-458B-850F-FEFEB98E2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5BA57-2002-4CC8-A510-85746DC32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D0BFF-1D94-4D20-82DB-132D56CE2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48EF4-D7E3-49AA-9EE5-D2C9B921E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2405C-E658-4753-8D75-062F9A6E7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6597C-0959-4144-B431-043B5133F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84B2A-033A-4174-B7ED-34A81354E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1B448-3069-46FD-B2F6-B5D1DB415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77CD3-EA42-44F5-BBBD-9CAC3CE20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A1187-441E-4BFE-973D-D4685FAB0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FD26D-21DC-4EA4-8B09-AC5B044AC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80D83-9C68-4E46-BEC7-9D984B911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5117D-0DBE-45D2-BDCA-1D58B4932164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Trabajo Número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755640" y="1125360"/>
            <a:ext cx="7772400" cy="45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Analice el modelo operacional de su empres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Cuáles son los procesos central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Qué insumos y outputs se requiere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Quiénes componen la cadena de valor del negoci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Qué métricas definen la performance de la caden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Cuáles son los principales problemas del modelo de operación según la estrategia de negoci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Qué propuestas de mejora podría hacer para resolver el punto previ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Formato ppt entre 6 a 10 slid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Plazo: 13 de Diciembre de 20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6T14:29:08Z</dcterms:created>
  <dc:creator>.</dc:creator>
  <dc:description/>
  <dc:language>en-US</dc:language>
  <cp:lastModifiedBy>.</cp:lastModifiedBy>
  <dcterms:modified xsi:type="dcterms:W3CDTF">2007-12-06T14:31:52Z</dcterms:modified>
  <cp:revision>2</cp:revision>
  <dc:subject/>
  <dc:title>Trabajo Número 2</dc:title>
</cp:coreProperties>
</file>