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gif" ContentType="image/gif"/>
  <Override PartName="/ppt/media/image5.wmf" ContentType="image/x-wmf"/>
  <Override PartName="/ppt/media/image6.png" ContentType="image/png"/>
  <Override PartName="/ppt/media/image7.png" ContentType="image/png"/>
  <Override PartName="/ppt/media/image8.gif" ContentType="image/gi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B08CA-144B-4A78-9999-D733C7AA3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B276A-FE57-4290-953E-B171A002E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EDA9D-68EF-48E4-852E-8DB562848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E340B-657D-42BC-BED1-C72596C5B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DDEAD-8DD1-4AB1-9AA7-5FB3CD3A5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229AD-C718-49A6-A06E-5EFFCBD66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A7F03-6DE4-4D16-B797-E97B1F55C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89ED8-F456-4612-AE8F-EDEEAF885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619BE-5336-41B7-8AEB-19F66891E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834FA-A0D0-4419-BF9B-EAE9C78C8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634B7-E418-4E24-8D87-273EFC105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6941C-A65F-4291-AD16-7AFBC7272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4D7A-260F-4C49-BEEE-08B6136E954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wmf"/><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0000"/>
                </a:solidFill>
                <a:latin typeface="Arial"/>
              </a:rPr>
              <a:t>Dirección  de Operaciones</a:t>
            </a:r>
            <a:br>
              <a:rPr sz="3200"/>
            </a:br>
            <a:r>
              <a:rPr b="0" i="1" lang="es-CL" sz="3200" spc="-1" strike="noStrike">
                <a:solidFill>
                  <a:srgbClr val="ff0000"/>
                </a:solidFill>
                <a:latin typeface="Arial"/>
              </a:rPr>
              <a:t>Clase del 6/Diciembre/2007</a:t>
            </a:r>
            <a:endParaRPr b="0" lang="en-US" sz="3200" spc="-1" strike="noStrike">
              <a:solidFill>
                <a:srgbClr val="000000"/>
              </a:solidFill>
              <a:latin typeface="Arial"/>
            </a:endParaRPr>
          </a:p>
        </p:txBody>
      </p:sp>
      <p:sp>
        <p:nvSpPr>
          <p:cNvPr id="44"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ofesor: Iván Braga</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eñar implica configurar 5 temas claves:</a:t>
            </a:r>
            <a:endParaRPr b="0" lang="en-US" sz="3200" spc="-1" strike="noStrike">
              <a:solidFill>
                <a:srgbClr val="000000"/>
              </a:solidFill>
              <a:latin typeface="Arial"/>
            </a:endParaRPr>
          </a:p>
        </p:txBody>
      </p:sp>
      <p:sp>
        <p:nvSpPr>
          <p:cNvPr id="140"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producción </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outsourcing</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canales</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servicio a clientes</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Red de activ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3399"/>
                </a:solidFill>
                <a:latin typeface="Arial"/>
              </a:rPr>
              <a:t>Estrategia de producción</a:t>
            </a:r>
            <a:endParaRPr b="0" lang="en-US" sz="4800" spc="-1" strike="noStrike">
              <a:solidFill>
                <a:srgbClr val="000000"/>
              </a:solidFill>
              <a:latin typeface="Arial"/>
            </a:endParaRPr>
          </a:p>
        </p:txBody>
      </p:sp>
      <p:sp>
        <p:nvSpPr>
          <p:cNvPr id="142" name="PlaceHolder 2"/>
          <p:cNvSpPr>
            <a:spLocks noGrp="1"/>
          </p:cNvSpPr>
          <p:nvPr>
            <p:ph/>
          </p:nvPr>
        </p:nvSpPr>
        <p:spPr>
          <a:xfrm>
            <a:off x="457200" y="1600200"/>
            <a:ext cx="8229600" cy="2620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ke to st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ke to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figure to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gineer to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250920" y="1197000"/>
          <a:ext cx="8229600" cy="4068720"/>
        </p:xfrm>
        <a:graphic>
          <a:graphicData uri="http://schemas.openxmlformats.org/drawingml/2006/table">
            <a:tbl>
              <a:tblPr/>
              <a:tblGrid>
                <a:gridCol w="2743200"/>
                <a:gridCol w="2743200"/>
                <a:gridCol w="2743200"/>
              </a:tblGrid>
              <a:tr h="785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ke to stoc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 estandarizado y altos volúmen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baj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uesta al clien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ke to ord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on requerimientos varia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stomizació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ducción Inventari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vel de servici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figure to ord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ustomizados y/o con demanda infrecuent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jo inventario</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riedad de opcione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mplifica planificació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gineer to ord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omplej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querimientos muy específic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mite respuesta a requerimientos de client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
          <p:cNvSpPr/>
          <p:nvPr/>
        </p:nvSpPr>
        <p:spPr>
          <a:xfrm>
            <a:off x="3565800" y="476280"/>
            <a:ext cx="40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Cuando se usa</a:t>
            </a:r>
            <a:r>
              <a:rPr b="1" lang="es-ES_tradnl" sz="1800" spc="-1" strike="noStrike">
                <a:solidFill>
                  <a:srgbClr val="ff0000"/>
                </a:solidFill>
                <a:latin typeface="Arial"/>
              </a:rPr>
              <a:t>	</a:t>
            </a:r>
            <a:r>
              <a:rPr b="1" lang="es-ES_tradnl" sz="1800" spc="-1" strike="noStrike">
                <a:solidFill>
                  <a:srgbClr val="ff0000"/>
                </a:solidFill>
                <a:latin typeface="Arial"/>
              </a:rPr>
              <a:t>	</a:t>
            </a:r>
            <a:r>
              <a:rPr b="1" lang="es-ES_tradnl" sz="1800" spc="-1" strike="noStrike">
                <a:solidFill>
                  <a:srgbClr val="ff0000"/>
                </a:solidFill>
                <a:latin typeface="Arial"/>
              </a:rPr>
              <a:t>Beneficios</a:t>
            </a:r>
            <a:endParaRPr b="0" lang="en-US" sz="1800" spc="-1" strike="noStrike">
              <a:solidFill>
                <a:srgbClr val="000000"/>
              </a:solidFill>
              <a:latin typeface="Arial"/>
            </a:endParaRPr>
          </a:p>
        </p:txBody>
      </p:sp>
      <p:sp>
        <p:nvSpPr>
          <p:cNvPr id="145" name=""/>
          <p:cNvSpPr/>
          <p:nvPr/>
        </p:nvSpPr>
        <p:spPr>
          <a:xfrm>
            <a:off x="4356000" y="83664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877080" y="83664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98440" y="6093000"/>
            <a:ext cx="8450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ciclo de vida de producto influye fuertemente en la definición de la estrategia de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922320"/>
          </a:xfrm>
          <a:prstGeom prst="rect">
            <a:avLst/>
          </a:prstGeom>
          <a:solidFill>
            <a:srgbClr val="ffff00"/>
          </a:solid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trategias de operaciones de producción por indust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04640"/>
            <a:ext cx="6642000" cy="34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ourcing Strategy: Ejemplo</a:t>
            </a:r>
            <a:endParaRPr b="0" lang="en-US" sz="3600" spc="-1" strike="noStrike">
              <a:solidFill>
                <a:srgbClr val="000000"/>
              </a:solidFill>
              <a:latin typeface="Arial"/>
            </a:endParaRPr>
          </a:p>
        </p:txBody>
      </p:sp>
      <p:sp>
        <p:nvSpPr>
          <p:cNvPr id="150" name=""/>
          <p:cNvSpPr/>
          <p:nvPr/>
        </p:nvSpPr>
        <p:spPr>
          <a:xfrm>
            <a:off x="6934320" y="1601640"/>
            <a:ext cx="2666880" cy="160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TN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think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 Zero</a:t>
            </a:r>
            <a:endParaRPr b="0" lang="en-US" sz="2000" spc="-1" strike="noStrike">
              <a:solidFill>
                <a:srgbClr val="000000"/>
              </a:solidFill>
              <a:latin typeface="Arial"/>
            </a:endParaRPr>
          </a:p>
        </p:txBody>
      </p:sp>
      <p:sp>
        <p:nvSpPr>
          <p:cNvPr id="151"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6934320" y="3641760"/>
            <a:ext cx="245880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EVERA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 event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P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exchanges</a:t>
            </a:r>
            <a:endParaRPr b="0" lang="en-US" sz="2000" spc="-1" strike="noStrike">
              <a:solidFill>
                <a:srgbClr val="000000"/>
              </a:solidFill>
              <a:latin typeface="Arial"/>
            </a:endParaRPr>
          </a:p>
        </p:txBody>
      </p:sp>
      <p:sp>
        <p:nvSpPr>
          <p:cNvPr id="153" name=""/>
          <p:cNvSpPr/>
          <p:nvPr/>
        </p:nvSpPr>
        <p:spPr>
          <a:xfrm>
            <a:off x="914400" y="4038480"/>
            <a:ext cx="1736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76320" y="3429000"/>
            <a:ext cx="2057400" cy="3022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IMPLIF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rketplac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gregat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aym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 even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
          <p:cNvSpPr/>
          <p:nvPr/>
        </p:nvSpPr>
        <p:spPr>
          <a:xfrm>
            <a:off x="3911760" y="5943600"/>
            <a:ext cx="172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nd</a:t>
            </a:r>
            <a:endParaRPr b="0" lang="en-US" sz="2800" spc="-1" strike="noStrike">
              <a:solidFill>
                <a:srgbClr val="000000"/>
              </a:solidFill>
              <a:latin typeface="Arial"/>
            </a:endParaRPr>
          </a:p>
        </p:txBody>
      </p:sp>
      <p:grpSp>
        <p:nvGrpSpPr>
          <p:cNvPr id="156" name=""/>
          <p:cNvGrpSpPr/>
          <p:nvPr/>
        </p:nvGrpSpPr>
        <p:grpSpPr>
          <a:xfrm>
            <a:off x="838080" y="1523520"/>
            <a:ext cx="6362640" cy="4426200"/>
            <a:chOff x="838080" y="1523520"/>
            <a:chExt cx="6362640" cy="4426200"/>
          </a:xfrm>
        </p:grpSpPr>
        <p:sp>
          <p:nvSpPr>
            <p:cNvPr id="157" name=""/>
            <p:cNvSpPr/>
            <p:nvPr/>
          </p:nvSpPr>
          <p:spPr>
            <a:xfrm>
              <a:off x="2209680" y="3581280"/>
              <a:ext cx="45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495680" y="1971720"/>
              <a:ext cx="1992240" cy="1482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9" name=""/>
            <p:cNvSpPr/>
            <p:nvPr/>
          </p:nvSpPr>
          <p:spPr>
            <a:xfrm>
              <a:off x="4495680" y="3763800"/>
              <a:ext cx="1990800" cy="1481400"/>
            </a:xfrm>
            <a:prstGeom prst="ellipse">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572000" y="2270160"/>
              <a:ext cx="1981080" cy="1156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25% Spend</a:t>
              </a:r>
              <a:endParaRPr b="0" lang="en-US" sz="22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 Suppliers</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4508280" y="4038480"/>
              <a:ext cx="2247840" cy="1280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50% Spend</a:t>
              </a:r>
              <a:endParaRPr b="0" lang="en-US" sz="2200" spc="-1" strike="noStrike">
                <a:solidFill>
                  <a:srgbClr val="000000"/>
                </a:solidFill>
                <a:latin typeface="Arial"/>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00 Suppliers</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2" name=""/>
            <p:cNvSpPr/>
            <p:nvPr/>
          </p:nvSpPr>
          <p:spPr>
            <a:xfrm>
              <a:off x="838080" y="2390760"/>
              <a:ext cx="121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a:t>
              </a:r>
              <a:endParaRPr b="0" lang="en-US" sz="2800" spc="-1" strike="noStrike">
                <a:solidFill>
                  <a:srgbClr val="000000"/>
                </a:solidFill>
                <a:latin typeface="Arial"/>
              </a:endParaRPr>
            </a:p>
          </p:txBody>
        </p:sp>
        <p:sp>
          <p:nvSpPr>
            <p:cNvPr id="163" name=""/>
            <p:cNvSpPr/>
            <p:nvPr/>
          </p:nvSpPr>
          <p:spPr>
            <a:xfrm>
              <a:off x="2216160" y="5413320"/>
              <a:ext cx="45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307960" y="5443560"/>
              <a:ext cx="68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65" name=""/>
            <p:cNvSpPr/>
            <p:nvPr/>
          </p:nvSpPr>
          <p:spPr>
            <a:xfrm>
              <a:off x="6426000" y="5369040"/>
              <a:ext cx="77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
            <p:cNvSpPr/>
            <p:nvPr/>
          </p:nvSpPr>
          <p:spPr>
            <a:xfrm>
              <a:off x="1668240" y="4981680"/>
              <a:ext cx="655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67" name=""/>
            <p:cNvSpPr/>
            <p:nvPr/>
          </p:nvSpPr>
          <p:spPr>
            <a:xfrm>
              <a:off x="1557360" y="1557360"/>
              <a:ext cx="841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168" name=""/>
            <p:cNvSpPr/>
            <p:nvPr/>
          </p:nvSpPr>
          <p:spPr>
            <a:xfrm flipV="1">
              <a:off x="2201760" y="15235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313000" y="1828800"/>
              <a:ext cx="1992240" cy="350532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514600" y="2273400"/>
              <a:ext cx="1600200" cy="2826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200" spc="-1" strike="noStrike">
                  <a:solidFill>
                    <a:srgbClr val="000000"/>
                  </a:solidFill>
                  <a:latin typeface="Arial"/>
                </a:rPr>
                <a:t>25%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pend</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15,000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uppliers</a:t>
              </a:r>
              <a:endParaRPr b="0" lang="en-US" sz="2200" spc="-1" strike="noStrike">
                <a:solidFill>
                  <a:srgbClr val="000000"/>
                </a:solidFill>
                <a:latin typeface="Arial"/>
              </a:endParaRPr>
            </a:p>
          </p:txBody>
        </p:sp>
        <p:sp>
          <p:nvSpPr>
            <p:cNvPr id="171" name=""/>
            <p:cNvSpPr/>
            <p:nvPr/>
          </p:nvSpPr>
          <p:spPr>
            <a:xfrm flipV="1">
              <a:off x="4419360" y="15235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47680" y="404640"/>
            <a:ext cx="8896320" cy="5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rPr>
              <a:t>Producción globalizada</a:t>
            </a:r>
            <a:br>
              <a:rPr sz="2700"/>
            </a:br>
            <a:r>
              <a:rPr b="0" lang="es-MX" sz="2700" spc="-1" strike="noStrike">
                <a:solidFill>
                  <a:srgbClr val="000000"/>
                </a:solidFill>
                <a:latin typeface="Arial"/>
              </a:rPr>
              <a:t>Ejemplo: </a:t>
            </a:r>
            <a:br>
              <a:rPr sz="2700"/>
            </a:br>
            <a:r>
              <a:rPr b="0" lang="es-MX" sz="2700" spc="-1" strike="noStrike">
                <a:solidFill>
                  <a:srgbClr val="000000"/>
                </a:solidFill>
                <a:latin typeface="Arial"/>
              </a:rPr>
              <a:t>Low Cost Country Sourcing (LCCS)</a:t>
            </a:r>
            <a:endParaRPr b="0" lang="en-US" sz="2700" spc="-1" strike="noStrike">
              <a:solidFill>
                <a:srgbClr val="000000"/>
              </a:solidFill>
              <a:latin typeface="Arial"/>
            </a:endParaRPr>
          </a:p>
        </p:txBody>
      </p:sp>
      <p:sp>
        <p:nvSpPr>
          <p:cNvPr id="173" name="PlaceHolder 2"/>
          <p:cNvSpPr>
            <a:spLocks noGrp="1"/>
          </p:cNvSpPr>
          <p:nvPr>
            <p:ph/>
          </p:nvPr>
        </p:nvSpPr>
        <p:spPr>
          <a:xfrm>
            <a:off x="0" y="1341000"/>
            <a:ext cx="7950240" cy="4443480"/>
          </a:xfrm>
          <a:prstGeom prst="rect">
            <a:avLst/>
          </a:prstGeom>
          <a:noFill/>
          <a:ln w="0">
            <a:noFill/>
          </a:ln>
        </p:spPr>
        <p:txBody>
          <a:bodyPr lIns="90000" rIns="90000" tIns="46800" bIns="46800" anchor="t">
            <a:normAutofit/>
          </a:bodyPr>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Phelps Dodge developing LCCS:</a:t>
            </a:r>
            <a:endParaRPr b="0" lang="en-US" sz="2100" spc="-1" strike="noStrike">
              <a:solidFill>
                <a:srgbClr val="000000"/>
              </a:solidFill>
              <a:latin typeface="Arial"/>
            </a:endParaRPr>
          </a:p>
          <a:p>
            <a:pPr marL="457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174" name=""/>
          <p:cNvGrpSpPr/>
          <p:nvPr/>
        </p:nvGrpSpPr>
        <p:grpSpPr>
          <a:xfrm>
            <a:off x="1600200" y="2133720"/>
            <a:ext cx="7314120" cy="4038480"/>
            <a:chOff x="1600200" y="2133720"/>
            <a:chExt cx="7314120" cy="4038480"/>
          </a:xfrm>
        </p:grpSpPr>
        <p:grpSp>
          <p:nvGrpSpPr>
            <p:cNvPr id="175" name=""/>
            <p:cNvGrpSpPr/>
            <p:nvPr/>
          </p:nvGrpSpPr>
          <p:grpSpPr>
            <a:xfrm>
              <a:off x="1600200" y="2133720"/>
              <a:ext cx="2450520" cy="4038480"/>
              <a:chOff x="1600200" y="2133720"/>
              <a:chExt cx="2450520" cy="4038480"/>
            </a:xfrm>
          </p:grpSpPr>
          <p:sp>
            <p:nvSpPr>
              <p:cNvPr id="176" name=""/>
              <p:cNvSpPr/>
              <p:nvPr/>
            </p:nvSpPr>
            <p:spPr>
              <a:xfrm>
                <a:off x="1600200" y="2311200"/>
                <a:ext cx="1657440" cy="1890720"/>
              </a:xfrm>
              <a:custGeom>
                <a:avLst/>
                <a:gdLst/>
                <a:ahLst/>
                <a:rect l="l" t="t" r="r" b="b"/>
                <a:pathLst>
                  <a:path w="1206" h="1318">
                    <a:moveTo>
                      <a:pt x="0" y="339"/>
                    </a:moveTo>
                    <a:lnTo>
                      <a:pt x="58" y="294"/>
                    </a:lnTo>
                    <a:lnTo>
                      <a:pt x="91" y="275"/>
                    </a:lnTo>
                    <a:lnTo>
                      <a:pt x="97" y="246"/>
                    </a:lnTo>
                    <a:lnTo>
                      <a:pt x="71" y="230"/>
                    </a:lnTo>
                    <a:lnTo>
                      <a:pt x="69" y="197"/>
                    </a:lnTo>
                    <a:lnTo>
                      <a:pt x="80" y="187"/>
                    </a:lnTo>
                    <a:lnTo>
                      <a:pt x="78" y="173"/>
                    </a:lnTo>
                    <a:lnTo>
                      <a:pt x="123" y="168"/>
                    </a:lnTo>
                    <a:lnTo>
                      <a:pt x="134" y="142"/>
                    </a:lnTo>
                    <a:lnTo>
                      <a:pt x="136" y="118"/>
                    </a:lnTo>
                    <a:lnTo>
                      <a:pt x="173" y="111"/>
                    </a:lnTo>
                    <a:lnTo>
                      <a:pt x="176" y="88"/>
                    </a:lnTo>
                    <a:lnTo>
                      <a:pt x="141" y="81"/>
                    </a:lnTo>
                    <a:lnTo>
                      <a:pt x="158" y="64"/>
                    </a:lnTo>
                    <a:lnTo>
                      <a:pt x="215" y="64"/>
                    </a:lnTo>
                    <a:lnTo>
                      <a:pt x="232" y="45"/>
                    </a:lnTo>
                    <a:lnTo>
                      <a:pt x="256" y="43"/>
                    </a:lnTo>
                    <a:lnTo>
                      <a:pt x="271" y="28"/>
                    </a:lnTo>
                    <a:lnTo>
                      <a:pt x="290" y="54"/>
                    </a:lnTo>
                    <a:lnTo>
                      <a:pt x="362" y="50"/>
                    </a:lnTo>
                    <a:lnTo>
                      <a:pt x="395" y="78"/>
                    </a:lnTo>
                    <a:lnTo>
                      <a:pt x="503" y="71"/>
                    </a:lnTo>
                    <a:lnTo>
                      <a:pt x="520" y="57"/>
                    </a:lnTo>
                    <a:lnTo>
                      <a:pt x="561" y="81"/>
                    </a:lnTo>
                    <a:lnTo>
                      <a:pt x="603" y="102"/>
                    </a:lnTo>
                    <a:lnTo>
                      <a:pt x="624" y="92"/>
                    </a:lnTo>
                    <a:lnTo>
                      <a:pt x="637" y="81"/>
                    </a:lnTo>
                    <a:lnTo>
                      <a:pt x="672" y="88"/>
                    </a:lnTo>
                    <a:lnTo>
                      <a:pt x="648" y="71"/>
                    </a:lnTo>
                    <a:lnTo>
                      <a:pt x="626" y="73"/>
                    </a:lnTo>
                    <a:lnTo>
                      <a:pt x="592" y="78"/>
                    </a:lnTo>
                    <a:lnTo>
                      <a:pt x="576" y="54"/>
                    </a:lnTo>
                    <a:lnTo>
                      <a:pt x="557" y="43"/>
                    </a:lnTo>
                    <a:lnTo>
                      <a:pt x="557" y="24"/>
                    </a:lnTo>
                    <a:lnTo>
                      <a:pt x="563" y="2"/>
                    </a:lnTo>
                    <a:lnTo>
                      <a:pt x="577" y="0"/>
                    </a:lnTo>
                    <a:lnTo>
                      <a:pt x="598" y="19"/>
                    </a:lnTo>
                    <a:lnTo>
                      <a:pt x="603" y="9"/>
                    </a:lnTo>
                    <a:lnTo>
                      <a:pt x="620" y="0"/>
                    </a:lnTo>
                    <a:lnTo>
                      <a:pt x="641" y="14"/>
                    </a:lnTo>
                    <a:lnTo>
                      <a:pt x="652" y="2"/>
                    </a:lnTo>
                    <a:lnTo>
                      <a:pt x="663" y="21"/>
                    </a:lnTo>
                    <a:lnTo>
                      <a:pt x="665" y="33"/>
                    </a:lnTo>
                    <a:lnTo>
                      <a:pt x="694" y="50"/>
                    </a:lnTo>
                    <a:lnTo>
                      <a:pt x="683" y="64"/>
                    </a:lnTo>
                    <a:lnTo>
                      <a:pt x="683" y="83"/>
                    </a:lnTo>
                    <a:lnTo>
                      <a:pt x="733" y="88"/>
                    </a:lnTo>
                    <a:lnTo>
                      <a:pt x="746" y="64"/>
                    </a:lnTo>
                    <a:lnTo>
                      <a:pt x="737" y="52"/>
                    </a:lnTo>
                    <a:lnTo>
                      <a:pt x="715" y="54"/>
                    </a:lnTo>
                    <a:lnTo>
                      <a:pt x="720" y="28"/>
                    </a:lnTo>
                    <a:lnTo>
                      <a:pt x="765" y="43"/>
                    </a:lnTo>
                    <a:lnTo>
                      <a:pt x="774" y="62"/>
                    </a:lnTo>
                    <a:lnTo>
                      <a:pt x="811" y="62"/>
                    </a:lnTo>
                    <a:lnTo>
                      <a:pt x="845" y="85"/>
                    </a:lnTo>
                    <a:lnTo>
                      <a:pt x="863" y="81"/>
                    </a:lnTo>
                    <a:lnTo>
                      <a:pt x="884" y="102"/>
                    </a:lnTo>
                    <a:lnTo>
                      <a:pt x="863" y="130"/>
                    </a:lnTo>
                    <a:lnTo>
                      <a:pt x="847" y="109"/>
                    </a:lnTo>
                    <a:lnTo>
                      <a:pt x="836" y="116"/>
                    </a:lnTo>
                    <a:lnTo>
                      <a:pt x="821" y="133"/>
                    </a:lnTo>
                    <a:lnTo>
                      <a:pt x="797" y="147"/>
                    </a:lnTo>
                    <a:lnTo>
                      <a:pt x="810" y="168"/>
                    </a:lnTo>
                    <a:lnTo>
                      <a:pt x="787" y="171"/>
                    </a:lnTo>
                    <a:lnTo>
                      <a:pt x="769" y="199"/>
                    </a:lnTo>
                    <a:lnTo>
                      <a:pt x="750" y="235"/>
                    </a:lnTo>
                    <a:lnTo>
                      <a:pt x="778" y="265"/>
                    </a:lnTo>
                    <a:lnTo>
                      <a:pt x="800" y="301"/>
                    </a:lnTo>
                    <a:lnTo>
                      <a:pt x="839" y="306"/>
                    </a:lnTo>
                    <a:lnTo>
                      <a:pt x="876" y="301"/>
                    </a:lnTo>
                    <a:lnTo>
                      <a:pt x="893" y="320"/>
                    </a:lnTo>
                    <a:lnTo>
                      <a:pt x="886" y="329"/>
                    </a:lnTo>
                    <a:lnTo>
                      <a:pt x="875" y="348"/>
                    </a:lnTo>
                    <a:lnTo>
                      <a:pt x="891" y="381"/>
                    </a:lnTo>
                    <a:lnTo>
                      <a:pt x="897" y="405"/>
                    </a:lnTo>
                    <a:lnTo>
                      <a:pt x="917" y="417"/>
                    </a:lnTo>
                    <a:lnTo>
                      <a:pt x="945" y="396"/>
                    </a:lnTo>
                    <a:lnTo>
                      <a:pt x="938" y="365"/>
                    </a:lnTo>
                    <a:lnTo>
                      <a:pt x="913" y="339"/>
                    </a:lnTo>
                    <a:lnTo>
                      <a:pt x="941" y="308"/>
                    </a:lnTo>
                    <a:lnTo>
                      <a:pt x="917" y="256"/>
                    </a:lnTo>
                    <a:lnTo>
                      <a:pt x="895" y="235"/>
                    </a:lnTo>
                    <a:lnTo>
                      <a:pt x="913" y="216"/>
                    </a:lnTo>
                    <a:lnTo>
                      <a:pt x="910" y="187"/>
                    </a:lnTo>
                    <a:lnTo>
                      <a:pt x="923" y="171"/>
                    </a:lnTo>
                    <a:lnTo>
                      <a:pt x="945" y="187"/>
                    </a:lnTo>
                    <a:lnTo>
                      <a:pt x="997" y="249"/>
                    </a:lnTo>
                    <a:lnTo>
                      <a:pt x="1029" y="258"/>
                    </a:lnTo>
                    <a:lnTo>
                      <a:pt x="1038" y="242"/>
                    </a:lnTo>
                    <a:lnTo>
                      <a:pt x="1030" y="208"/>
                    </a:lnTo>
                    <a:lnTo>
                      <a:pt x="1049" y="213"/>
                    </a:lnTo>
                    <a:lnTo>
                      <a:pt x="1081" y="251"/>
                    </a:lnTo>
                    <a:lnTo>
                      <a:pt x="1086" y="272"/>
                    </a:lnTo>
                    <a:lnTo>
                      <a:pt x="1105" y="287"/>
                    </a:lnTo>
                    <a:lnTo>
                      <a:pt x="1142" y="303"/>
                    </a:lnTo>
                    <a:lnTo>
                      <a:pt x="1160" y="334"/>
                    </a:lnTo>
                    <a:lnTo>
                      <a:pt x="1188" y="355"/>
                    </a:lnTo>
                    <a:lnTo>
                      <a:pt x="1203" y="362"/>
                    </a:lnTo>
                    <a:lnTo>
                      <a:pt x="1205" y="381"/>
                    </a:lnTo>
                    <a:lnTo>
                      <a:pt x="1183" y="393"/>
                    </a:lnTo>
                    <a:lnTo>
                      <a:pt x="1170" y="379"/>
                    </a:lnTo>
                    <a:lnTo>
                      <a:pt x="1159" y="381"/>
                    </a:lnTo>
                    <a:lnTo>
                      <a:pt x="1155" y="412"/>
                    </a:lnTo>
                    <a:lnTo>
                      <a:pt x="1136" y="419"/>
                    </a:lnTo>
                    <a:lnTo>
                      <a:pt x="1116" y="403"/>
                    </a:lnTo>
                    <a:lnTo>
                      <a:pt x="1073" y="403"/>
                    </a:lnTo>
                    <a:lnTo>
                      <a:pt x="1068" y="438"/>
                    </a:lnTo>
                    <a:lnTo>
                      <a:pt x="1079" y="460"/>
                    </a:lnTo>
                    <a:lnTo>
                      <a:pt x="1095" y="448"/>
                    </a:lnTo>
                    <a:lnTo>
                      <a:pt x="1112" y="443"/>
                    </a:lnTo>
                    <a:lnTo>
                      <a:pt x="1129" y="455"/>
                    </a:lnTo>
                    <a:lnTo>
                      <a:pt x="1107" y="481"/>
                    </a:lnTo>
                    <a:lnTo>
                      <a:pt x="1129" y="505"/>
                    </a:lnTo>
                    <a:lnTo>
                      <a:pt x="1159" y="512"/>
                    </a:lnTo>
                    <a:lnTo>
                      <a:pt x="1155" y="526"/>
                    </a:lnTo>
                    <a:lnTo>
                      <a:pt x="1144" y="528"/>
                    </a:lnTo>
                    <a:lnTo>
                      <a:pt x="1116" y="609"/>
                    </a:lnTo>
                    <a:lnTo>
                      <a:pt x="1118" y="557"/>
                    </a:lnTo>
                    <a:lnTo>
                      <a:pt x="1131" y="531"/>
                    </a:lnTo>
                    <a:lnTo>
                      <a:pt x="1116" y="519"/>
                    </a:lnTo>
                    <a:lnTo>
                      <a:pt x="1099" y="535"/>
                    </a:lnTo>
                    <a:lnTo>
                      <a:pt x="1108" y="550"/>
                    </a:lnTo>
                    <a:lnTo>
                      <a:pt x="1095" y="559"/>
                    </a:lnTo>
                    <a:lnTo>
                      <a:pt x="1082" y="571"/>
                    </a:lnTo>
                    <a:lnTo>
                      <a:pt x="1084" y="606"/>
                    </a:lnTo>
                    <a:lnTo>
                      <a:pt x="1066" y="618"/>
                    </a:lnTo>
                    <a:lnTo>
                      <a:pt x="1040" y="621"/>
                    </a:lnTo>
                    <a:lnTo>
                      <a:pt x="1049" y="640"/>
                    </a:lnTo>
                    <a:lnTo>
                      <a:pt x="1040" y="661"/>
                    </a:lnTo>
                    <a:lnTo>
                      <a:pt x="1049" y="677"/>
                    </a:lnTo>
                    <a:lnTo>
                      <a:pt x="1034" y="713"/>
                    </a:lnTo>
                    <a:lnTo>
                      <a:pt x="1029" y="746"/>
                    </a:lnTo>
                    <a:lnTo>
                      <a:pt x="1006" y="765"/>
                    </a:lnTo>
                    <a:lnTo>
                      <a:pt x="978" y="817"/>
                    </a:lnTo>
                    <a:lnTo>
                      <a:pt x="975" y="853"/>
                    </a:lnTo>
                    <a:lnTo>
                      <a:pt x="984" y="881"/>
                    </a:lnTo>
                    <a:lnTo>
                      <a:pt x="997" y="917"/>
                    </a:lnTo>
                    <a:lnTo>
                      <a:pt x="1004" y="955"/>
                    </a:lnTo>
                    <a:lnTo>
                      <a:pt x="991" y="971"/>
                    </a:lnTo>
                    <a:lnTo>
                      <a:pt x="975" y="959"/>
                    </a:lnTo>
                    <a:lnTo>
                      <a:pt x="978" y="940"/>
                    </a:lnTo>
                    <a:lnTo>
                      <a:pt x="969" y="898"/>
                    </a:lnTo>
                    <a:lnTo>
                      <a:pt x="958" y="891"/>
                    </a:lnTo>
                    <a:lnTo>
                      <a:pt x="951" y="865"/>
                    </a:lnTo>
                    <a:lnTo>
                      <a:pt x="936" y="865"/>
                    </a:lnTo>
                    <a:lnTo>
                      <a:pt x="919" y="850"/>
                    </a:lnTo>
                    <a:lnTo>
                      <a:pt x="901" y="855"/>
                    </a:lnTo>
                    <a:lnTo>
                      <a:pt x="884" y="846"/>
                    </a:lnTo>
                    <a:lnTo>
                      <a:pt x="863" y="857"/>
                    </a:lnTo>
                    <a:lnTo>
                      <a:pt x="826" y="848"/>
                    </a:lnTo>
                    <a:lnTo>
                      <a:pt x="850" y="879"/>
                    </a:lnTo>
                    <a:lnTo>
                      <a:pt x="821" y="876"/>
                    </a:lnTo>
                    <a:lnTo>
                      <a:pt x="800" y="853"/>
                    </a:lnTo>
                    <a:lnTo>
                      <a:pt x="763" y="853"/>
                    </a:lnTo>
                    <a:lnTo>
                      <a:pt x="769" y="891"/>
                    </a:lnTo>
                    <a:lnTo>
                      <a:pt x="741" y="879"/>
                    </a:lnTo>
                    <a:lnTo>
                      <a:pt x="726" y="917"/>
                    </a:lnTo>
                    <a:lnTo>
                      <a:pt x="737" y="933"/>
                    </a:lnTo>
                    <a:lnTo>
                      <a:pt x="726" y="978"/>
                    </a:lnTo>
                    <a:lnTo>
                      <a:pt x="739" y="1030"/>
                    </a:lnTo>
                    <a:lnTo>
                      <a:pt x="754" y="1066"/>
                    </a:lnTo>
                    <a:lnTo>
                      <a:pt x="771" y="1099"/>
                    </a:lnTo>
                    <a:lnTo>
                      <a:pt x="821" y="1097"/>
                    </a:lnTo>
                    <a:lnTo>
                      <a:pt x="841" y="1090"/>
                    </a:lnTo>
                    <a:lnTo>
                      <a:pt x="845" y="1066"/>
                    </a:lnTo>
                    <a:lnTo>
                      <a:pt x="834" y="1047"/>
                    </a:lnTo>
                    <a:lnTo>
                      <a:pt x="836" y="1030"/>
                    </a:lnTo>
                    <a:lnTo>
                      <a:pt x="867" y="1035"/>
                    </a:lnTo>
                    <a:lnTo>
                      <a:pt x="899" y="1026"/>
                    </a:lnTo>
                    <a:lnTo>
                      <a:pt x="899" y="1047"/>
                    </a:lnTo>
                    <a:lnTo>
                      <a:pt x="889" y="1078"/>
                    </a:lnTo>
                    <a:lnTo>
                      <a:pt x="875" y="1101"/>
                    </a:lnTo>
                    <a:lnTo>
                      <a:pt x="871" y="1135"/>
                    </a:lnTo>
                    <a:lnTo>
                      <a:pt x="891" y="1149"/>
                    </a:lnTo>
                    <a:lnTo>
                      <a:pt x="919" y="1144"/>
                    </a:lnTo>
                    <a:lnTo>
                      <a:pt x="936" y="1156"/>
                    </a:lnTo>
                    <a:lnTo>
                      <a:pt x="951" y="1151"/>
                    </a:lnTo>
                    <a:lnTo>
                      <a:pt x="956" y="1173"/>
                    </a:lnTo>
                    <a:lnTo>
                      <a:pt x="943" y="1203"/>
                    </a:lnTo>
                    <a:lnTo>
                      <a:pt x="954" y="1222"/>
                    </a:lnTo>
                    <a:lnTo>
                      <a:pt x="956" y="1260"/>
                    </a:lnTo>
                    <a:lnTo>
                      <a:pt x="975" y="1286"/>
                    </a:lnTo>
                    <a:lnTo>
                      <a:pt x="999" y="1293"/>
                    </a:lnTo>
                    <a:lnTo>
                      <a:pt x="1016" y="1286"/>
                    </a:lnTo>
                    <a:lnTo>
                      <a:pt x="1023" y="1289"/>
                    </a:lnTo>
                    <a:lnTo>
                      <a:pt x="1055" y="1289"/>
                    </a:lnTo>
                    <a:lnTo>
                      <a:pt x="1082" y="1291"/>
                    </a:lnTo>
                    <a:lnTo>
                      <a:pt x="1090" y="1274"/>
                    </a:lnTo>
                    <a:lnTo>
                      <a:pt x="1066" y="1303"/>
                    </a:lnTo>
                    <a:lnTo>
                      <a:pt x="1049" y="1300"/>
                    </a:lnTo>
                    <a:lnTo>
                      <a:pt x="1032" y="1303"/>
                    </a:lnTo>
                    <a:lnTo>
                      <a:pt x="999" y="1317"/>
                    </a:lnTo>
                    <a:lnTo>
                      <a:pt x="971" y="1298"/>
                    </a:lnTo>
                    <a:lnTo>
                      <a:pt x="945" y="1286"/>
                    </a:lnTo>
                    <a:lnTo>
                      <a:pt x="934" y="1289"/>
                    </a:lnTo>
                    <a:lnTo>
                      <a:pt x="936" y="1272"/>
                    </a:lnTo>
                    <a:lnTo>
                      <a:pt x="934" y="1246"/>
                    </a:lnTo>
                    <a:lnTo>
                      <a:pt x="912" y="1222"/>
                    </a:lnTo>
                    <a:lnTo>
                      <a:pt x="865" y="1208"/>
                    </a:lnTo>
                    <a:lnTo>
                      <a:pt x="858" y="1199"/>
                    </a:lnTo>
                    <a:lnTo>
                      <a:pt x="845" y="1201"/>
                    </a:lnTo>
                    <a:lnTo>
                      <a:pt x="832" y="1189"/>
                    </a:lnTo>
                    <a:lnTo>
                      <a:pt x="815" y="1177"/>
                    </a:lnTo>
                    <a:lnTo>
                      <a:pt x="793" y="1144"/>
                    </a:lnTo>
                    <a:lnTo>
                      <a:pt x="767" y="1135"/>
                    </a:lnTo>
                    <a:lnTo>
                      <a:pt x="752" y="1156"/>
                    </a:lnTo>
                    <a:lnTo>
                      <a:pt x="735" y="1139"/>
                    </a:lnTo>
                    <a:lnTo>
                      <a:pt x="715" y="1139"/>
                    </a:lnTo>
                    <a:lnTo>
                      <a:pt x="674" y="1128"/>
                    </a:lnTo>
                    <a:lnTo>
                      <a:pt x="600" y="1071"/>
                    </a:lnTo>
                    <a:lnTo>
                      <a:pt x="594" y="1011"/>
                    </a:lnTo>
                    <a:lnTo>
                      <a:pt x="587" y="988"/>
                    </a:lnTo>
                    <a:lnTo>
                      <a:pt x="574" y="971"/>
                    </a:lnTo>
                    <a:lnTo>
                      <a:pt x="557" y="938"/>
                    </a:lnTo>
                    <a:lnTo>
                      <a:pt x="479" y="824"/>
                    </a:lnTo>
                    <a:lnTo>
                      <a:pt x="479" y="867"/>
                    </a:lnTo>
                    <a:lnTo>
                      <a:pt x="527" y="943"/>
                    </a:lnTo>
                    <a:lnTo>
                      <a:pt x="548" y="1007"/>
                    </a:lnTo>
                    <a:lnTo>
                      <a:pt x="518" y="992"/>
                    </a:lnTo>
                    <a:lnTo>
                      <a:pt x="512" y="955"/>
                    </a:lnTo>
                    <a:lnTo>
                      <a:pt x="473" y="931"/>
                    </a:lnTo>
                    <a:lnTo>
                      <a:pt x="496" y="917"/>
                    </a:lnTo>
                    <a:lnTo>
                      <a:pt x="444" y="876"/>
                    </a:lnTo>
                    <a:lnTo>
                      <a:pt x="464" y="853"/>
                    </a:lnTo>
                    <a:lnTo>
                      <a:pt x="446" y="805"/>
                    </a:lnTo>
                    <a:lnTo>
                      <a:pt x="382" y="706"/>
                    </a:lnTo>
                    <a:lnTo>
                      <a:pt x="375" y="649"/>
                    </a:lnTo>
                    <a:lnTo>
                      <a:pt x="379" y="606"/>
                    </a:lnTo>
                    <a:lnTo>
                      <a:pt x="395" y="559"/>
                    </a:lnTo>
                    <a:lnTo>
                      <a:pt x="395" y="512"/>
                    </a:lnTo>
                    <a:lnTo>
                      <a:pt x="382" y="483"/>
                    </a:lnTo>
                    <a:lnTo>
                      <a:pt x="418" y="474"/>
                    </a:lnTo>
                    <a:lnTo>
                      <a:pt x="375" y="417"/>
                    </a:lnTo>
                    <a:lnTo>
                      <a:pt x="377" y="391"/>
                    </a:lnTo>
                    <a:lnTo>
                      <a:pt x="358" y="355"/>
                    </a:lnTo>
                    <a:lnTo>
                      <a:pt x="366" y="334"/>
                    </a:lnTo>
                    <a:lnTo>
                      <a:pt x="353" y="322"/>
                    </a:lnTo>
                    <a:lnTo>
                      <a:pt x="351" y="298"/>
                    </a:lnTo>
                    <a:lnTo>
                      <a:pt x="338" y="280"/>
                    </a:lnTo>
                    <a:lnTo>
                      <a:pt x="353" y="263"/>
                    </a:lnTo>
                    <a:lnTo>
                      <a:pt x="332" y="251"/>
                    </a:lnTo>
                    <a:lnTo>
                      <a:pt x="316" y="268"/>
                    </a:lnTo>
                    <a:lnTo>
                      <a:pt x="292" y="235"/>
                    </a:lnTo>
                    <a:lnTo>
                      <a:pt x="266" y="225"/>
                    </a:lnTo>
                    <a:lnTo>
                      <a:pt x="228" y="225"/>
                    </a:lnTo>
                    <a:lnTo>
                      <a:pt x="204" y="256"/>
                    </a:lnTo>
                    <a:lnTo>
                      <a:pt x="193" y="246"/>
                    </a:lnTo>
                    <a:lnTo>
                      <a:pt x="214" y="206"/>
                    </a:lnTo>
                    <a:lnTo>
                      <a:pt x="195" y="213"/>
                    </a:lnTo>
                    <a:lnTo>
                      <a:pt x="158" y="256"/>
                    </a:lnTo>
                    <a:lnTo>
                      <a:pt x="119" y="294"/>
                    </a:lnTo>
                    <a:lnTo>
                      <a:pt x="84" y="303"/>
                    </a:lnTo>
                    <a:lnTo>
                      <a:pt x="24" y="341"/>
                    </a:lnTo>
                    <a:lnTo>
                      <a:pt x="0" y="339"/>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784960" y="2133720"/>
                <a:ext cx="564840" cy="497520"/>
              </a:xfrm>
              <a:custGeom>
                <a:avLst/>
                <a:gdLst/>
                <a:ahLst/>
                <a:rect l="l" t="t" r="r" b="b"/>
                <a:pathLst>
                  <a:path w="411" h="347">
                    <a:moveTo>
                      <a:pt x="0" y="71"/>
                    </a:moveTo>
                    <a:lnTo>
                      <a:pt x="9" y="45"/>
                    </a:lnTo>
                    <a:lnTo>
                      <a:pt x="9" y="26"/>
                    </a:lnTo>
                    <a:lnTo>
                      <a:pt x="24" y="0"/>
                    </a:lnTo>
                    <a:lnTo>
                      <a:pt x="98" y="17"/>
                    </a:lnTo>
                    <a:lnTo>
                      <a:pt x="226" y="47"/>
                    </a:lnTo>
                    <a:lnTo>
                      <a:pt x="276" y="73"/>
                    </a:lnTo>
                    <a:lnTo>
                      <a:pt x="343" y="97"/>
                    </a:lnTo>
                    <a:lnTo>
                      <a:pt x="377" y="142"/>
                    </a:lnTo>
                    <a:lnTo>
                      <a:pt x="410" y="164"/>
                    </a:lnTo>
                    <a:lnTo>
                      <a:pt x="397" y="180"/>
                    </a:lnTo>
                    <a:lnTo>
                      <a:pt x="397" y="201"/>
                    </a:lnTo>
                    <a:lnTo>
                      <a:pt x="384" y="206"/>
                    </a:lnTo>
                    <a:lnTo>
                      <a:pt x="373" y="225"/>
                    </a:lnTo>
                    <a:lnTo>
                      <a:pt x="384" y="244"/>
                    </a:lnTo>
                    <a:lnTo>
                      <a:pt x="382" y="258"/>
                    </a:lnTo>
                    <a:lnTo>
                      <a:pt x="369" y="277"/>
                    </a:lnTo>
                    <a:lnTo>
                      <a:pt x="371" y="296"/>
                    </a:lnTo>
                    <a:lnTo>
                      <a:pt x="393" y="315"/>
                    </a:lnTo>
                    <a:lnTo>
                      <a:pt x="395" y="334"/>
                    </a:lnTo>
                    <a:lnTo>
                      <a:pt x="390" y="344"/>
                    </a:lnTo>
                    <a:lnTo>
                      <a:pt x="367" y="346"/>
                    </a:lnTo>
                    <a:lnTo>
                      <a:pt x="351" y="337"/>
                    </a:lnTo>
                    <a:lnTo>
                      <a:pt x="332" y="313"/>
                    </a:lnTo>
                    <a:lnTo>
                      <a:pt x="325" y="313"/>
                    </a:lnTo>
                    <a:lnTo>
                      <a:pt x="315" y="303"/>
                    </a:lnTo>
                    <a:lnTo>
                      <a:pt x="306" y="275"/>
                    </a:lnTo>
                    <a:lnTo>
                      <a:pt x="295" y="265"/>
                    </a:lnTo>
                    <a:lnTo>
                      <a:pt x="271" y="251"/>
                    </a:lnTo>
                    <a:lnTo>
                      <a:pt x="250" y="242"/>
                    </a:lnTo>
                    <a:lnTo>
                      <a:pt x="221" y="216"/>
                    </a:lnTo>
                    <a:lnTo>
                      <a:pt x="208" y="197"/>
                    </a:lnTo>
                    <a:lnTo>
                      <a:pt x="210" y="182"/>
                    </a:lnTo>
                    <a:lnTo>
                      <a:pt x="223" y="171"/>
                    </a:lnTo>
                    <a:lnTo>
                      <a:pt x="211" y="156"/>
                    </a:lnTo>
                    <a:lnTo>
                      <a:pt x="200" y="164"/>
                    </a:lnTo>
                    <a:lnTo>
                      <a:pt x="182" y="142"/>
                    </a:lnTo>
                    <a:lnTo>
                      <a:pt x="178" y="154"/>
                    </a:lnTo>
                    <a:lnTo>
                      <a:pt x="161" y="154"/>
                    </a:lnTo>
                    <a:lnTo>
                      <a:pt x="158" y="145"/>
                    </a:lnTo>
                    <a:lnTo>
                      <a:pt x="158" y="128"/>
                    </a:lnTo>
                    <a:lnTo>
                      <a:pt x="150" y="118"/>
                    </a:lnTo>
                    <a:lnTo>
                      <a:pt x="139" y="121"/>
                    </a:lnTo>
                    <a:lnTo>
                      <a:pt x="124" y="95"/>
                    </a:lnTo>
                    <a:lnTo>
                      <a:pt x="113" y="92"/>
                    </a:lnTo>
                    <a:lnTo>
                      <a:pt x="96" y="81"/>
                    </a:lnTo>
                    <a:lnTo>
                      <a:pt x="61" y="83"/>
                    </a:lnTo>
                    <a:lnTo>
                      <a:pt x="26" y="81"/>
                    </a:lnTo>
                    <a:lnTo>
                      <a:pt x="0" y="71"/>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672280" y="2308320"/>
                <a:ext cx="360000" cy="255240"/>
              </a:xfrm>
              <a:custGeom>
                <a:avLst/>
                <a:gdLst/>
                <a:ahLst/>
                <a:rect l="l" t="t" r="r" b="b"/>
                <a:pathLst>
                  <a:path w="262" h="178">
                    <a:moveTo>
                      <a:pt x="9" y="0"/>
                    </a:moveTo>
                    <a:lnTo>
                      <a:pt x="0" y="14"/>
                    </a:lnTo>
                    <a:lnTo>
                      <a:pt x="0" y="31"/>
                    </a:lnTo>
                    <a:lnTo>
                      <a:pt x="18" y="47"/>
                    </a:lnTo>
                    <a:lnTo>
                      <a:pt x="29" y="42"/>
                    </a:lnTo>
                    <a:lnTo>
                      <a:pt x="33" y="50"/>
                    </a:lnTo>
                    <a:lnTo>
                      <a:pt x="44" y="52"/>
                    </a:lnTo>
                    <a:lnTo>
                      <a:pt x="51" y="40"/>
                    </a:lnTo>
                    <a:lnTo>
                      <a:pt x="77" y="42"/>
                    </a:lnTo>
                    <a:lnTo>
                      <a:pt x="81" y="54"/>
                    </a:lnTo>
                    <a:lnTo>
                      <a:pt x="90" y="59"/>
                    </a:lnTo>
                    <a:lnTo>
                      <a:pt x="112" y="57"/>
                    </a:lnTo>
                    <a:lnTo>
                      <a:pt x="119" y="64"/>
                    </a:lnTo>
                    <a:lnTo>
                      <a:pt x="131" y="71"/>
                    </a:lnTo>
                    <a:lnTo>
                      <a:pt x="140" y="85"/>
                    </a:lnTo>
                    <a:lnTo>
                      <a:pt x="140" y="104"/>
                    </a:lnTo>
                    <a:lnTo>
                      <a:pt x="132" y="109"/>
                    </a:lnTo>
                    <a:lnTo>
                      <a:pt x="136" y="116"/>
                    </a:lnTo>
                    <a:lnTo>
                      <a:pt x="125" y="127"/>
                    </a:lnTo>
                    <a:lnTo>
                      <a:pt x="125" y="144"/>
                    </a:lnTo>
                    <a:lnTo>
                      <a:pt x="142" y="146"/>
                    </a:lnTo>
                    <a:lnTo>
                      <a:pt x="151" y="142"/>
                    </a:lnTo>
                    <a:lnTo>
                      <a:pt x="154" y="135"/>
                    </a:lnTo>
                    <a:lnTo>
                      <a:pt x="160" y="142"/>
                    </a:lnTo>
                    <a:lnTo>
                      <a:pt x="169" y="137"/>
                    </a:lnTo>
                    <a:lnTo>
                      <a:pt x="189" y="146"/>
                    </a:lnTo>
                    <a:lnTo>
                      <a:pt x="202" y="163"/>
                    </a:lnTo>
                    <a:lnTo>
                      <a:pt x="206" y="163"/>
                    </a:lnTo>
                    <a:lnTo>
                      <a:pt x="208" y="172"/>
                    </a:lnTo>
                    <a:lnTo>
                      <a:pt x="221" y="177"/>
                    </a:lnTo>
                    <a:lnTo>
                      <a:pt x="235" y="177"/>
                    </a:lnTo>
                    <a:lnTo>
                      <a:pt x="226" y="168"/>
                    </a:lnTo>
                    <a:lnTo>
                      <a:pt x="230" y="158"/>
                    </a:lnTo>
                    <a:lnTo>
                      <a:pt x="241" y="168"/>
                    </a:lnTo>
                    <a:lnTo>
                      <a:pt x="254" y="170"/>
                    </a:lnTo>
                    <a:lnTo>
                      <a:pt x="255" y="156"/>
                    </a:lnTo>
                    <a:lnTo>
                      <a:pt x="243" y="144"/>
                    </a:lnTo>
                    <a:lnTo>
                      <a:pt x="233" y="144"/>
                    </a:lnTo>
                    <a:lnTo>
                      <a:pt x="221" y="132"/>
                    </a:lnTo>
                    <a:lnTo>
                      <a:pt x="233" y="132"/>
                    </a:lnTo>
                    <a:lnTo>
                      <a:pt x="243" y="139"/>
                    </a:lnTo>
                    <a:lnTo>
                      <a:pt x="261" y="139"/>
                    </a:lnTo>
                    <a:lnTo>
                      <a:pt x="257" y="125"/>
                    </a:lnTo>
                    <a:lnTo>
                      <a:pt x="241" y="111"/>
                    </a:lnTo>
                    <a:lnTo>
                      <a:pt x="230" y="109"/>
                    </a:lnTo>
                    <a:lnTo>
                      <a:pt x="213" y="92"/>
                    </a:lnTo>
                    <a:lnTo>
                      <a:pt x="193" y="87"/>
                    </a:lnTo>
                    <a:lnTo>
                      <a:pt x="176" y="80"/>
                    </a:lnTo>
                    <a:lnTo>
                      <a:pt x="164" y="59"/>
                    </a:lnTo>
                    <a:lnTo>
                      <a:pt x="154" y="33"/>
                    </a:lnTo>
                    <a:lnTo>
                      <a:pt x="142" y="33"/>
                    </a:lnTo>
                    <a:lnTo>
                      <a:pt x="138" y="26"/>
                    </a:lnTo>
                    <a:lnTo>
                      <a:pt x="131" y="28"/>
                    </a:lnTo>
                    <a:lnTo>
                      <a:pt x="118" y="17"/>
                    </a:lnTo>
                    <a:lnTo>
                      <a:pt x="96" y="12"/>
                    </a:lnTo>
                    <a:lnTo>
                      <a:pt x="86" y="19"/>
                    </a:lnTo>
                    <a:lnTo>
                      <a:pt x="66" y="12"/>
                    </a:lnTo>
                    <a:lnTo>
                      <a:pt x="53" y="12"/>
                    </a:lnTo>
                    <a:lnTo>
                      <a:pt x="48" y="2"/>
                    </a:lnTo>
                    <a:lnTo>
                      <a:pt x="42" y="0"/>
                    </a:lnTo>
                    <a:lnTo>
                      <a:pt x="33" y="2"/>
                    </a:lnTo>
                    <a:lnTo>
                      <a:pt x="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877120" y="3731760"/>
                <a:ext cx="255240" cy="118800"/>
              </a:xfrm>
              <a:custGeom>
                <a:avLst/>
                <a:gdLst/>
                <a:ahLst/>
                <a:rect l="l" t="t" r="r" b="b"/>
                <a:pathLst>
                  <a:path w="186" h="83">
                    <a:moveTo>
                      <a:pt x="0" y="41"/>
                    </a:moveTo>
                    <a:lnTo>
                      <a:pt x="16" y="17"/>
                    </a:lnTo>
                    <a:lnTo>
                      <a:pt x="24" y="17"/>
                    </a:lnTo>
                    <a:lnTo>
                      <a:pt x="37" y="5"/>
                    </a:lnTo>
                    <a:lnTo>
                      <a:pt x="51" y="5"/>
                    </a:lnTo>
                    <a:lnTo>
                      <a:pt x="55" y="2"/>
                    </a:lnTo>
                    <a:lnTo>
                      <a:pt x="60" y="0"/>
                    </a:lnTo>
                    <a:lnTo>
                      <a:pt x="79" y="14"/>
                    </a:lnTo>
                    <a:lnTo>
                      <a:pt x="84" y="24"/>
                    </a:lnTo>
                    <a:lnTo>
                      <a:pt x="88" y="19"/>
                    </a:lnTo>
                    <a:lnTo>
                      <a:pt x="103" y="29"/>
                    </a:lnTo>
                    <a:lnTo>
                      <a:pt x="112" y="29"/>
                    </a:lnTo>
                    <a:lnTo>
                      <a:pt x="119" y="36"/>
                    </a:lnTo>
                    <a:lnTo>
                      <a:pt x="132" y="41"/>
                    </a:lnTo>
                    <a:lnTo>
                      <a:pt x="132" y="53"/>
                    </a:lnTo>
                    <a:lnTo>
                      <a:pt x="156" y="53"/>
                    </a:lnTo>
                    <a:lnTo>
                      <a:pt x="161" y="65"/>
                    </a:lnTo>
                    <a:lnTo>
                      <a:pt x="176" y="65"/>
                    </a:lnTo>
                    <a:lnTo>
                      <a:pt x="185" y="80"/>
                    </a:lnTo>
                    <a:lnTo>
                      <a:pt x="180" y="82"/>
                    </a:lnTo>
                    <a:lnTo>
                      <a:pt x="176" y="77"/>
                    </a:lnTo>
                    <a:lnTo>
                      <a:pt x="174" y="75"/>
                    </a:lnTo>
                    <a:lnTo>
                      <a:pt x="161" y="77"/>
                    </a:lnTo>
                    <a:lnTo>
                      <a:pt x="158" y="80"/>
                    </a:lnTo>
                    <a:lnTo>
                      <a:pt x="147" y="82"/>
                    </a:lnTo>
                    <a:lnTo>
                      <a:pt x="130" y="82"/>
                    </a:lnTo>
                    <a:lnTo>
                      <a:pt x="119" y="82"/>
                    </a:lnTo>
                    <a:lnTo>
                      <a:pt x="119" y="75"/>
                    </a:lnTo>
                    <a:lnTo>
                      <a:pt x="103" y="55"/>
                    </a:lnTo>
                    <a:lnTo>
                      <a:pt x="103" y="43"/>
                    </a:lnTo>
                    <a:lnTo>
                      <a:pt x="84" y="43"/>
                    </a:lnTo>
                    <a:lnTo>
                      <a:pt x="77" y="36"/>
                    </a:lnTo>
                    <a:lnTo>
                      <a:pt x="71" y="43"/>
                    </a:lnTo>
                    <a:lnTo>
                      <a:pt x="66" y="34"/>
                    </a:lnTo>
                    <a:lnTo>
                      <a:pt x="60" y="34"/>
                    </a:lnTo>
                    <a:lnTo>
                      <a:pt x="60" y="22"/>
                    </a:lnTo>
                    <a:lnTo>
                      <a:pt x="55" y="17"/>
                    </a:lnTo>
                    <a:lnTo>
                      <a:pt x="38" y="19"/>
                    </a:lnTo>
                    <a:lnTo>
                      <a:pt x="27" y="34"/>
                    </a:lnTo>
                    <a:lnTo>
                      <a:pt x="15" y="36"/>
                    </a:lnTo>
                    <a:lnTo>
                      <a:pt x="0" y="41"/>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099600" y="3816360"/>
                <a:ext cx="170280" cy="101520"/>
              </a:xfrm>
              <a:custGeom>
                <a:avLst/>
                <a:gdLst/>
                <a:ahLst/>
                <a:rect l="l" t="t" r="r" b="b"/>
                <a:pathLst>
                  <a:path w="124" h="71">
                    <a:moveTo>
                      <a:pt x="0" y="53"/>
                    </a:moveTo>
                    <a:lnTo>
                      <a:pt x="12" y="56"/>
                    </a:lnTo>
                    <a:lnTo>
                      <a:pt x="38" y="53"/>
                    </a:lnTo>
                    <a:lnTo>
                      <a:pt x="50" y="68"/>
                    </a:lnTo>
                    <a:lnTo>
                      <a:pt x="65" y="70"/>
                    </a:lnTo>
                    <a:lnTo>
                      <a:pt x="73" y="53"/>
                    </a:lnTo>
                    <a:lnTo>
                      <a:pt x="69" y="48"/>
                    </a:lnTo>
                    <a:lnTo>
                      <a:pt x="77" y="41"/>
                    </a:lnTo>
                    <a:lnTo>
                      <a:pt x="92" y="53"/>
                    </a:lnTo>
                    <a:lnTo>
                      <a:pt x="104" y="53"/>
                    </a:lnTo>
                    <a:lnTo>
                      <a:pt x="104" y="46"/>
                    </a:lnTo>
                    <a:lnTo>
                      <a:pt x="111" y="46"/>
                    </a:lnTo>
                    <a:lnTo>
                      <a:pt x="123" y="34"/>
                    </a:lnTo>
                    <a:lnTo>
                      <a:pt x="115" y="31"/>
                    </a:lnTo>
                    <a:lnTo>
                      <a:pt x="115" y="19"/>
                    </a:lnTo>
                    <a:lnTo>
                      <a:pt x="115" y="10"/>
                    </a:lnTo>
                    <a:lnTo>
                      <a:pt x="98" y="7"/>
                    </a:lnTo>
                    <a:lnTo>
                      <a:pt x="85" y="10"/>
                    </a:lnTo>
                    <a:lnTo>
                      <a:pt x="73" y="10"/>
                    </a:lnTo>
                    <a:lnTo>
                      <a:pt x="56" y="7"/>
                    </a:lnTo>
                    <a:lnTo>
                      <a:pt x="42" y="0"/>
                    </a:lnTo>
                    <a:lnTo>
                      <a:pt x="38" y="7"/>
                    </a:lnTo>
                    <a:lnTo>
                      <a:pt x="37" y="22"/>
                    </a:lnTo>
                    <a:lnTo>
                      <a:pt x="23" y="22"/>
                    </a:lnTo>
                    <a:lnTo>
                      <a:pt x="19" y="34"/>
                    </a:lnTo>
                    <a:lnTo>
                      <a:pt x="12" y="39"/>
                    </a:lnTo>
                    <a:lnTo>
                      <a:pt x="0" y="5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996640" y="4100400"/>
                <a:ext cx="1054080" cy="2071800"/>
              </a:xfrm>
              <a:custGeom>
                <a:avLst/>
                <a:gdLst/>
                <a:ahLst/>
                <a:rect l="l" t="t" r="r" b="b"/>
                <a:pathLst>
                  <a:path w="767" h="1444">
                    <a:moveTo>
                      <a:pt x="60" y="64"/>
                    </a:moveTo>
                    <a:lnTo>
                      <a:pt x="69" y="47"/>
                    </a:lnTo>
                    <a:lnTo>
                      <a:pt x="88" y="24"/>
                    </a:lnTo>
                    <a:lnTo>
                      <a:pt x="116" y="9"/>
                    </a:lnTo>
                    <a:lnTo>
                      <a:pt x="130" y="0"/>
                    </a:lnTo>
                    <a:lnTo>
                      <a:pt x="145" y="2"/>
                    </a:lnTo>
                    <a:lnTo>
                      <a:pt x="142" y="14"/>
                    </a:lnTo>
                    <a:lnTo>
                      <a:pt x="125" y="26"/>
                    </a:lnTo>
                    <a:lnTo>
                      <a:pt x="121" y="50"/>
                    </a:lnTo>
                    <a:lnTo>
                      <a:pt x="125" y="69"/>
                    </a:lnTo>
                    <a:lnTo>
                      <a:pt x="140" y="69"/>
                    </a:lnTo>
                    <a:lnTo>
                      <a:pt x="145" y="47"/>
                    </a:lnTo>
                    <a:lnTo>
                      <a:pt x="149" y="26"/>
                    </a:lnTo>
                    <a:lnTo>
                      <a:pt x="158" y="33"/>
                    </a:lnTo>
                    <a:lnTo>
                      <a:pt x="170" y="45"/>
                    </a:lnTo>
                    <a:lnTo>
                      <a:pt x="188" y="40"/>
                    </a:lnTo>
                    <a:lnTo>
                      <a:pt x="199" y="50"/>
                    </a:lnTo>
                    <a:lnTo>
                      <a:pt x="203" y="62"/>
                    </a:lnTo>
                    <a:lnTo>
                      <a:pt x="231" y="57"/>
                    </a:lnTo>
                    <a:lnTo>
                      <a:pt x="287" y="50"/>
                    </a:lnTo>
                    <a:lnTo>
                      <a:pt x="308" y="88"/>
                    </a:lnTo>
                    <a:lnTo>
                      <a:pt x="343" y="107"/>
                    </a:lnTo>
                    <a:lnTo>
                      <a:pt x="341" y="123"/>
                    </a:lnTo>
                    <a:lnTo>
                      <a:pt x="356" y="114"/>
                    </a:lnTo>
                    <a:lnTo>
                      <a:pt x="373" y="114"/>
                    </a:lnTo>
                    <a:lnTo>
                      <a:pt x="393" y="131"/>
                    </a:lnTo>
                    <a:lnTo>
                      <a:pt x="417" y="128"/>
                    </a:lnTo>
                    <a:lnTo>
                      <a:pt x="438" y="131"/>
                    </a:lnTo>
                    <a:lnTo>
                      <a:pt x="472" y="161"/>
                    </a:lnTo>
                    <a:lnTo>
                      <a:pt x="507" y="199"/>
                    </a:lnTo>
                    <a:lnTo>
                      <a:pt x="522" y="242"/>
                    </a:lnTo>
                    <a:lnTo>
                      <a:pt x="513" y="275"/>
                    </a:lnTo>
                    <a:lnTo>
                      <a:pt x="555" y="287"/>
                    </a:lnTo>
                    <a:lnTo>
                      <a:pt x="626" y="304"/>
                    </a:lnTo>
                    <a:lnTo>
                      <a:pt x="699" y="323"/>
                    </a:lnTo>
                    <a:lnTo>
                      <a:pt x="745" y="361"/>
                    </a:lnTo>
                    <a:lnTo>
                      <a:pt x="766" y="396"/>
                    </a:lnTo>
                    <a:lnTo>
                      <a:pt x="766" y="441"/>
                    </a:lnTo>
                    <a:lnTo>
                      <a:pt x="747" y="482"/>
                    </a:lnTo>
                    <a:lnTo>
                      <a:pt x="727" y="503"/>
                    </a:lnTo>
                    <a:lnTo>
                      <a:pt x="714" y="517"/>
                    </a:lnTo>
                    <a:lnTo>
                      <a:pt x="699" y="546"/>
                    </a:lnTo>
                    <a:lnTo>
                      <a:pt x="697" y="572"/>
                    </a:lnTo>
                    <a:lnTo>
                      <a:pt x="699" y="605"/>
                    </a:lnTo>
                    <a:lnTo>
                      <a:pt x="691" y="638"/>
                    </a:lnTo>
                    <a:lnTo>
                      <a:pt x="680" y="646"/>
                    </a:lnTo>
                    <a:lnTo>
                      <a:pt x="677" y="665"/>
                    </a:lnTo>
                    <a:lnTo>
                      <a:pt x="663" y="679"/>
                    </a:lnTo>
                    <a:lnTo>
                      <a:pt x="662" y="695"/>
                    </a:lnTo>
                    <a:lnTo>
                      <a:pt x="645" y="714"/>
                    </a:lnTo>
                    <a:lnTo>
                      <a:pt x="619" y="748"/>
                    </a:lnTo>
                    <a:lnTo>
                      <a:pt x="596" y="757"/>
                    </a:lnTo>
                    <a:lnTo>
                      <a:pt x="581" y="755"/>
                    </a:lnTo>
                    <a:lnTo>
                      <a:pt x="554" y="771"/>
                    </a:lnTo>
                    <a:lnTo>
                      <a:pt x="526" y="809"/>
                    </a:lnTo>
                    <a:lnTo>
                      <a:pt x="520" y="824"/>
                    </a:lnTo>
                    <a:lnTo>
                      <a:pt x="520" y="843"/>
                    </a:lnTo>
                    <a:lnTo>
                      <a:pt x="526" y="864"/>
                    </a:lnTo>
                    <a:lnTo>
                      <a:pt x="513" y="885"/>
                    </a:lnTo>
                    <a:lnTo>
                      <a:pt x="513" y="902"/>
                    </a:lnTo>
                    <a:lnTo>
                      <a:pt x="490" y="921"/>
                    </a:lnTo>
                    <a:lnTo>
                      <a:pt x="473" y="935"/>
                    </a:lnTo>
                    <a:lnTo>
                      <a:pt x="460" y="956"/>
                    </a:lnTo>
                    <a:lnTo>
                      <a:pt x="455" y="978"/>
                    </a:lnTo>
                    <a:lnTo>
                      <a:pt x="436" y="1004"/>
                    </a:lnTo>
                    <a:lnTo>
                      <a:pt x="429" y="999"/>
                    </a:lnTo>
                    <a:lnTo>
                      <a:pt x="414" y="999"/>
                    </a:lnTo>
                    <a:lnTo>
                      <a:pt x="395" y="1009"/>
                    </a:lnTo>
                    <a:lnTo>
                      <a:pt x="408" y="1021"/>
                    </a:lnTo>
                    <a:lnTo>
                      <a:pt x="408" y="1044"/>
                    </a:lnTo>
                    <a:lnTo>
                      <a:pt x="406" y="1063"/>
                    </a:lnTo>
                    <a:lnTo>
                      <a:pt x="397" y="1078"/>
                    </a:lnTo>
                    <a:lnTo>
                      <a:pt x="373" y="1080"/>
                    </a:lnTo>
                    <a:lnTo>
                      <a:pt x="354" y="1087"/>
                    </a:lnTo>
                    <a:lnTo>
                      <a:pt x="345" y="1101"/>
                    </a:lnTo>
                    <a:lnTo>
                      <a:pt x="345" y="1125"/>
                    </a:lnTo>
                    <a:lnTo>
                      <a:pt x="322" y="1127"/>
                    </a:lnTo>
                    <a:lnTo>
                      <a:pt x="304" y="1125"/>
                    </a:lnTo>
                    <a:lnTo>
                      <a:pt x="298" y="1134"/>
                    </a:lnTo>
                    <a:lnTo>
                      <a:pt x="308" y="1144"/>
                    </a:lnTo>
                    <a:lnTo>
                      <a:pt x="302" y="1180"/>
                    </a:lnTo>
                    <a:lnTo>
                      <a:pt x="294" y="1210"/>
                    </a:lnTo>
                    <a:lnTo>
                      <a:pt x="270" y="1210"/>
                    </a:lnTo>
                    <a:lnTo>
                      <a:pt x="263" y="1222"/>
                    </a:lnTo>
                    <a:lnTo>
                      <a:pt x="265" y="1246"/>
                    </a:lnTo>
                    <a:lnTo>
                      <a:pt x="278" y="1246"/>
                    </a:lnTo>
                    <a:lnTo>
                      <a:pt x="287" y="1260"/>
                    </a:lnTo>
                    <a:lnTo>
                      <a:pt x="281" y="1284"/>
                    </a:lnTo>
                    <a:lnTo>
                      <a:pt x="268" y="1286"/>
                    </a:lnTo>
                    <a:lnTo>
                      <a:pt x="248" y="1296"/>
                    </a:lnTo>
                    <a:lnTo>
                      <a:pt x="242" y="1315"/>
                    </a:lnTo>
                    <a:lnTo>
                      <a:pt x="240" y="1343"/>
                    </a:lnTo>
                    <a:lnTo>
                      <a:pt x="227" y="1358"/>
                    </a:lnTo>
                    <a:lnTo>
                      <a:pt x="274" y="1405"/>
                    </a:lnTo>
                    <a:lnTo>
                      <a:pt x="287" y="1429"/>
                    </a:lnTo>
                    <a:lnTo>
                      <a:pt x="280" y="1443"/>
                    </a:lnTo>
                    <a:lnTo>
                      <a:pt x="259" y="1434"/>
                    </a:lnTo>
                    <a:lnTo>
                      <a:pt x="242" y="1415"/>
                    </a:lnTo>
                    <a:lnTo>
                      <a:pt x="218" y="1400"/>
                    </a:lnTo>
                    <a:lnTo>
                      <a:pt x="196" y="1377"/>
                    </a:lnTo>
                    <a:lnTo>
                      <a:pt x="181" y="1348"/>
                    </a:lnTo>
                    <a:lnTo>
                      <a:pt x="179" y="1324"/>
                    </a:lnTo>
                    <a:lnTo>
                      <a:pt x="183" y="1305"/>
                    </a:lnTo>
                    <a:lnTo>
                      <a:pt x="181" y="1151"/>
                    </a:lnTo>
                    <a:lnTo>
                      <a:pt x="175" y="1125"/>
                    </a:lnTo>
                    <a:lnTo>
                      <a:pt x="158" y="1096"/>
                    </a:lnTo>
                    <a:lnTo>
                      <a:pt x="158" y="1070"/>
                    </a:lnTo>
                    <a:lnTo>
                      <a:pt x="170" y="1040"/>
                    </a:lnTo>
                    <a:lnTo>
                      <a:pt x="179" y="1002"/>
                    </a:lnTo>
                    <a:lnTo>
                      <a:pt x="175" y="964"/>
                    </a:lnTo>
                    <a:lnTo>
                      <a:pt x="173" y="947"/>
                    </a:lnTo>
                    <a:lnTo>
                      <a:pt x="171" y="926"/>
                    </a:lnTo>
                    <a:lnTo>
                      <a:pt x="177" y="916"/>
                    </a:lnTo>
                    <a:lnTo>
                      <a:pt x="181" y="873"/>
                    </a:lnTo>
                    <a:lnTo>
                      <a:pt x="177" y="852"/>
                    </a:lnTo>
                    <a:lnTo>
                      <a:pt x="185" y="800"/>
                    </a:lnTo>
                    <a:lnTo>
                      <a:pt x="177" y="755"/>
                    </a:lnTo>
                    <a:lnTo>
                      <a:pt x="183" y="731"/>
                    </a:lnTo>
                    <a:lnTo>
                      <a:pt x="192" y="686"/>
                    </a:lnTo>
                    <a:lnTo>
                      <a:pt x="183" y="657"/>
                    </a:lnTo>
                    <a:lnTo>
                      <a:pt x="164" y="636"/>
                    </a:lnTo>
                    <a:lnTo>
                      <a:pt x="158" y="612"/>
                    </a:lnTo>
                    <a:lnTo>
                      <a:pt x="138" y="591"/>
                    </a:lnTo>
                    <a:lnTo>
                      <a:pt x="116" y="577"/>
                    </a:lnTo>
                    <a:lnTo>
                      <a:pt x="84" y="570"/>
                    </a:lnTo>
                    <a:lnTo>
                      <a:pt x="69" y="539"/>
                    </a:lnTo>
                    <a:lnTo>
                      <a:pt x="48" y="508"/>
                    </a:lnTo>
                    <a:lnTo>
                      <a:pt x="47" y="482"/>
                    </a:lnTo>
                    <a:lnTo>
                      <a:pt x="45" y="458"/>
                    </a:lnTo>
                    <a:lnTo>
                      <a:pt x="39" y="441"/>
                    </a:lnTo>
                    <a:lnTo>
                      <a:pt x="28" y="422"/>
                    </a:lnTo>
                    <a:lnTo>
                      <a:pt x="13" y="413"/>
                    </a:lnTo>
                    <a:lnTo>
                      <a:pt x="2" y="394"/>
                    </a:lnTo>
                    <a:lnTo>
                      <a:pt x="15" y="377"/>
                    </a:lnTo>
                    <a:lnTo>
                      <a:pt x="15" y="337"/>
                    </a:lnTo>
                    <a:lnTo>
                      <a:pt x="7" y="316"/>
                    </a:lnTo>
                    <a:lnTo>
                      <a:pt x="0" y="294"/>
                    </a:lnTo>
                    <a:lnTo>
                      <a:pt x="7" y="263"/>
                    </a:lnTo>
                    <a:lnTo>
                      <a:pt x="37" y="187"/>
                    </a:lnTo>
                    <a:lnTo>
                      <a:pt x="39" y="154"/>
                    </a:lnTo>
                    <a:lnTo>
                      <a:pt x="56" y="119"/>
                    </a:lnTo>
                    <a:lnTo>
                      <a:pt x="56" y="100"/>
                    </a:lnTo>
                    <a:lnTo>
                      <a:pt x="60" y="6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2" name=""/>
            <p:cNvGrpSpPr/>
            <p:nvPr/>
          </p:nvGrpSpPr>
          <p:grpSpPr>
            <a:xfrm>
              <a:off x="4519800" y="2136240"/>
              <a:ext cx="4394520" cy="3754800"/>
              <a:chOff x="4519800" y="2136240"/>
              <a:chExt cx="4394520" cy="3754800"/>
            </a:xfrm>
          </p:grpSpPr>
          <p:grpSp>
            <p:nvGrpSpPr>
              <p:cNvPr id="183" name=""/>
              <p:cNvGrpSpPr/>
              <p:nvPr/>
            </p:nvGrpSpPr>
            <p:grpSpPr>
              <a:xfrm>
                <a:off x="8269560" y="4523040"/>
                <a:ext cx="644760" cy="1368000"/>
                <a:chOff x="8269560" y="4523040"/>
                <a:chExt cx="644760" cy="1368000"/>
              </a:xfrm>
            </p:grpSpPr>
            <p:grpSp>
              <p:nvGrpSpPr>
                <p:cNvPr id="184" name=""/>
                <p:cNvGrpSpPr/>
                <p:nvPr/>
              </p:nvGrpSpPr>
              <p:grpSpPr>
                <a:xfrm>
                  <a:off x="8269560" y="5489280"/>
                  <a:ext cx="644760" cy="401760"/>
                  <a:chOff x="8269560" y="5489280"/>
                  <a:chExt cx="644760" cy="401760"/>
                </a:xfrm>
              </p:grpSpPr>
              <p:sp>
                <p:nvSpPr>
                  <p:cNvPr id="185" name=""/>
                  <p:cNvSpPr/>
                  <p:nvPr/>
                </p:nvSpPr>
                <p:spPr>
                  <a:xfrm>
                    <a:off x="8811000" y="5489280"/>
                    <a:ext cx="103320" cy="244440"/>
                  </a:xfrm>
                  <a:custGeom>
                    <a:avLst/>
                    <a:gdLst/>
                    <a:ahLst/>
                    <a:rect l="l" t="t" r="r" b="b"/>
                    <a:pathLst>
                      <a:path w="76" h="170">
                        <a:moveTo>
                          <a:pt x="24" y="2"/>
                        </a:moveTo>
                        <a:lnTo>
                          <a:pt x="32" y="0"/>
                        </a:lnTo>
                        <a:lnTo>
                          <a:pt x="45" y="19"/>
                        </a:lnTo>
                        <a:lnTo>
                          <a:pt x="43" y="73"/>
                        </a:lnTo>
                        <a:lnTo>
                          <a:pt x="53" y="73"/>
                        </a:lnTo>
                        <a:lnTo>
                          <a:pt x="54" y="80"/>
                        </a:lnTo>
                        <a:lnTo>
                          <a:pt x="58" y="92"/>
                        </a:lnTo>
                        <a:lnTo>
                          <a:pt x="60" y="99"/>
                        </a:lnTo>
                        <a:lnTo>
                          <a:pt x="68" y="96"/>
                        </a:lnTo>
                        <a:lnTo>
                          <a:pt x="73" y="85"/>
                        </a:lnTo>
                        <a:lnTo>
                          <a:pt x="75" y="92"/>
                        </a:lnTo>
                        <a:lnTo>
                          <a:pt x="71" y="101"/>
                        </a:lnTo>
                        <a:lnTo>
                          <a:pt x="68" y="108"/>
                        </a:lnTo>
                        <a:lnTo>
                          <a:pt x="66" y="122"/>
                        </a:lnTo>
                        <a:lnTo>
                          <a:pt x="56" y="129"/>
                        </a:lnTo>
                        <a:lnTo>
                          <a:pt x="51" y="131"/>
                        </a:lnTo>
                        <a:lnTo>
                          <a:pt x="43" y="138"/>
                        </a:lnTo>
                        <a:lnTo>
                          <a:pt x="41" y="146"/>
                        </a:lnTo>
                        <a:lnTo>
                          <a:pt x="43" y="153"/>
                        </a:lnTo>
                        <a:lnTo>
                          <a:pt x="45" y="160"/>
                        </a:lnTo>
                        <a:lnTo>
                          <a:pt x="36" y="164"/>
                        </a:lnTo>
                        <a:lnTo>
                          <a:pt x="30" y="167"/>
                        </a:lnTo>
                        <a:lnTo>
                          <a:pt x="24" y="169"/>
                        </a:lnTo>
                        <a:lnTo>
                          <a:pt x="21" y="167"/>
                        </a:lnTo>
                        <a:lnTo>
                          <a:pt x="11" y="164"/>
                        </a:lnTo>
                        <a:lnTo>
                          <a:pt x="8" y="160"/>
                        </a:lnTo>
                        <a:lnTo>
                          <a:pt x="11" y="155"/>
                        </a:lnTo>
                        <a:lnTo>
                          <a:pt x="19" y="153"/>
                        </a:lnTo>
                        <a:lnTo>
                          <a:pt x="24" y="141"/>
                        </a:lnTo>
                        <a:lnTo>
                          <a:pt x="24" y="136"/>
                        </a:lnTo>
                        <a:lnTo>
                          <a:pt x="19" y="131"/>
                        </a:lnTo>
                        <a:lnTo>
                          <a:pt x="11" y="124"/>
                        </a:lnTo>
                        <a:lnTo>
                          <a:pt x="6" y="124"/>
                        </a:lnTo>
                        <a:lnTo>
                          <a:pt x="2" y="122"/>
                        </a:lnTo>
                        <a:lnTo>
                          <a:pt x="0" y="115"/>
                        </a:lnTo>
                        <a:lnTo>
                          <a:pt x="2" y="110"/>
                        </a:lnTo>
                        <a:lnTo>
                          <a:pt x="6" y="110"/>
                        </a:lnTo>
                        <a:lnTo>
                          <a:pt x="11" y="108"/>
                        </a:lnTo>
                        <a:lnTo>
                          <a:pt x="19" y="101"/>
                        </a:lnTo>
                        <a:lnTo>
                          <a:pt x="23" y="99"/>
                        </a:lnTo>
                        <a:lnTo>
                          <a:pt x="26" y="73"/>
                        </a:lnTo>
                        <a:lnTo>
                          <a:pt x="23" y="66"/>
                        </a:lnTo>
                        <a:lnTo>
                          <a:pt x="17" y="61"/>
                        </a:lnTo>
                        <a:lnTo>
                          <a:pt x="15" y="47"/>
                        </a:lnTo>
                        <a:lnTo>
                          <a:pt x="17" y="33"/>
                        </a:lnTo>
                        <a:lnTo>
                          <a:pt x="19" y="23"/>
                        </a:lnTo>
                        <a:lnTo>
                          <a:pt x="24" y="2"/>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8613720" y="5684400"/>
                    <a:ext cx="190440" cy="206640"/>
                  </a:xfrm>
                  <a:custGeom>
                    <a:avLst/>
                    <a:gdLst/>
                    <a:ahLst/>
                    <a:rect l="l" t="t" r="r" b="b"/>
                    <a:pathLst>
                      <a:path w="139" h="144">
                        <a:moveTo>
                          <a:pt x="97" y="0"/>
                        </a:moveTo>
                        <a:lnTo>
                          <a:pt x="114" y="0"/>
                        </a:lnTo>
                        <a:lnTo>
                          <a:pt x="138" y="38"/>
                        </a:lnTo>
                        <a:lnTo>
                          <a:pt x="112" y="70"/>
                        </a:lnTo>
                        <a:lnTo>
                          <a:pt x="112" y="84"/>
                        </a:lnTo>
                        <a:lnTo>
                          <a:pt x="106" y="89"/>
                        </a:lnTo>
                        <a:lnTo>
                          <a:pt x="91" y="89"/>
                        </a:lnTo>
                        <a:lnTo>
                          <a:pt x="73" y="108"/>
                        </a:lnTo>
                        <a:lnTo>
                          <a:pt x="56" y="127"/>
                        </a:lnTo>
                        <a:lnTo>
                          <a:pt x="45" y="143"/>
                        </a:lnTo>
                        <a:lnTo>
                          <a:pt x="45" y="129"/>
                        </a:lnTo>
                        <a:lnTo>
                          <a:pt x="24" y="131"/>
                        </a:lnTo>
                        <a:lnTo>
                          <a:pt x="15" y="131"/>
                        </a:lnTo>
                        <a:lnTo>
                          <a:pt x="0" y="131"/>
                        </a:lnTo>
                        <a:lnTo>
                          <a:pt x="21" y="108"/>
                        </a:lnTo>
                        <a:lnTo>
                          <a:pt x="28" y="96"/>
                        </a:lnTo>
                        <a:lnTo>
                          <a:pt x="35" y="96"/>
                        </a:lnTo>
                        <a:lnTo>
                          <a:pt x="50" y="77"/>
                        </a:lnTo>
                        <a:lnTo>
                          <a:pt x="56" y="77"/>
                        </a:lnTo>
                        <a:lnTo>
                          <a:pt x="56" y="75"/>
                        </a:lnTo>
                        <a:lnTo>
                          <a:pt x="63" y="68"/>
                        </a:lnTo>
                        <a:lnTo>
                          <a:pt x="73" y="68"/>
                        </a:lnTo>
                        <a:lnTo>
                          <a:pt x="69" y="47"/>
                        </a:lnTo>
                        <a:lnTo>
                          <a:pt x="71" y="47"/>
                        </a:lnTo>
                        <a:lnTo>
                          <a:pt x="80" y="35"/>
                        </a:lnTo>
                        <a:lnTo>
                          <a:pt x="84" y="45"/>
                        </a:lnTo>
                        <a:lnTo>
                          <a:pt x="99" y="28"/>
                        </a:lnTo>
                        <a:lnTo>
                          <a:pt x="97"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269560" y="5695920"/>
                    <a:ext cx="73800" cy="110880"/>
                  </a:xfrm>
                  <a:custGeom>
                    <a:avLst/>
                    <a:gdLst/>
                    <a:ahLst/>
                    <a:rect l="l" t="t" r="r" b="b"/>
                    <a:pathLst>
                      <a:path w="54" h="77">
                        <a:moveTo>
                          <a:pt x="0" y="0"/>
                        </a:moveTo>
                        <a:lnTo>
                          <a:pt x="11" y="0"/>
                        </a:lnTo>
                        <a:lnTo>
                          <a:pt x="25" y="10"/>
                        </a:lnTo>
                        <a:lnTo>
                          <a:pt x="53" y="10"/>
                        </a:lnTo>
                        <a:lnTo>
                          <a:pt x="49" y="21"/>
                        </a:lnTo>
                        <a:lnTo>
                          <a:pt x="53" y="36"/>
                        </a:lnTo>
                        <a:lnTo>
                          <a:pt x="44" y="36"/>
                        </a:lnTo>
                        <a:lnTo>
                          <a:pt x="42" y="38"/>
                        </a:lnTo>
                        <a:lnTo>
                          <a:pt x="36" y="40"/>
                        </a:lnTo>
                        <a:lnTo>
                          <a:pt x="42" y="76"/>
                        </a:lnTo>
                        <a:lnTo>
                          <a:pt x="25" y="74"/>
                        </a:lnTo>
                        <a:lnTo>
                          <a:pt x="9" y="62"/>
                        </a:lnTo>
                        <a:lnTo>
                          <a:pt x="9" y="38"/>
                        </a:lnTo>
                        <a:lnTo>
                          <a:pt x="9" y="29"/>
                        </a:lnTo>
                        <a:lnTo>
                          <a:pt x="0"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
                <p:cNvSpPr/>
                <p:nvPr/>
              </p:nvSpPr>
              <p:spPr>
                <a:xfrm>
                  <a:off x="8399880" y="4523040"/>
                  <a:ext cx="116640" cy="122760"/>
                </a:xfrm>
                <a:custGeom>
                  <a:avLst/>
                  <a:gdLst/>
                  <a:ahLst/>
                  <a:rect l="l" t="t" r="r" b="b"/>
                  <a:pathLst>
                    <a:path w="85" h="86">
                      <a:moveTo>
                        <a:pt x="15" y="32"/>
                      </a:moveTo>
                      <a:lnTo>
                        <a:pt x="0" y="68"/>
                      </a:lnTo>
                      <a:lnTo>
                        <a:pt x="6" y="83"/>
                      </a:lnTo>
                      <a:lnTo>
                        <a:pt x="30" y="85"/>
                      </a:lnTo>
                      <a:lnTo>
                        <a:pt x="50" y="85"/>
                      </a:lnTo>
                      <a:lnTo>
                        <a:pt x="58" y="70"/>
                      </a:lnTo>
                      <a:lnTo>
                        <a:pt x="62" y="56"/>
                      </a:lnTo>
                      <a:lnTo>
                        <a:pt x="84" y="56"/>
                      </a:lnTo>
                      <a:lnTo>
                        <a:pt x="80" y="34"/>
                      </a:lnTo>
                      <a:lnTo>
                        <a:pt x="80" y="12"/>
                      </a:lnTo>
                      <a:lnTo>
                        <a:pt x="58" y="0"/>
                      </a:lnTo>
                      <a:lnTo>
                        <a:pt x="56" y="24"/>
                      </a:lnTo>
                      <a:lnTo>
                        <a:pt x="69" y="39"/>
                      </a:lnTo>
                      <a:lnTo>
                        <a:pt x="49" y="39"/>
                      </a:lnTo>
                      <a:lnTo>
                        <a:pt x="41" y="49"/>
                      </a:lnTo>
                      <a:lnTo>
                        <a:pt x="15" y="32"/>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 name=""/>
              <p:cNvGrpSpPr/>
              <p:nvPr/>
            </p:nvGrpSpPr>
            <p:grpSpPr>
              <a:xfrm>
                <a:off x="4519800" y="2136240"/>
                <a:ext cx="3137400" cy="3373200"/>
                <a:chOff x="4519800" y="2136240"/>
                <a:chExt cx="3137400" cy="3373200"/>
              </a:xfrm>
            </p:grpSpPr>
            <p:sp>
              <p:nvSpPr>
                <p:cNvPr id="190" name=""/>
                <p:cNvSpPr/>
                <p:nvPr/>
              </p:nvSpPr>
              <p:spPr>
                <a:xfrm>
                  <a:off x="4519800" y="3315600"/>
                  <a:ext cx="1560960" cy="2193840"/>
                </a:xfrm>
                <a:custGeom>
                  <a:avLst/>
                  <a:gdLst/>
                  <a:ahLst/>
                  <a:rect l="l" t="t" r="r" b="b"/>
                  <a:pathLst>
                    <a:path w="1136" h="1529">
                      <a:moveTo>
                        <a:pt x="848" y="183"/>
                      </a:moveTo>
                      <a:lnTo>
                        <a:pt x="867" y="247"/>
                      </a:lnTo>
                      <a:lnTo>
                        <a:pt x="902" y="344"/>
                      </a:lnTo>
                      <a:lnTo>
                        <a:pt x="973" y="501"/>
                      </a:lnTo>
                      <a:lnTo>
                        <a:pt x="999" y="520"/>
                      </a:lnTo>
                      <a:lnTo>
                        <a:pt x="1016" y="565"/>
                      </a:lnTo>
                      <a:lnTo>
                        <a:pt x="1072" y="562"/>
                      </a:lnTo>
                      <a:lnTo>
                        <a:pt x="1109" y="548"/>
                      </a:lnTo>
                      <a:lnTo>
                        <a:pt x="1135" y="548"/>
                      </a:lnTo>
                      <a:lnTo>
                        <a:pt x="1133" y="610"/>
                      </a:lnTo>
                      <a:lnTo>
                        <a:pt x="1124" y="643"/>
                      </a:lnTo>
                      <a:lnTo>
                        <a:pt x="1022" y="781"/>
                      </a:lnTo>
                      <a:lnTo>
                        <a:pt x="928" y="923"/>
                      </a:lnTo>
                      <a:lnTo>
                        <a:pt x="930" y="978"/>
                      </a:lnTo>
                      <a:lnTo>
                        <a:pt x="956" y="1018"/>
                      </a:lnTo>
                      <a:lnTo>
                        <a:pt x="943" y="1049"/>
                      </a:lnTo>
                      <a:lnTo>
                        <a:pt x="951" y="1089"/>
                      </a:lnTo>
                      <a:lnTo>
                        <a:pt x="943" y="1120"/>
                      </a:lnTo>
                      <a:lnTo>
                        <a:pt x="921" y="1146"/>
                      </a:lnTo>
                      <a:lnTo>
                        <a:pt x="902" y="1146"/>
                      </a:lnTo>
                      <a:lnTo>
                        <a:pt x="871" y="1191"/>
                      </a:lnTo>
                      <a:lnTo>
                        <a:pt x="843" y="1243"/>
                      </a:lnTo>
                      <a:lnTo>
                        <a:pt x="848" y="1300"/>
                      </a:lnTo>
                      <a:lnTo>
                        <a:pt x="821" y="1326"/>
                      </a:lnTo>
                      <a:lnTo>
                        <a:pt x="795" y="1386"/>
                      </a:lnTo>
                      <a:lnTo>
                        <a:pt x="765" y="1440"/>
                      </a:lnTo>
                      <a:lnTo>
                        <a:pt x="748" y="1462"/>
                      </a:lnTo>
                      <a:lnTo>
                        <a:pt x="733" y="1466"/>
                      </a:lnTo>
                      <a:lnTo>
                        <a:pt x="707" y="1502"/>
                      </a:lnTo>
                      <a:lnTo>
                        <a:pt x="664" y="1523"/>
                      </a:lnTo>
                      <a:lnTo>
                        <a:pt x="610" y="1528"/>
                      </a:lnTo>
                      <a:lnTo>
                        <a:pt x="581" y="1504"/>
                      </a:lnTo>
                      <a:lnTo>
                        <a:pt x="577" y="1481"/>
                      </a:lnTo>
                      <a:lnTo>
                        <a:pt x="571" y="1450"/>
                      </a:lnTo>
                      <a:lnTo>
                        <a:pt x="551" y="1433"/>
                      </a:lnTo>
                      <a:lnTo>
                        <a:pt x="534" y="1374"/>
                      </a:lnTo>
                      <a:lnTo>
                        <a:pt x="528" y="1345"/>
                      </a:lnTo>
                      <a:lnTo>
                        <a:pt x="527" y="1310"/>
                      </a:lnTo>
                      <a:lnTo>
                        <a:pt x="517" y="1284"/>
                      </a:lnTo>
                      <a:lnTo>
                        <a:pt x="515" y="1267"/>
                      </a:lnTo>
                      <a:lnTo>
                        <a:pt x="499" y="1241"/>
                      </a:lnTo>
                      <a:lnTo>
                        <a:pt x="480" y="1220"/>
                      </a:lnTo>
                      <a:lnTo>
                        <a:pt x="467" y="1184"/>
                      </a:lnTo>
                      <a:lnTo>
                        <a:pt x="458" y="1158"/>
                      </a:lnTo>
                      <a:lnTo>
                        <a:pt x="461" y="1115"/>
                      </a:lnTo>
                      <a:lnTo>
                        <a:pt x="489" y="1053"/>
                      </a:lnTo>
                      <a:lnTo>
                        <a:pt x="495" y="985"/>
                      </a:lnTo>
                      <a:lnTo>
                        <a:pt x="474" y="906"/>
                      </a:lnTo>
                      <a:lnTo>
                        <a:pt x="445" y="876"/>
                      </a:lnTo>
                      <a:lnTo>
                        <a:pt x="424" y="833"/>
                      </a:lnTo>
                      <a:lnTo>
                        <a:pt x="432" y="766"/>
                      </a:lnTo>
                      <a:lnTo>
                        <a:pt x="417" y="717"/>
                      </a:lnTo>
                      <a:lnTo>
                        <a:pt x="381" y="712"/>
                      </a:lnTo>
                      <a:lnTo>
                        <a:pt x="344" y="674"/>
                      </a:lnTo>
                      <a:lnTo>
                        <a:pt x="298" y="652"/>
                      </a:lnTo>
                      <a:lnTo>
                        <a:pt x="249" y="686"/>
                      </a:lnTo>
                      <a:lnTo>
                        <a:pt x="123" y="676"/>
                      </a:lnTo>
                      <a:lnTo>
                        <a:pt x="54" y="593"/>
                      </a:lnTo>
                      <a:lnTo>
                        <a:pt x="0" y="482"/>
                      </a:lnTo>
                      <a:lnTo>
                        <a:pt x="9" y="444"/>
                      </a:lnTo>
                      <a:lnTo>
                        <a:pt x="33" y="415"/>
                      </a:lnTo>
                      <a:lnTo>
                        <a:pt x="45" y="337"/>
                      </a:lnTo>
                      <a:lnTo>
                        <a:pt x="61" y="280"/>
                      </a:lnTo>
                      <a:lnTo>
                        <a:pt x="110" y="221"/>
                      </a:lnTo>
                      <a:lnTo>
                        <a:pt x="160" y="195"/>
                      </a:lnTo>
                      <a:lnTo>
                        <a:pt x="207" y="133"/>
                      </a:lnTo>
                      <a:lnTo>
                        <a:pt x="218" y="107"/>
                      </a:lnTo>
                      <a:lnTo>
                        <a:pt x="279" y="40"/>
                      </a:lnTo>
                      <a:lnTo>
                        <a:pt x="318" y="66"/>
                      </a:lnTo>
                      <a:lnTo>
                        <a:pt x="346" y="64"/>
                      </a:lnTo>
                      <a:lnTo>
                        <a:pt x="380" y="28"/>
                      </a:lnTo>
                      <a:lnTo>
                        <a:pt x="419" y="24"/>
                      </a:lnTo>
                      <a:lnTo>
                        <a:pt x="445" y="33"/>
                      </a:lnTo>
                      <a:lnTo>
                        <a:pt x="469" y="5"/>
                      </a:lnTo>
                      <a:lnTo>
                        <a:pt x="501" y="0"/>
                      </a:lnTo>
                      <a:lnTo>
                        <a:pt x="508" y="52"/>
                      </a:lnTo>
                      <a:lnTo>
                        <a:pt x="528" y="90"/>
                      </a:lnTo>
                      <a:lnTo>
                        <a:pt x="586" y="128"/>
                      </a:lnTo>
                      <a:lnTo>
                        <a:pt x="634" y="135"/>
                      </a:lnTo>
                      <a:lnTo>
                        <a:pt x="640" y="93"/>
                      </a:lnTo>
                      <a:lnTo>
                        <a:pt x="677" y="93"/>
                      </a:lnTo>
                      <a:lnTo>
                        <a:pt x="722" y="119"/>
                      </a:lnTo>
                      <a:lnTo>
                        <a:pt x="770" y="133"/>
                      </a:lnTo>
                      <a:lnTo>
                        <a:pt x="811" y="116"/>
                      </a:lnTo>
                      <a:lnTo>
                        <a:pt x="848" y="18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1" name=""/>
                <p:cNvGrpSpPr/>
                <p:nvPr/>
              </p:nvGrpSpPr>
              <p:grpSpPr>
                <a:xfrm>
                  <a:off x="4627080" y="2136240"/>
                  <a:ext cx="690120" cy="756360"/>
                  <a:chOff x="4627080" y="2136240"/>
                  <a:chExt cx="690120" cy="756360"/>
                </a:xfrm>
              </p:grpSpPr>
              <p:grpSp>
                <p:nvGrpSpPr>
                  <p:cNvPr id="192" name=""/>
                  <p:cNvGrpSpPr/>
                  <p:nvPr/>
                </p:nvGrpSpPr>
                <p:grpSpPr>
                  <a:xfrm>
                    <a:off x="4898520" y="2608200"/>
                    <a:ext cx="218520" cy="284400"/>
                    <a:chOff x="4898520" y="2608200"/>
                    <a:chExt cx="218520" cy="284400"/>
                  </a:xfrm>
                </p:grpSpPr>
                <p:sp>
                  <p:nvSpPr>
                    <p:cNvPr id="193" name=""/>
                    <p:cNvSpPr/>
                    <p:nvPr/>
                  </p:nvSpPr>
                  <p:spPr>
                    <a:xfrm>
                      <a:off x="4898520" y="2710800"/>
                      <a:ext cx="103320" cy="161640"/>
                    </a:xfrm>
                    <a:custGeom>
                      <a:avLst/>
                      <a:gdLst/>
                      <a:ahLst/>
                      <a:rect l="l" t="t" r="r" b="b"/>
                      <a:pathLst>
                        <a:path w="75" h="112">
                          <a:moveTo>
                            <a:pt x="17" y="34"/>
                          </a:moveTo>
                          <a:lnTo>
                            <a:pt x="23" y="22"/>
                          </a:lnTo>
                          <a:lnTo>
                            <a:pt x="36" y="22"/>
                          </a:lnTo>
                          <a:lnTo>
                            <a:pt x="55" y="0"/>
                          </a:lnTo>
                          <a:lnTo>
                            <a:pt x="61" y="14"/>
                          </a:lnTo>
                          <a:lnTo>
                            <a:pt x="70" y="14"/>
                          </a:lnTo>
                          <a:lnTo>
                            <a:pt x="74" y="22"/>
                          </a:lnTo>
                          <a:lnTo>
                            <a:pt x="68" y="34"/>
                          </a:lnTo>
                          <a:lnTo>
                            <a:pt x="61" y="39"/>
                          </a:lnTo>
                          <a:lnTo>
                            <a:pt x="61" y="48"/>
                          </a:lnTo>
                          <a:lnTo>
                            <a:pt x="59" y="53"/>
                          </a:lnTo>
                          <a:lnTo>
                            <a:pt x="57" y="60"/>
                          </a:lnTo>
                          <a:lnTo>
                            <a:pt x="61" y="70"/>
                          </a:lnTo>
                          <a:lnTo>
                            <a:pt x="55" y="80"/>
                          </a:lnTo>
                          <a:lnTo>
                            <a:pt x="49" y="84"/>
                          </a:lnTo>
                          <a:lnTo>
                            <a:pt x="44" y="84"/>
                          </a:lnTo>
                          <a:lnTo>
                            <a:pt x="42" y="87"/>
                          </a:lnTo>
                          <a:lnTo>
                            <a:pt x="40" y="94"/>
                          </a:lnTo>
                          <a:lnTo>
                            <a:pt x="30" y="97"/>
                          </a:lnTo>
                          <a:lnTo>
                            <a:pt x="28" y="94"/>
                          </a:lnTo>
                          <a:lnTo>
                            <a:pt x="21" y="101"/>
                          </a:lnTo>
                          <a:lnTo>
                            <a:pt x="19" y="104"/>
                          </a:lnTo>
                          <a:lnTo>
                            <a:pt x="9" y="111"/>
                          </a:lnTo>
                          <a:lnTo>
                            <a:pt x="6" y="111"/>
                          </a:lnTo>
                          <a:lnTo>
                            <a:pt x="4" y="106"/>
                          </a:lnTo>
                          <a:lnTo>
                            <a:pt x="2" y="94"/>
                          </a:lnTo>
                          <a:lnTo>
                            <a:pt x="0" y="92"/>
                          </a:lnTo>
                          <a:lnTo>
                            <a:pt x="0" y="82"/>
                          </a:lnTo>
                          <a:lnTo>
                            <a:pt x="6" y="77"/>
                          </a:lnTo>
                          <a:lnTo>
                            <a:pt x="11" y="72"/>
                          </a:lnTo>
                          <a:lnTo>
                            <a:pt x="15" y="63"/>
                          </a:lnTo>
                          <a:lnTo>
                            <a:pt x="21" y="63"/>
                          </a:lnTo>
                          <a:lnTo>
                            <a:pt x="25" y="65"/>
                          </a:lnTo>
                          <a:lnTo>
                            <a:pt x="30" y="63"/>
                          </a:lnTo>
                          <a:lnTo>
                            <a:pt x="25" y="60"/>
                          </a:lnTo>
                          <a:lnTo>
                            <a:pt x="17" y="3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991760" y="2608200"/>
                      <a:ext cx="125280" cy="284400"/>
                    </a:xfrm>
                    <a:custGeom>
                      <a:avLst/>
                      <a:gdLst/>
                      <a:ahLst/>
                      <a:rect l="l" t="t" r="r" b="b"/>
                      <a:pathLst>
                        <a:path w="91" h="198">
                          <a:moveTo>
                            <a:pt x="29" y="28"/>
                          </a:moveTo>
                          <a:lnTo>
                            <a:pt x="34" y="21"/>
                          </a:lnTo>
                          <a:lnTo>
                            <a:pt x="52" y="24"/>
                          </a:lnTo>
                          <a:lnTo>
                            <a:pt x="56" y="19"/>
                          </a:lnTo>
                          <a:lnTo>
                            <a:pt x="59" y="12"/>
                          </a:lnTo>
                          <a:lnTo>
                            <a:pt x="63" y="12"/>
                          </a:lnTo>
                          <a:lnTo>
                            <a:pt x="67" y="9"/>
                          </a:lnTo>
                          <a:lnTo>
                            <a:pt x="73" y="5"/>
                          </a:lnTo>
                          <a:lnTo>
                            <a:pt x="80" y="0"/>
                          </a:lnTo>
                          <a:lnTo>
                            <a:pt x="90" y="2"/>
                          </a:lnTo>
                          <a:lnTo>
                            <a:pt x="88" y="12"/>
                          </a:lnTo>
                          <a:lnTo>
                            <a:pt x="84" y="19"/>
                          </a:lnTo>
                          <a:lnTo>
                            <a:pt x="80" y="21"/>
                          </a:lnTo>
                          <a:lnTo>
                            <a:pt x="77" y="24"/>
                          </a:lnTo>
                          <a:lnTo>
                            <a:pt x="65" y="28"/>
                          </a:lnTo>
                          <a:lnTo>
                            <a:pt x="65" y="38"/>
                          </a:lnTo>
                          <a:lnTo>
                            <a:pt x="67" y="43"/>
                          </a:lnTo>
                          <a:lnTo>
                            <a:pt x="79" y="38"/>
                          </a:lnTo>
                          <a:lnTo>
                            <a:pt x="88" y="33"/>
                          </a:lnTo>
                          <a:lnTo>
                            <a:pt x="90" y="38"/>
                          </a:lnTo>
                          <a:lnTo>
                            <a:pt x="90" y="52"/>
                          </a:lnTo>
                          <a:lnTo>
                            <a:pt x="82" y="55"/>
                          </a:lnTo>
                          <a:lnTo>
                            <a:pt x="75" y="55"/>
                          </a:lnTo>
                          <a:lnTo>
                            <a:pt x="69" y="62"/>
                          </a:lnTo>
                          <a:lnTo>
                            <a:pt x="67" y="66"/>
                          </a:lnTo>
                          <a:lnTo>
                            <a:pt x="67" y="74"/>
                          </a:lnTo>
                          <a:lnTo>
                            <a:pt x="73" y="83"/>
                          </a:lnTo>
                          <a:lnTo>
                            <a:pt x="79" y="90"/>
                          </a:lnTo>
                          <a:lnTo>
                            <a:pt x="82" y="97"/>
                          </a:lnTo>
                          <a:lnTo>
                            <a:pt x="84" y="107"/>
                          </a:lnTo>
                          <a:lnTo>
                            <a:pt x="86" y="116"/>
                          </a:lnTo>
                          <a:lnTo>
                            <a:pt x="90" y="128"/>
                          </a:lnTo>
                          <a:lnTo>
                            <a:pt x="90" y="145"/>
                          </a:lnTo>
                          <a:lnTo>
                            <a:pt x="86" y="154"/>
                          </a:lnTo>
                          <a:lnTo>
                            <a:pt x="79" y="161"/>
                          </a:lnTo>
                          <a:lnTo>
                            <a:pt x="77" y="166"/>
                          </a:lnTo>
                          <a:lnTo>
                            <a:pt x="80" y="176"/>
                          </a:lnTo>
                          <a:lnTo>
                            <a:pt x="84" y="185"/>
                          </a:lnTo>
                          <a:lnTo>
                            <a:pt x="73" y="185"/>
                          </a:lnTo>
                          <a:lnTo>
                            <a:pt x="63" y="185"/>
                          </a:lnTo>
                          <a:lnTo>
                            <a:pt x="59" y="183"/>
                          </a:lnTo>
                          <a:lnTo>
                            <a:pt x="52" y="183"/>
                          </a:lnTo>
                          <a:lnTo>
                            <a:pt x="42" y="185"/>
                          </a:lnTo>
                          <a:lnTo>
                            <a:pt x="34" y="190"/>
                          </a:lnTo>
                          <a:lnTo>
                            <a:pt x="29" y="190"/>
                          </a:lnTo>
                          <a:lnTo>
                            <a:pt x="25" y="192"/>
                          </a:lnTo>
                          <a:lnTo>
                            <a:pt x="15" y="197"/>
                          </a:lnTo>
                          <a:lnTo>
                            <a:pt x="13" y="195"/>
                          </a:lnTo>
                          <a:lnTo>
                            <a:pt x="10" y="190"/>
                          </a:lnTo>
                          <a:lnTo>
                            <a:pt x="4" y="188"/>
                          </a:lnTo>
                          <a:lnTo>
                            <a:pt x="0" y="185"/>
                          </a:lnTo>
                          <a:lnTo>
                            <a:pt x="0" y="176"/>
                          </a:lnTo>
                          <a:lnTo>
                            <a:pt x="4" y="164"/>
                          </a:lnTo>
                          <a:lnTo>
                            <a:pt x="10" y="164"/>
                          </a:lnTo>
                          <a:lnTo>
                            <a:pt x="15" y="161"/>
                          </a:lnTo>
                          <a:lnTo>
                            <a:pt x="23" y="161"/>
                          </a:lnTo>
                          <a:lnTo>
                            <a:pt x="23" y="159"/>
                          </a:lnTo>
                          <a:lnTo>
                            <a:pt x="15" y="154"/>
                          </a:lnTo>
                          <a:lnTo>
                            <a:pt x="15" y="147"/>
                          </a:lnTo>
                          <a:lnTo>
                            <a:pt x="15" y="142"/>
                          </a:lnTo>
                          <a:lnTo>
                            <a:pt x="23" y="138"/>
                          </a:lnTo>
                          <a:lnTo>
                            <a:pt x="27" y="135"/>
                          </a:lnTo>
                          <a:lnTo>
                            <a:pt x="31" y="133"/>
                          </a:lnTo>
                          <a:lnTo>
                            <a:pt x="36" y="133"/>
                          </a:lnTo>
                          <a:lnTo>
                            <a:pt x="40" y="131"/>
                          </a:lnTo>
                          <a:lnTo>
                            <a:pt x="42" y="112"/>
                          </a:lnTo>
                          <a:lnTo>
                            <a:pt x="48" y="97"/>
                          </a:lnTo>
                          <a:lnTo>
                            <a:pt x="48" y="90"/>
                          </a:lnTo>
                          <a:lnTo>
                            <a:pt x="34" y="88"/>
                          </a:lnTo>
                          <a:lnTo>
                            <a:pt x="38" y="76"/>
                          </a:lnTo>
                          <a:lnTo>
                            <a:pt x="29" y="69"/>
                          </a:lnTo>
                          <a:lnTo>
                            <a:pt x="19" y="71"/>
                          </a:lnTo>
                          <a:lnTo>
                            <a:pt x="31" y="55"/>
                          </a:lnTo>
                          <a:lnTo>
                            <a:pt x="29" y="28"/>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 name=""/>
                  <p:cNvSpPr/>
                  <p:nvPr/>
                </p:nvSpPr>
                <p:spPr>
                  <a:xfrm>
                    <a:off x="4627080" y="2136240"/>
                    <a:ext cx="690120" cy="474480"/>
                  </a:xfrm>
                  <a:custGeom>
                    <a:avLst/>
                    <a:gdLst/>
                    <a:ahLst/>
                    <a:rect l="l" t="t" r="r" b="b"/>
                    <a:pathLst>
                      <a:path w="503" h="331">
                        <a:moveTo>
                          <a:pt x="0" y="330"/>
                        </a:moveTo>
                        <a:lnTo>
                          <a:pt x="32" y="323"/>
                        </a:lnTo>
                        <a:lnTo>
                          <a:pt x="43" y="309"/>
                        </a:lnTo>
                        <a:lnTo>
                          <a:pt x="50" y="299"/>
                        </a:lnTo>
                        <a:lnTo>
                          <a:pt x="54" y="292"/>
                        </a:lnTo>
                        <a:lnTo>
                          <a:pt x="61" y="292"/>
                        </a:lnTo>
                        <a:lnTo>
                          <a:pt x="69" y="285"/>
                        </a:lnTo>
                        <a:lnTo>
                          <a:pt x="78" y="285"/>
                        </a:lnTo>
                        <a:lnTo>
                          <a:pt x="84" y="285"/>
                        </a:lnTo>
                        <a:lnTo>
                          <a:pt x="91" y="285"/>
                        </a:lnTo>
                        <a:lnTo>
                          <a:pt x="95" y="285"/>
                        </a:lnTo>
                        <a:lnTo>
                          <a:pt x="102" y="275"/>
                        </a:lnTo>
                        <a:lnTo>
                          <a:pt x="106" y="268"/>
                        </a:lnTo>
                        <a:lnTo>
                          <a:pt x="115" y="261"/>
                        </a:lnTo>
                        <a:lnTo>
                          <a:pt x="123" y="259"/>
                        </a:lnTo>
                        <a:lnTo>
                          <a:pt x="128" y="254"/>
                        </a:lnTo>
                        <a:lnTo>
                          <a:pt x="136" y="252"/>
                        </a:lnTo>
                        <a:lnTo>
                          <a:pt x="141" y="247"/>
                        </a:lnTo>
                        <a:lnTo>
                          <a:pt x="149" y="242"/>
                        </a:lnTo>
                        <a:lnTo>
                          <a:pt x="156" y="237"/>
                        </a:lnTo>
                        <a:lnTo>
                          <a:pt x="165" y="230"/>
                        </a:lnTo>
                        <a:lnTo>
                          <a:pt x="175" y="233"/>
                        </a:lnTo>
                        <a:lnTo>
                          <a:pt x="190" y="237"/>
                        </a:lnTo>
                        <a:lnTo>
                          <a:pt x="205" y="237"/>
                        </a:lnTo>
                        <a:lnTo>
                          <a:pt x="221" y="230"/>
                        </a:lnTo>
                        <a:lnTo>
                          <a:pt x="229" y="228"/>
                        </a:lnTo>
                        <a:lnTo>
                          <a:pt x="234" y="214"/>
                        </a:lnTo>
                        <a:lnTo>
                          <a:pt x="242" y="204"/>
                        </a:lnTo>
                        <a:lnTo>
                          <a:pt x="255" y="192"/>
                        </a:lnTo>
                        <a:lnTo>
                          <a:pt x="258" y="185"/>
                        </a:lnTo>
                        <a:lnTo>
                          <a:pt x="258" y="176"/>
                        </a:lnTo>
                        <a:lnTo>
                          <a:pt x="270" y="169"/>
                        </a:lnTo>
                        <a:lnTo>
                          <a:pt x="275" y="161"/>
                        </a:lnTo>
                        <a:lnTo>
                          <a:pt x="279" y="154"/>
                        </a:lnTo>
                        <a:lnTo>
                          <a:pt x="283" y="154"/>
                        </a:lnTo>
                        <a:lnTo>
                          <a:pt x="301" y="140"/>
                        </a:lnTo>
                        <a:lnTo>
                          <a:pt x="301" y="154"/>
                        </a:lnTo>
                        <a:lnTo>
                          <a:pt x="297" y="159"/>
                        </a:lnTo>
                        <a:lnTo>
                          <a:pt x="301" y="166"/>
                        </a:lnTo>
                        <a:lnTo>
                          <a:pt x="314" y="169"/>
                        </a:lnTo>
                        <a:lnTo>
                          <a:pt x="322" y="169"/>
                        </a:lnTo>
                        <a:lnTo>
                          <a:pt x="329" y="161"/>
                        </a:lnTo>
                        <a:lnTo>
                          <a:pt x="335" y="154"/>
                        </a:lnTo>
                        <a:lnTo>
                          <a:pt x="335" y="147"/>
                        </a:lnTo>
                        <a:lnTo>
                          <a:pt x="340" y="140"/>
                        </a:lnTo>
                        <a:lnTo>
                          <a:pt x="340" y="133"/>
                        </a:lnTo>
                        <a:lnTo>
                          <a:pt x="346" y="123"/>
                        </a:lnTo>
                        <a:lnTo>
                          <a:pt x="350" y="119"/>
                        </a:lnTo>
                        <a:lnTo>
                          <a:pt x="359" y="119"/>
                        </a:lnTo>
                        <a:lnTo>
                          <a:pt x="377" y="119"/>
                        </a:lnTo>
                        <a:lnTo>
                          <a:pt x="392" y="109"/>
                        </a:lnTo>
                        <a:lnTo>
                          <a:pt x="405" y="95"/>
                        </a:lnTo>
                        <a:lnTo>
                          <a:pt x="420" y="90"/>
                        </a:lnTo>
                        <a:lnTo>
                          <a:pt x="433" y="78"/>
                        </a:lnTo>
                        <a:lnTo>
                          <a:pt x="443" y="59"/>
                        </a:lnTo>
                        <a:lnTo>
                          <a:pt x="463" y="38"/>
                        </a:lnTo>
                        <a:lnTo>
                          <a:pt x="476" y="28"/>
                        </a:lnTo>
                        <a:lnTo>
                          <a:pt x="489" y="19"/>
                        </a:lnTo>
                        <a:lnTo>
                          <a:pt x="502" y="7"/>
                        </a:lnTo>
                        <a:lnTo>
                          <a:pt x="480" y="0"/>
                        </a:lnTo>
                        <a:lnTo>
                          <a:pt x="457" y="0"/>
                        </a:lnTo>
                        <a:lnTo>
                          <a:pt x="435" y="12"/>
                        </a:lnTo>
                        <a:lnTo>
                          <a:pt x="424" y="19"/>
                        </a:lnTo>
                        <a:lnTo>
                          <a:pt x="405" y="24"/>
                        </a:lnTo>
                        <a:lnTo>
                          <a:pt x="385" y="26"/>
                        </a:lnTo>
                        <a:lnTo>
                          <a:pt x="374" y="31"/>
                        </a:lnTo>
                        <a:lnTo>
                          <a:pt x="350" y="43"/>
                        </a:lnTo>
                        <a:lnTo>
                          <a:pt x="335" y="50"/>
                        </a:lnTo>
                        <a:lnTo>
                          <a:pt x="320" y="57"/>
                        </a:lnTo>
                        <a:lnTo>
                          <a:pt x="301" y="62"/>
                        </a:lnTo>
                        <a:lnTo>
                          <a:pt x="283" y="69"/>
                        </a:lnTo>
                        <a:lnTo>
                          <a:pt x="266" y="78"/>
                        </a:lnTo>
                        <a:lnTo>
                          <a:pt x="253" y="90"/>
                        </a:lnTo>
                        <a:lnTo>
                          <a:pt x="242" y="102"/>
                        </a:lnTo>
                        <a:lnTo>
                          <a:pt x="231" y="112"/>
                        </a:lnTo>
                        <a:lnTo>
                          <a:pt x="221" y="119"/>
                        </a:lnTo>
                        <a:lnTo>
                          <a:pt x="201" y="133"/>
                        </a:lnTo>
                        <a:lnTo>
                          <a:pt x="180" y="147"/>
                        </a:lnTo>
                        <a:lnTo>
                          <a:pt x="156" y="161"/>
                        </a:lnTo>
                        <a:lnTo>
                          <a:pt x="139" y="183"/>
                        </a:lnTo>
                        <a:lnTo>
                          <a:pt x="121" y="199"/>
                        </a:lnTo>
                        <a:lnTo>
                          <a:pt x="104" y="209"/>
                        </a:lnTo>
                        <a:lnTo>
                          <a:pt x="87" y="230"/>
                        </a:lnTo>
                        <a:lnTo>
                          <a:pt x="76" y="245"/>
                        </a:lnTo>
                        <a:lnTo>
                          <a:pt x="61" y="259"/>
                        </a:lnTo>
                        <a:lnTo>
                          <a:pt x="46" y="268"/>
                        </a:lnTo>
                        <a:lnTo>
                          <a:pt x="32" y="278"/>
                        </a:lnTo>
                        <a:lnTo>
                          <a:pt x="0" y="33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
                <p:cNvSpPr/>
                <p:nvPr/>
              </p:nvSpPr>
              <p:spPr>
                <a:xfrm>
                  <a:off x="5848920" y="4817160"/>
                  <a:ext cx="205920" cy="461160"/>
                </a:xfrm>
                <a:custGeom>
                  <a:avLst/>
                  <a:gdLst/>
                  <a:ahLst/>
                  <a:rect l="l" t="t" r="r" b="b"/>
                  <a:pathLst>
                    <a:path w="150" h="322">
                      <a:moveTo>
                        <a:pt x="28" y="100"/>
                      </a:moveTo>
                      <a:lnTo>
                        <a:pt x="24" y="164"/>
                      </a:lnTo>
                      <a:lnTo>
                        <a:pt x="11" y="204"/>
                      </a:lnTo>
                      <a:lnTo>
                        <a:pt x="0" y="243"/>
                      </a:lnTo>
                      <a:lnTo>
                        <a:pt x="0" y="271"/>
                      </a:lnTo>
                      <a:lnTo>
                        <a:pt x="4" y="295"/>
                      </a:lnTo>
                      <a:lnTo>
                        <a:pt x="17" y="316"/>
                      </a:lnTo>
                      <a:lnTo>
                        <a:pt x="28" y="319"/>
                      </a:lnTo>
                      <a:lnTo>
                        <a:pt x="37" y="319"/>
                      </a:lnTo>
                      <a:lnTo>
                        <a:pt x="48" y="321"/>
                      </a:lnTo>
                      <a:lnTo>
                        <a:pt x="54" y="304"/>
                      </a:lnTo>
                      <a:lnTo>
                        <a:pt x="60" y="262"/>
                      </a:lnTo>
                      <a:lnTo>
                        <a:pt x="76" y="233"/>
                      </a:lnTo>
                      <a:lnTo>
                        <a:pt x="80" y="190"/>
                      </a:lnTo>
                      <a:lnTo>
                        <a:pt x="88" y="174"/>
                      </a:lnTo>
                      <a:lnTo>
                        <a:pt x="95" y="162"/>
                      </a:lnTo>
                      <a:lnTo>
                        <a:pt x="101" y="131"/>
                      </a:lnTo>
                      <a:lnTo>
                        <a:pt x="112" y="112"/>
                      </a:lnTo>
                      <a:lnTo>
                        <a:pt x="119" y="97"/>
                      </a:lnTo>
                      <a:lnTo>
                        <a:pt x="127" y="86"/>
                      </a:lnTo>
                      <a:lnTo>
                        <a:pt x="127" y="78"/>
                      </a:lnTo>
                      <a:lnTo>
                        <a:pt x="143" y="62"/>
                      </a:lnTo>
                      <a:lnTo>
                        <a:pt x="145" y="36"/>
                      </a:lnTo>
                      <a:lnTo>
                        <a:pt x="149" y="19"/>
                      </a:lnTo>
                      <a:lnTo>
                        <a:pt x="134" y="12"/>
                      </a:lnTo>
                      <a:lnTo>
                        <a:pt x="125" y="0"/>
                      </a:lnTo>
                      <a:lnTo>
                        <a:pt x="112" y="12"/>
                      </a:lnTo>
                      <a:lnTo>
                        <a:pt x="101" y="40"/>
                      </a:lnTo>
                      <a:lnTo>
                        <a:pt x="88" y="59"/>
                      </a:lnTo>
                      <a:lnTo>
                        <a:pt x="76" y="76"/>
                      </a:lnTo>
                      <a:lnTo>
                        <a:pt x="71" y="76"/>
                      </a:lnTo>
                      <a:lnTo>
                        <a:pt x="60" y="86"/>
                      </a:lnTo>
                      <a:lnTo>
                        <a:pt x="54" y="95"/>
                      </a:lnTo>
                      <a:lnTo>
                        <a:pt x="28" y="10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862880" y="2181600"/>
                  <a:ext cx="2794320" cy="2183400"/>
                </a:xfrm>
                <a:custGeom>
                  <a:avLst/>
                  <a:gdLst/>
                  <a:ahLst/>
                  <a:rect l="l" t="t" r="r" b="b"/>
                  <a:pathLst>
                    <a:path w="2033" h="1521">
                      <a:moveTo>
                        <a:pt x="0" y="683"/>
                      </a:moveTo>
                      <a:lnTo>
                        <a:pt x="19" y="662"/>
                      </a:lnTo>
                      <a:lnTo>
                        <a:pt x="30" y="645"/>
                      </a:lnTo>
                      <a:lnTo>
                        <a:pt x="54" y="645"/>
                      </a:lnTo>
                      <a:lnTo>
                        <a:pt x="80" y="650"/>
                      </a:lnTo>
                      <a:lnTo>
                        <a:pt x="99" y="640"/>
                      </a:lnTo>
                      <a:lnTo>
                        <a:pt x="119" y="638"/>
                      </a:lnTo>
                      <a:lnTo>
                        <a:pt x="121" y="609"/>
                      </a:lnTo>
                      <a:lnTo>
                        <a:pt x="132" y="590"/>
                      </a:lnTo>
                      <a:lnTo>
                        <a:pt x="104" y="569"/>
                      </a:lnTo>
                      <a:lnTo>
                        <a:pt x="100" y="553"/>
                      </a:lnTo>
                      <a:lnTo>
                        <a:pt x="102" y="529"/>
                      </a:lnTo>
                      <a:lnTo>
                        <a:pt x="123" y="529"/>
                      </a:lnTo>
                      <a:lnTo>
                        <a:pt x="136" y="526"/>
                      </a:lnTo>
                      <a:lnTo>
                        <a:pt x="138" y="529"/>
                      </a:lnTo>
                      <a:lnTo>
                        <a:pt x="152" y="515"/>
                      </a:lnTo>
                      <a:lnTo>
                        <a:pt x="167" y="507"/>
                      </a:lnTo>
                      <a:lnTo>
                        <a:pt x="173" y="507"/>
                      </a:lnTo>
                      <a:lnTo>
                        <a:pt x="182" y="493"/>
                      </a:lnTo>
                      <a:lnTo>
                        <a:pt x="193" y="488"/>
                      </a:lnTo>
                      <a:lnTo>
                        <a:pt x="205" y="462"/>
                      </a:lnTo>
                      <a:lnTo>
                        <a:pt x="212" y="470"/>
                      </a:lnTo>
                      <a:lnTo>
                        <a:pt x="227" y="453"/>
                      </a:lnTo>
                      <a:lnTo>
                        <a:pt x="229" y="453"/>
                      </a:lnTo>
                      <a:lnTo>
                        <a:pt x="247" y="434"/>
                      </a:lnTo>
                      <a:lnTo>
                        <a:pt x="258" y="432"/>
                      </a:lnTo>
                      <a:lnTo>
                        <a:pt x="273" y="432"/>
                      </a:lnTo>
                      <a:lnTo>
                        <a:pt x="283" y="432"/>
                      </a:lnTo>
                      <a:lnTo>
                        <a:pt x="275" y="408"/>
                      </a:lnTo>
                      <a:lnTo>
                        <a:pt x="271" y="389"/>
                      </a:lnTo>
                      <a:lnTo>
                        <a:pt x="268" y="349"/>
                      </a:lnTo>
                      <a:lnTo>
                        <a:pt x="290" y="346"/>
                      </a:lnTo>
                      <a:lnTo>
                        <a:pt x="301" y="339"/>
                      </a:lnTo>
                      <a:lnTo>
                        <a:pt x="296" y="356"/>
                      </a:lnTo>
                      <a:lnTo>
                        <a:pt x="305" y="368"/>
                      </a:lnTo>
                      <a:lnTo>
                        <a:pt x="314" y="382"/>
                      </a:lnTo>
                      <a:lnTo>
                        <a:pt x="320" y="391"/>
                      </a:lnTo>
                      <a:lnTo>
                        <a:pt x="346" y="389"/>
                      </a:lnTo>
                      <a:lnTo>
                        <a:pt x="368" y="353"/>
                      </a:lnTo>
                      <a:lnTo>
                        <a:pt x="385" y="337"/>
                      </a:lnTo>
                      <a:lnTo>
                        <a:pt x="394" y="325"/>
                      </a:lnTo>
                      <a:lnTo>
                        <a:pt x="405" y="311"/>
                      </a:lnTo>
                      <a:lnTo>
                        <a:pt x="416" y="292"/>
                      </a:lnTo>
                      <a:lnTo>
                        <a:pt x="426" y="299"/>
                      </a:lnTo>
                      <a:lnTo>
                        <a:pt x="426" y="287"/>
                      </a:lnTo>
                      <a:lnTo>
                        <a:pt x="431" y="280"/>
                      </a:lnTo>
                      <a:lnTo>
                        <a:pt x="448" y="285"/>
                      </a:lnTo>
                      <a:lnTo>
                        <a:pt x="476" y="315"/>
                      </a:lnTo>
                      <a:lnTo>
                        <a:pt x="470" y="230"/>
                      </a:lnTo>
                      <a:lnTo>
                        <a:pt x="446" y="268"/>
                      </a:lnTo>
                      <a:lnTo>
                        <a:pt x="428" y="266"/>
                      </a:lnTo>
                      <a:lnTo>
                        <a:pt x="422" y="242"/>
                      </a:lnTo>
                      <a:lnTo>
                        <a:pt x="422" y="230"/>
                      </a:lnTo>
                      <a:lnTo>
                        <a:pt x="416" y="223"/>
                      </a:lnTo>
                      <a:lnTo>
                        <a:pt x="431" y="204"/>
                      </a:lnTo>
                      <a:lnTo>
                        <a:pt x="441" y="190"/>
                      </a:lnTo>
                      <a:lnTo>
                        <a:pt x="450" y="185"/>
                      </a:lnTo>
                      <a:lnTo>
                        <a:pt x="457" y="183"/>
                      </a:lnTo>
                      <a:lnTo>
                        <a:pt x="463" y="171"/>
                      </a:lnTo>
                      <a:lnTo>
                        <a:pt x="470" y="168"/>
                      </a:lnTo>
                      <a:lnTo>
                        <a:pt x="480" y="168"/>
                      </a:lnTo>
                      <a:lnTo>
                        <a:pt x="463" y="147"/>
                      </a:lnTo>
                      <a:lnTo>
                        <a:pt x="446" y="152"/>
                      </a:lnTo>
                      <a:lnTo>
                        <a:pt x="435" y="152"/>
                      </a:lnTo>
                      <a:lnTo>
                        <a:pt x="426" y="145"/>
                      </a:lnTo>
                      <a:lnTo>
                        <a:pt x="426" y="159"/>
                      </a:lnTo>
                      <a:lnTo>
                        <a:pt x="416" y="173"/>
                      </a:lnTo>
                      <a:lnTo>
                        <a:pt x="403" y="197"/>
                      </a:lnTo>
                      <a:lnTo>
                        <a:pt x="390" y="206"/>
                      </a:lnTo>
                      <a:lnTo>
                        <a:pt x="381" y="206"/>
                      </a:lnTo>
                      <a:lnTo>
                        <a:pt x="377" y="223"/>
                      </a:lnTo>
                      <a:lnTo>
                        <a:pt x="377" y="230"/>
                      </a:lnTo>
                      <a:lnTo>
                        <a:pt x="370" y="237"/>
                      </a:lnTo>
                      <a:lnTo>
                        <a:pt x="379" y="266"/>
                      </a:lnTo>
                      <a:lnTo>
                        <a:pt x="385" y="280"/>
                      </a:lnTo>
                      <a:lnTo>
                        <a:pt x="374" y="301"/>
                      </a:lnTo>
                      <a:lnTo>
                        <a:pt x="361" y="315"/>
                      </a:lnTo>
                      <a:lnTo>
                        <a:pt x="357" y="337"/>
                      </a:lnTo>
                      <a:lnTo>
                        <a:pt x="350" y="353"/>
                      </a:lnTo>
                      <a:lnTo>
                        <a:pt x="342" y="353"/>
                      </a:lnTo>
                      <a:lnTo>
                        <a:pt x="331" y="356"/>
                      </a:lnTo>
                      <a:lnTo>
                        <a:pt x="320" y="363"/>
                      </a:lnTo>
                      <a:lnTo>
                        <a:pt x="316" y="360"/>
                      </a:lnTo>
                      <a:lnTo>
                        <a:pt x="316" y="349"/>
                      </a:lnTo>
                      <a:lnTo>
                        <a:pt x="314" y="330"/>
                      </a:lnTo>
                      <a:lnTo>
                        <a:pt x="305" y="330"/>
                      </a:lnTo>
                      <a:lnTo>
                        <a:pt x="299" y="318"/>
                      </a:lnTo>
                      <a:lnTo>
                        <a:pt x="301" y="301"/>
                      </a:lnTo>
                      <a:lnTo>
                        <a:pt x="303" y="292"/>
                      </a:lnTo>
                      <a:lnTo>
                        <a:pt x="301" y="287"/>
                      </a:lnTo>
                      <a:lnTo>
                        <a:pt x="294" y="292"/>
                      </a:lnTo>
                      <a:lnTo>
                        <a:pt x="290" y="292"/>
                      </a:lnTo>
                      <a:lnTo>
                        <a:pt x="284" y="289"/>
                      </a:lnTo>
                      <a:lnTo>
                        <a:pt x="281" y="287"/>
                      </a:lnTo>
                      <a:lnTo>
                        <a:pt x="271" y="296"/>
                      </a:lnTo>
                      <a:lnTo>
                        <a:pt x="262" y="308"/>
                      </a:lnTo>
                      <a:lnTo>
                        <a:pt x="253" y="320"/>
                      </a:lnTo>
                      <a:lnTo>
                        <a:pt x="232" y="318"/>
                      </a:lnTo>
                      <a:lnTo>
                        <a:pt x="219" y="315"/>
                      </a:lnTo>
                      <a:lnTo>
                        <a:pt x="210" y="304"/>
                      </a:lnTo>
                      <a:lnTo>
                        <a:pt x="210" y="296"/>
                      </a:lnTo>
                      <a:lnTo>
                        <a:pt x="216" y="287"/>
                      </a:lnTo>
                      <a:lnTo>
                        <a:pt x="223" y="280"/>
                      </a:lnTo>
                      <a:lnTo>
                        <a:pt x="229" y="270"/>
                      </a:lnTo>
                      <a:lnTo>
                        <a:pt x="216" y="275"/>
                      </a:lnTo>
                      <a:lnTo>
                        <a:pt x="210" y="263"/>
                      </a:lnTo>
                      <a:lnTo>
                        <a:pt x="210" y="256"/>
                      </a:lnTo>
                      <a:lnTo>
                        <a:pt x="229" y="254"/>
                      </a:lnTo>
                      <a:lnTo>
                        <a:pt x="245" y="251"/>
                      </a:lnTo>
                      <a:lnTo>
                        <a:pt x="234" y="244"/>
                      </a:lnTo>
                      <a:lnTo>
                        <a:pt x="218" y="247"/>
                      </a:lnTo>
                      <a:lnTo>
                        <a:pt x="218" y="232"/>
                      </a:lnTo>
                      <a:lnTo>
                        <a:pt x="225" y="223"/>
                      </a:lnTo>
                      <a:lnTo>
                        <a:pt x="242" y="213"/>
                      </a:lnTo>
                      <a:lnTo>
                        <a:pt x="247" y="204"/>
                      </a:lnTo>
                      <a:lnTo>
                        <a:pt x="253" y="199"/>
                      </a:lnTo>
                      <a:lnTo>
                        <a:pt x="266" y="197"/>
                      </a:lnTo>
                      <a:lnTo>
                        <a:pt x="277" y="199"/>
                      </a:lnTo>
                      <a:lnTo>
                        <a:pt x="283" y="204"/>
                      </a:lnTo>
                      <a:lnTo>
                        <a:pt x="292" y="197"/>
                      </a:lnTo>
                      <a:lnTo>
                        <a:pt x="283" y="194"/>
                      </a:lnTo>
                      <a:lnTo>
                        <a:pt x="283" y="175"/>
                      </a:lnTo>
                      <a:lnTo>
                        <a:pt x="307" y="154"/>
                      </a:lnTo>
                      <a:lnTo>
                        <a:pt x="320" y="140"/>
                      </a:lnTo>
                      <a:lnTo>
                        <a:pt x="327" y="138"/>
                      </a:lnTo>
                      <a:lnTo>
                        <a:pt x="325" y="130"/>
                      </a:lnTo>
                      <a:lnTo>
                        <a:pt x="336" y="116"/>
                      </a:lnTo>
                      <a:lnTo>
                        <a:pt x="350" y="95"/>
                      </a:lnTo>
                      <a:lnTo>
                        <a:pt x="364" y="85"/>
                      </a:lnTo>
                      <a:lnTo>
                        <a:pt x="353" y="76"/>
                      </a:lnTo>
                      <a:lnTo>
                        <a:pt x="383" y="55"/>
                      </a:lnTo>
                      <a:lnTo>
                        <a:pt x="396" y="57"/>
                      </a:lnTo>
                      <a:lnTo>
                        <a:pt x="394" y="45"/>
                      </a:lnTo>
                      <a:lnTo>
                        <a:pt x="420" y="43"/>
                      </a:lnTo>
                      <a:lnTo>
                        <a:pt x="468" y="5"/>
                      </a:lnTo>
                      <a:lnTo>
                        <a:pt x="476" y="0"/>
                      </a:lnTo>
                      <a:lnTo>
                        <a:pt x="467" y="28"/>
                      </a:lnTo>
                      <a:lnTo>
                        <a:pt x="478" y="14"/>
                      </a:lnTo>
                      <a:lnTo>
                        <a:pt x="491" y="9"/>
                      </a:lnTo>
                      <a:lnTo>
                        <a:pt x="489" y="21"/>
                      </a:lnTo>
                      <a:lnTo>
                        <a:pt x="526" y="7"/>
                      </a:lnTo>
                      <a:lnTo>
                        <a:pt x="543" y="19"/>
                      </a:lnTo>
                      <a:lnTo>
                        <a:pt x="519" y="31"/>
                      </a:lnTo>
                      <a:lnTo>
                        <a:pt x="528" y="45"/>
                      </a:lnTo>
                      <a:lnTo>
                        <a:pt x="563" y="43"/>
                      </a:lnTo>
                      <a:lnTo>
                        <a:pt x="617" y="64"/>
                      </a:lnTo>
                      <a:lnTo>
                        <a:pt x="614" y="88"/>
                      </a:lnTo>
                      <a:lnTo>
                        <a:pt x="591" y="109"/>
                      </a:lnTo>
                      <a:lnTo>
                        <a:pt x="558" y="121"/>
                      </a:lnTo>
                      <a:lnTo>
                        <a:pt x="552" y="145"/>
                      </a:lnTo>
                      <a:lnTo>
                        <a:pt x="554" y="168"/>
                      </a:lnTo>
                      <a:lnTo>
                        <a:pt x="563" y="173"/>
                      </a:lnTo>
                      <a:lnTo>
                        <a:pt x="565" y="185"/>
                      </a:lnTo>
                      <a:lnTo>
                        <a:pt x="569" y="190"/>
                      </a:lnTo>
                      <a:lnTo>
                        <a:pt x="576" y="194"/>
                      </a:lnTo>
                      <a:lnTo>
                        <a:pt x="578" y="209"/>
                      </a:lnTo>
                      <a:lnTo>
                        <a:pt x="589" y="225"/>
                      </a:lnTo>
                      <a:lnTo>
                        <a:pt x="589" y="232"/>
                      </a:lnTo>
                      <a:lnTo>
                        <a:pt x="600" y="232"/>
                      </a:lnTo>
                      <a:lnTo>
                        <a:pt x="604" y="237"/>
                      </a:lnTo>
                      <a:lnTo>
                        <a:pt x="614" y="242"/>
                      </a:lnTo>
                      <a:lnTo>
                        <a:pt x="619" y="235"/>
                      </a:lnTo>
                      <a:lnTo>
                        <a:pt x="625" y="223"/>
                      </a:lnTo>
                      <a:lnTo>
                        <a:pt x="628" y="216"/>
                      </a:lnTo>
                      <a:lnTo>
                        <a:pt x="638" y="221"/>
                      </a:lnTo>
                      <a:lnTo>
                        <a:pt x="649" y="204"/>
                      </a:lnTo>
                      <a:lnTo>
                        <a:pt x="649" y="192"/>
                      </a:lnTo>
                      <a:lnTo>
                        <a:pt x="653" y="183"/>
                      </a:lnTo>
                      <a:lnTo>
                        <a:pt x="654" y="175"/>
                      </a:lnTo>
                      <a:lnTo>
                        <a:pt x="677" y="168"/>
                      </a:lnTo>
                      <a:lnTo>
                        <a:pt x="695" y="161"/>
                      </a:lnTo>
                      <a:lnTo>
                        <a:pt x="719" y="152"/>
                      </a:lnTo>
                      <a:lnTo>
                        <a:pt x="747" y="159"/>
                      </a:lnTo>
                      <a:lnTo>
                        <a:pt x="775" y="159"/>
                      </a:lnTo>
                      <a:lnTo>
                        <a:pt x="822" y="159"/>
                      </a:lnTo>
                      <a:lnTo>
                        <a:pt x="829" y="102"/>
                      </a:lnTo>
                      <a:lnTo>
                        <a:pt x="855" y="104"/>
                      </a:lnTo>
                      <a:lnTo>
                        <a:pt x="874" y="147"/>
                      </a:lnTo>
                      <a:lnTo>
                        <a:pt x="877" y="111"/>
                      </a:lnTo>
                      <a:lnTo>
                        <a:pt x="963" y="7"/>
                      </a:lnTo>
                      <a:lnTo>
                        <a:pt x="996" y="7"/>
                      </a:lnTo>
                      <a:lnTo>
                        <a:pt x="1026" y="28"/>
                      </a:lnTo>
                      <a:lnTo>
                        <a:pt x="1065" y="26"/>
                      </a:lnTo>
                      <a:lnTo>
                        <a:pt x="1117" y="64"/>
                      </a:lnTo>
                      <a:lnTo>
                        <a:pt x="1177" y="85"/>
                      </a:lnTo>
                      <a:lnTo>
                        <a:pt x="1220" y="81"/>
                      </a:lnTo>
                      <a:lnTo>
                        <a:pt x="1275" y="104"/>
                      </a:lnTo>
                      <a:lnTo>
                        <a:pt x="1322" y="104"/>
                      </a:lnTo>
                      <a:lnTo>
                        <a:pt x="1344" y="88"/>
                      </a:lnTo>
                      <a:lnTo>
                        <a:pt x="1396" y="88"/>
                      </a:lnTo>
                      <a:lnTo>
                        <a:pt x="1424" y="107"/>
                      </a:lnTo>
                      <a:lnTo>
                        <a:pt x="1495" y="107"/>
                      </a:lnTo>
                      <a:lnTo>
                        <a:pt x="1554" y="138"/>
                      </a:lnTo>
                      <a:lnTo>
                        <a:pt x="1660" y="133"/>
                      </a:lnTo>
                      <a:lnTo>
                        <a:pt x="1833" y="147"/>
                      </a:lnTo>
                      <a:lnTo>
                        <a:pt x="1917" y="192"/>
                      </a:lnTo>
                      <a:lnTo>
                        <a:pt x="1987" y="221"/>
                      </a:lnTo>
                      <a:lnTo>
                        <a:pt x="2032" y="244"/>
                      </a:lnTo>
                      <a:lnTo>
                        <a:pt x="2019" y="251"/>
                      </a:lnTo>
                      <a:lnTo>
                        <a:pt x="1987" y="232"/>
                      </a:lnTo>
                      <a:lnTo>
                        <a:pt x="1915" y="225"/>
                      </a:lnTo>
                      <a:lnTo>
                        <a:pt x="1935" y="244"/>
                      </a:lnTo>
                      <a:lnTo>
                        <a:pt x="1967" y="254"/>
                      </a:lnTo>
                      <a:lnTo>
                        <a:pt x="1958" y="285"/>
                      </a:lnTo>
                      <a:lnTo>
                        <a:pt x="1924" y="304"/>
                      </a:lnTo>
                      <a:lnTo>
                        <a:pt x="1913" y="334"/>
                      </a:lnTo>
                      <a:lnTo>
                        <a:pt x="1958" y="363"/>
                      </a:lnTo>
                      <a:lnTo>
                        <a:pt x="1989" y="401"/>
                      </a:lnTo>
                      <a:lnTo>
                        <a:pt x="2006" y="455"/>
                      </a:lnTo>
                      <a:lnTo>
                        <a:pt x="1986" y="460"/>
                      </a:lnTo>
                      <a:lnTo>
                        <a:pt x="1941" y="443"/>
                      </a:lnTo>
                      <a:lnTo>
                        <a:pt x="1894" y="403"/>
                      </a:lnTo>
                      <a:lnTo>
                        <a:pt x="1876" y="382"/>
                      </a:lnTo>
                      <a:lnTo>
                        <a:pt x="1865" y="353"/>
                      </a:lnTo>
                      <a:lnTo>
                        <a:pt x="1854" y="311"/>
                      </a:lnTo>
                      <a:lnTo>
                        <a:pt x="1835" y="296"/>
                      </a:lnTo>
                      <a:lnTo>
                        <a:pt x="1818" y="294"/>
                      </a:lnTo>
                      <a:lnTo>
                        <a:pt x="1803" y="299"/>
                      </a:lnTo>
                      <a:lnTo>
                        <a:pt x="1820" y="332"/>
                      </a:lnTo>
                      <a:lnTo>
                        <a:pt x="1775" y="337"/>
                      </a:lnTo>
                      <a:lnTo>
                        <a:pt x="1755" y="320"/>
                      </a:lnTo>
                      <a:lnTo>
                        <a:pt x="1716" y="330"/>
                      </a:lnTo>
                      <a:lnTo>
                        <a:pt x="1686" y="356"/>
                      </a:lnTo>
                      <a:lnTo>
                        <a:pt x="1686" y="370"/>
                      </a:lnTo>
                      <a:lnTo>
                        <a:pt x="1697" y="394"/>
                      </a:lnTo>
                      <a:lnTo>
                        <a:pt x="1744" y="401"/>
                      </a:lnTo>
                      <a:lnTo>
                        <a:pt x="1781" y="429"/>
                      </a:lnTo>
                      <a:lnTo>
                        <a:pt x="1844" y="507"/>
                      </a:lnTo>
                      <a:lnTo>
                        <a:pt x="1870" y="560"/>
                      </a:lnTo>
                      <a:lnTo>
                        <a:pt x="1874" y="614"/>
                      </a:lnTo>
                      <a:lnTo>
                        <a:pt x="1868" y="659"/>
                      </a:lnTo>
                      <a:lnTo>
                        <a:pt x="1854" y="659"/>
                      </a:lnTo>
                      <a:lnTo>
                        <a:pt x="1837" y="643"/>
                      </a:lnTo>
                      <a:lnTo>
                        <a:pt x="1813" y="664"/>
                      </a:lnTo>
                      <a:lnTo>
                        <a:pt x="1788" y="683"/>
                      </a:lnTo>
                      <a:lnTo>
                        <a:pt x="1785" y="714"/>
                      </a:lnTo>
                      <a:lnTo>
                        <a:pt x="1811" y="752"/>
                      </a:lnTo>
                      <a:lnTo>
                        <a:pt x="1794" y="783"/>
                      </a:lnTo>
                      <a:lnTo>
                        <a:pt x="1788" y="835"/>
                      </a:lnTo>
                      <a:lnTo>
                        <a:pt x="1820" y="868"/>
                      </a:lnTo>
                      <a:lnTo>
                        <a:pt x="1855" y="877"/>
                      </a:lnTo>
                      <a:lnTo>
                        <a:pt x="1893" y="913"/>
                      </a:lnTo>
                      <a:lnTo>
                        <a:pt x="1924" y="960"/>
                      </a:lnTo>
                      <a:lnTo>
                        <a:pt x="1926" y="1032"/>
                      </a:lnTo>
                      <a:lnTo>
                        <a:pt x="1915" y="1065"/>
                      </a:lnTo>
                      <a:lnTo>
                        <a:pt x="1881" y="1093"/>
                      </a:lnTo>
                      <a:lnTo>
                        <a:pt x="1841" y="1107"/>
                      </a:lnTo>
                      <a:lnTo>
                        <a:pt x="1814" y="1129"/>
                      </a:lnTo>
                      <a:lnTo>
                        <a:pt x="1800" y="1117"/>
                      </a:lnTo>
                      <a:lnTo>
                        <a:pt x="1787" y="1129"/>
                      </a:lnTo>
                      <a:lnTo>
                        <a:pt x="1783" y="1181"/>
                      </a:lnTo>
                      <a:lnTo>
                        <a:pt x="1792" y="1212"/>
                      </a:lnTo>
                      <a:lnTo>
                        <a:pt x="1833" y="1247"/>
                      </a:lnTo>
                      <a:lnTo>
                        <a:pt x="1850" y="1283"/>
                      </a:lnTo>
                      <a:lnTo>
                        <a:pt x="1863" y="1302"/>
                      </a:lnTo>
                      <a:lnTo>
                        <a:pt x="1859" y="1340"/>
                      </a:lnTo>
                      <a:lnTo>
                        <a:pt x="1833" y="1371"/>
                      </a:lnTo>
                      <a:lnTo>
                        <a:pt x="1805" y="1371"/>
                      </a:lnTo>
                      <a:lnTo>
                        <a:pt x="1761" y="1326"/>
                      </a:lnTo>
                      <a:lnTo>
                        <a:pt x="1729" y="1309"/>
                      </a:lnTo>
                      <a:lnTo>
                        <a:pt x="1716" y="1299"/>
                      </a:lnTo>
                      <a:lnTo>
                        <a:pt x="1703" y="1323"/>
                      </a:lnTo>
                      <a:lnTo>
                        <a:pt x="1707" y="1356"/>
                      </a:lnTo>
                      <a:lnTo>
                        <a:pt x="1718" y="1382"/>
                      </a:lnTo>
                      <a:lnTo>
                        <a:pt x="1725" y="1423"/>
                      </a:lnTo>
                      <a:lnTo>
                        <a:pt x="1753" y="1437"/>
                      </a:lnTo>
                      <a:lnTo>
                        <a:pt x="1744" y="1458"/>
                      </a:lnTo>
                      <a:lnTo>
                        <a:pt x="1746" y="1489"/>
                      </a:lnTo>
                      <a:lnTo>
                        <a:pt x="1755" y="1520"/>
                      </a:lnTo>
                      <a:lnTo>
                        <a:pt x="1736" y="1518"/>
                      </a:lnTo>
                      <a:lnTo>
                        <a:pt x="1716" y="1482"/>
                      </a:lnTo>
                      <a:lnTo>
                        <a:pt x="1718" y="1444"/>
                      </a:lnTo>
                      <a:lnTo>
                        <a:pt x="1710" y="1432"/>
                      </a:lnTo>
                      <a:lnTo>
                        <a:pt x="1703" y="1390"/>
                      </a:lnTo>
                      <a:lnTo>
                        <a:pt x="1694" y="1378"/>
                      </a:lnTo>
                      <a:lnTo>
                        <a:pt x="1690" y="1318"/>
                      </a:lnTo>
                      <a:lnTo>
                        <a:pt x="1677" y="1283"/>
                      </a:lnTo>
                      <a:lnTo>
                        <a:pt x="1655" y="1250"/>
                      </a:lnTo>
                      <a:lnTo>
                        <a:pt x="1614" y="1231"/>
                      </a:lnTo>
                      <a:lnTo>
                        <a:pt x="1586" y="1200"/>
                      </a:lnTo>
                      <a:lnTo>
                        <a:pt x="1575" y="1176"/>
                      </a:lnTo>
                      <a:lnTo>
                        <a:pt x="1554" y="1150"/>
                      </a:lnTo>
                      <a:lnTo>
                        <a:pt x="1523" y="1091"/>
                      </a:lnTo>
                      <a:lnTo>
                        <a:pt x="1495" y="1096"/>
                      </a:lnTo>
                      <a:lnTo>
                        <a:pt x="1458" y="1124"/>
                      </a:lnTo>
                      <a:lnTo>
                        <a:pt x="1441" y="1148"/>
                      </a:lnTo>
                      <a:lnTo>
                        <a:pt x="1407" y="1193"/>
                      </a:lnTo>
                      <a:lnTo>
                        <a:pt x="1383" y="1240"/>
                      </a:lnTo>
                      <a:lnTo>
                        <a:pt x="1374" y="1257"/>
                      </a:lnTo>
                      <a:lnTo>
                        <a:pt x="1383" y="1311"/>
                      </a:lnTo>
                      <a:lnTo>
                        <a:pt x="1381" y="1366"/>
                      </a:lnTo>
                      <a:lnTo>
                        <a:pt x="1352" y="1404"/>
                      </a:lnTo>
                      <a:lnTo>
                        <a:pt x="1335" y="1406"/>
                      </a:lnTo>
                      <a:lnTo>
                        <a:pt x="1300" y="1328"/>
                      </a:lnTo>
                      <a:lnTo>
                        <a:pt x="1272" y="1273"/>
                      </a:lnTo>
                      <a:lnTo>
                        <a:pt x="1216" y="1169"/>
                      </a:lnTo>
                      <a:lnTo>
                        <a:pt x="1214" y="1129"/>
                      </a:lnTo>
                      <a:lnTo>
                        <a:pt x="1201" y="1110"/>
                      </a:lnTo>
                      <a:lnTo>
                        <a:pt x="1192" y="1136"/>
                      </a:lnTo>
                      <a:lnTo>
                        <a:pt x="1143" y="1077"/>
                      </a:lnTo>
                      <a:lnTo>
                        <a:pt x="1078" y="1032"/>
                      </a:lnTo>
                      <a:lnTo>
                        <a:pt x="1037" y="1041"/>
                      </a:lnTo>
                      <a:lnTo>
                        <a:pt x="978" y="1036"/>
                      </a:lnTo>
                      <a:lnTo>
                        <a:pt x="950" y="1003"/>
                      </a:lnTo>
                      <a:lnTo>
                        <a:pt x="918" y="1008"/>
                      </a:lnTo>
                      <a:lnTo>
                        <a:pt x="874" y="994"/>
                      </a:lnTo>
                      <a:lnTo>
                        <a:pt x="781" y="882"/>
                      </a:lnTo>
                      <a:lnTo>
                        <a:pt x="786" y="927"/>
                      </a:lnTo>
                      <a:lnTo>
                        <a:pt x="814" y="991"/>
                      </a:lnTo>
                      <a:lnTo>
                        <a:pt x="846" y="1036"/>
                      </a:lnTo>
                      <a:lnTo>
                        <a:pt x="879" y="1060"/>
                      </a:lnTo>
                      <a:lnTo>
                        <a:pt x="917" y="1041"/>
                      </a:lnTo>
                      <a:lnTo>
                        <a:pt x="946" y="1041"/>
                      </a:lnTo>
                      <a:lnTo>
                        <a:pt x="985" y="1081"/>
                      </a:lnTo>
                      <a:lnTo>
                        <a:pt x="1008" y="1112"/>
                      </a:lnTo>
                      <a:lnTo>
                        <a:pt x="1004" y="1131"/>
                      </a:lnTo>
                      <a:lnTo>
                        <a:pt x="937" y="1219"/>
                      </a:lnTo>
                      <a:lnTo>
                        <a:pt x="892" y="1252"/>
                      </a:lnTo>
                      <a:lnTo>
                        <a:pt x="799" y="1295"/>
                      </a:lnTo>
                      <a:lnTo>
                        <a:pt x="772" y="1309"/>
                      </a:lnTo>
                      <a:lnTo>
                        <a:pt x="755" y="1295"/>
                      </a:lnTo>
                      <a:lnTo>
                        <a:pt x="749" y="1278"/>
                      </a:lnTo>
                      <a:lnTo>
                        <a:pt x="747" y="1252"/>
                      </a:lnTo>
                      <a:lnTo>
                        <a:pt x="740" y="1226"/>
                      </a:lnTo>
                      <a:lnTo>
                        <a:pt x="727" y="1205"/>
                      </a:lnTo>
                      <a:lnTo>
                        <a:pt x="716" y="1186"/>
                      </a:lnTo>
                      <a:lnTo>
                        <a:pt x="699" y="1160"/>
                      </a:lnTo>
                      <a:lnTo>
                        <a:pt x="690" y="1143"/>
                      </a:lnTo>
                      <a:lnTo>
                        <a:pt x="682" y="1122"/>
                      </a:lnTo>
                      <a:lnTo>
                        <a:pt x="669" y="1103"/>
                      </a:lnTo>
                      <a:lnTo>
                        <a:pt x="649" y="1055"/>
                      </a:lnTo>
                      <a:lnTo>
                        <a:pt x="638" y="1036"/>
                      </a:lnTo>
                      <a:lnTo>
                        <a:pt x="623" y="1010"/>
                      </a:lnTo>
                      <a:lnTo>
                        <a:pt x="599" y="975"/>
                      </a:lnTo>
                      <a:lnTo>
                        <a:pt x="586" y="953"/>
                      </a:lnTo>
                      <a:lnTo>
                        <a:pt x="574" y="939"/>
                      </a:lnTo>
                      <a:lnTo>
                        <a:pt x="561" y="908"/>
                      </a:lnTo>
                      <a:lnTo>
                        <a:pt x="600" y="880"/>
                      </a:lnTo>
                      <a:lnTo>
                        <a:pt x="617" y="818"/>
                      </a:lnTo>
                      <a:lnTo>
                        <a:pt x="580" y="801"/>
                      </a:lnTo>
                      <a:lnTo>
                        <a:pt x="530" y="811"/>
                      </a:lnTo>
                      <a:lnTo>
                        <a:pt x="519" y="804"/>
                      </a:lnTo>
                      <a:lnTo>
                        <a:pt x="513" y="804"/>
                      </a:lnTo>
                      <a:lnTo>
                        <a:pt x="506" y="804"/>
                      </a:lnTo>
                      <a:lnTo>
                        <a:pt x="500" y="804"/>
                      </a:lnTo>
                      <a:lnTo>
                        <a:pt x="498" y="792"/>
                      </a:lnTo>
                      <a:lnTo>
                        <a:pt x="495" y="783"/>
                      </a:lnTo>
                      <a:lnTo>
                        <a:pt x="495" y="764"/>
                      </a:lnTo>
                      <a:lnTo>
                        <a:pt x="485" y="754"/>
                      </a:lnTo>
                      <a:lnTo>
                        <a:pt x="483" y="742"/>
                      </a:lnTo>
                      <a:lnTo>
                        <a:pt x="478" y="740"/>
                      </a:lnTo>
                      <a:lnTo>
                        <a:pt x="472" y="730"/>
                      </a:lnTo>
                      <a:lnTo>
                        <a:pt x="470" y="721"/>
                      </a:lnTo>
                      <a:lnTo>
                        <a:pt x="467" y="711"/>
                      </a:lnTo>
                      <a:lnTo>
                        <a:pt x="463" y="707"/>
                      </a:lnTo>
                      <a:lnTo>
                        <a:pt x="452" y="707"/>
                      </a:lnTo>
                      <a:lnTo>
                        <a:pt x="444" y="707"/>
                      </a:lnTo>
                      <a:lnTo>
                        <a:pt x="441" y="707"/>
                      </a:lnTo>
                      <a:lnTo>
                        <a:pt x="439" y="719"/>
                      </a:lnTo>
                      <a:lnTo>
                        <a:pt x="439" y="730"/>
                      </a:lnTo>
                      <a:lnTo>
                        <a:pt x="439" y="745"/>
                      </a:lnTo>
                      <a:lnTo>
                        <a:pt x="439" y="759"/>
                      </a:lnTo>
                      <a:lnTo>
                        <a:pt x="439" y="768"/>
                      </a:lnTo>
                      <a:lnTo>
                        <a:pt x="429" y="773"/>
                      </a:lnTo>
                      <a:lnTo>
                        <a:pt x="422" y="783"/>
                      </a:lnTo>
                      <a:lnTo>
                        <a:pt x="411" y="768"/>
                      </a:lnTo>
                      <a:lnTo>
                        <a:pt x="403" y="749"/>
                      </a:lnTo>
                      <a:lnTo>
                        <a:pt x="405" y="728"/>
                      </a:lnTo>
                      <a:lnTo>
                        <a:pt x="394" y="700"/>
                      </a:lnTo>
                      <a:lnTo>
                        <a:pt x="389" y="681"/>
                      </a:lnTo>
                      <a:lnTo>
                        <a:pt x="376" y="669"/>
                      </a:lnTo>
                      <a:lnTo>
                        <a:pt x="361" y="657"/>
                      </a:lnTo>
                      <a:lnTo>
                        <a:pt x="353" y="640"/>
                      </a:lnTo>
                      <a:lnTo>
                        <a:pt x="348" y="628"/>
                      </a:lnTo>
                      <a:lnTo>
                        <a:pt x="335" y="626"/>
                      </a:lnTo>
                      <a:lnTo>
                        <a:pt x="331" y="619"/>
                      </a:lnTo>
                      <a:lnTo>
                        <a:pt x="322" y="619"/>
                      </a:lnTo>
                      <a:lnTo>
                        <a:pt x="314" y="631"/>
                      </a:lnTo>
                      <a:lnTo>
                        <a:pt x="307" y="640"/>
                      </a:lnTo>
                      <a:lnTo>
                        <a:pt x="323" y="652"/>
                      </a:lnTo>
                      <a:lnTo>
                        <a:pt x="333" y="669"/>
                      </a:lnTo>
                      <a:lnTo>
                        <a:pt x="350" y="690"/>
                      </a:lnTo>
                      <a:lnTo>
                        <a:pt x="357" y="700"/>
                      </a:lnTo>
                      <a:lnTo>
                        <a:pt x="370" y="707"/>
                      </a:lnTo>
                      <a:lnTo>
                        <a:pt x="379" y="721"/>
                      </a:lnTo>
                      <a:lnTo>
                        <a:pt x="368" y="737"/>
                      </a:lnTo>
                      <a:lnTo>
                        <a:pt x="366" y="730"/>
                      </a:lnTo>
                      <a:lnTo>
                        <a:pt x="366" y="721"/>
                      </a:lnTo>
                      <a:lnTo>
                        <a:pt x="361" y="742"/>
                      </a:lnTo>
                      <a:lnTo>
                        <a:pt x="359" y="761"/>
                      </a:lnTo>
                      <a:lnTo>
                        <a:pt x="348" y="766"/>
                      </a:lnTo>
                      <a:lnTo>
                        <a:pt x="351" y="742"/>
                      </a:lnTo>
                      <a:lnTo>
                        <a:pt x="350" y="730"/>
                      </a:lnTo>
                      <a:lnTo>
                        <a:pt x="336" y="723"/>
                      </a:lnTo>
                      <a:lnTo>
                        <a:pt x="331" y="719"/>
                      </a:lnTo>
                      <a:lnTo>
                        <a:pt x="325" y="709"/>
                      </a:lnTo>
                      <a:lnTo>
                        <a:pt x="314" y="704"/>
                      </a:lnTo>
                      <a:lnTo>
                        <a:pt x="307" y="697"/>
                      </a:lnTo>
                      <a:lnTo>
                        <a:pt x="299" y="683"/>
                      </a:lnTo>
                      <a:lnTo>
                        <a:pt x="290" y="676"/>
                      </a:lnTo>
                      <a:lnTo>
                        <a:pt x="284" y="662"/>
                      </a:lnTo>
                      <a:lnTo>
                        <a:pt x="283" y="650"/>
                      </a:lnTo>
                      <a:lnTo>
                        <a:pt x="275" y="645"/>
                      </a:lnTo>
                      <a:lnTo>
                        <a:pt x="268" y="638"/>
                      </a:lnTo>
                      <a:lnTo>
                        <a:pt x="253" y="638"/>
                      </a:lnTo>
                      <a:lnTo>
                        <a:pt x="240" y="640"/>
                      </a:lnTo>
                      <a:lnTo>
                        <a:pt x="225" y="638"/>
                      </a:lnTo>
                      <a:lnTo>
                        <a:pt x="199" y="640"/>
                      </a:lnTo>
                      <a:lnTo>
                        <a:pt x="180" y="643"/>
                      </a:lnTo>
                      <a:lnTo>
                        <a:pt x="175" y="647"/>
                      </a:lnTo>
                      <a:lnTo>
                        <a:pt x="173" y="662"/>
                      </a:lnTo>
                      <a:lnTo>
                        <a:pt x="173" y="678"/>
                      </a:lnTo>
                      <a:lnTo>
                        <a:pt x="162" y="695"/>
                      </a:lnTo>
                      <a:lnTo>
                        <a:pt x="154" y="702"/>
                      </a:lnTo>
                      <a:lnTo>
                        <a:pt x="151" y="707"/>
                      </a:lnTo>
                      <a:lnTo>
                        <a:pt x="145" y="719"/>
                      </a:lnTo>
                      <a:lnTo>
                        <a:pt x="141" y="728"/>
                      </a:lnTo>
                      <a:lnTo>
                        <a:pt x="147" y="735"/>
                      </a:lnTo>
                      <a:lnTo>
                        <a:pt x="147" y="749"/>
                      </a:lnTo>
                      <a:lnTo>
                        <a:pt x="145" y="756"/>
                      </a:lnTo>
                      <a:lnTo>
                        <a:pt x="141" y="766"/>
                      </a:lnTo>
                      <a:lnTo>
                        <a:pt x="132" y="783"/>
                      </a:lnTo>
                      <a:lnTo>
                        <a:pt x="126" y="775"/>
                      </a:lnTo>
                      <a:lnTo>
                        <a:pt x="121" y="780"/>
                      </a:lnTo>
                      <a:lnTo>
                        <a:pt x="113" y="787"/>
                      </a:lnTo>
                      <a:lnTo>
                        <a:pt x="102" y="790"/>
                      </a:lnTo>
                      <a:lnTo>
                        <a:pt x="91" y="801"/>
                      </a:lnTo>
                      <a:lnTo>
                        <a:pt x="80" y="804"/>
                      </a:lnTo>
                      <a:lnTo>
                        <a:pt x="69" y="804"/>
                      </a:lnTo>
                      <a:lnTo>
                        <a:pt x="58" y="804"/>
                      </a:lnTo>
                      <a:lnTo>
                        <a:pt x="33" y="811"/>
                      </a:lnTo>
                      <a:lnTo>
                        <a:pt x="22" y="811"/>
                      </a:lnTo>
                      <a:lnTo>
                        <a:pt x="17" y="794"/>
                      </a:lnTo>
                      <a:lnTo>
                        <a:pt x="11" y="773"/>
                      </a:lnTo>
                      <a:lnTo>
                        <a:pt x="7" y="754"/>
                      </a:lnTo>
                      <a:lnTo>
                        <a:pt x="6" y="735"/>
                      </a:lnTo>
                      <a:lnTo>
                        <a:pt x="6" y="711"/>
                      </a:lnTo>
                      <a:lnTo>
                        <a:pt x="0" y="68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
              <p:cNvGrpSpPr/>
              <p:nvPr/>
            </p:nvGrpSpPr>
            <p:grpSpPr>
              <a:xfrm>
                <a:off x="7122240" y="2729880"/>
                <a:ext cx="1361160" cy="2918520"/>
                <a:chOff x="7122240" y="2729880"/>
                <a:chExt cx="1361160" cy="2918520"/>
              </a:xfrm>
            </p:grpSpPr>
            <p:grpSp>
              <p:nvGrpSpPr>
                <p:cNvPr id="199" name=""/>
                <p:cNvGrpSpPr/>
                <p:nvPr/>
              </p:nvGrpSpPr>
              <p:grpSpPr>
                <a:xfrm>
                  <a:off x="7342200" y="3026520"/>
                  <a:ext cx="303120" cy="877680"/>
                  <a:chOff x="7342200" y="3026520"/>
                  <a:chExt cx="303120" cy="877680"/>
                </a:xfrm>
              </p:grpSpPr>
              <p:sp>
                <p:nvSpPr>
                  <p:cNvPr id="200" name=""/>
                  <p:cNvSpPr/>
                  <p:nvPr/>
                </p:nvSpPr>
                <p:spPr>
                  <a:xfrm>
                    <a:off x="7342200" y="3813480"/>
                    <a:ext cx="72720" cy="90720"/>
                  </a:xfrm>
                  <a:custGeom>
                    <a:avLst/>
                    <a:gdLst/>
                    <a:ahLst/>
                    <a:rect l="l" t="t" r="r" b="b"/>
                    <a:pathLst>
                      <a:path w="53" h="63">
                        <a:moveTo>
                          <a:pt x="0" y="48"/>
                        </a:moveTo>
                        <a:lnTo>
                          <a:pt x="9" y="60"/>
                        </a:lnTo>
                        <a:lnTo>
                          <a:pt x="20" y="57"/>
                        </a:lnTo>
                        <a:lnTo>
                          <a:pt x="37" y="62"/>
                        </a:lnTo>
                        <a:lnTo>
                          <a:pt x="50" y="62"/>
                        </a:lnTo>
                        <a:lnTo>
                          <a:pt x="52" y="41"/>
                        </a:lnTo>
                        <a:lnTo>
                          <a:pt x="48" y="26"/>
                        </a:lnTo>
                        <a:lnTo>
                          <a:pt x="39" y="10"/>
                        </a:lnTo>
                        <a:lnTo>
                          <a:pt x="30" y="10"/>
                        </a:lnTo>
                        <a:lnTo>
                          <a:pt x="26" y="0"/>
                        </a:lnTo>
                        <a:lnTo>
                          <a:pt x="13" y="0"/>
                        </a:lnTo>
                        <a:lnTo>
                          <a:pt x="13" y="19"/>
                        </a:lnTo>
                        <a:lnTo>
                          <a:pt x="0" y="48"/>
                        </a:lnTo>
                      </a:path>
                    </a:pathLst>
                  </a:custGeom>
                  <a:solidFill>
                    <a:srgbClr val="ffcc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1" name=""/>
                  <p:cNvSpPr/>
                  <p:nvPr/>
                </p:nvSpPr>
                <p:spPr>
                  <a:xfrm>
                    <a:off x="7534080" y="3657240"/>
                    <a:ext cx="71640" cy="114840"/>
                  </a:xfrm>
                  <a:custGeom>
                    <a:avLst/>
                    <a:gdLst/>
                    <a:ahLst/>
                    <a:rect l="l" t="t" r="r" b="b"/>
                    <a:pathLst>
                      <a:path w="52" h="80">
                        <a:moveTo>
                          <a:pt x="11" y="0"/>
                        </a:moveTo>
                        <a:lnTo>
                          <a:pt x="34" y="2"/>
                        </a:lnTo>
                        <a:lnTo>
                          <a:pt x="42" y="24"/>
                        </a:lnTo>
                        <a:lnTo>
                          <a:pt x="51" y="36"/>
                        </a:lnTo>
                        <a:lnTo>
                          <a:pt x="43" y="45"/>
                        </a:lnTo>
                        <a:lnTo>
                          <a:pt x="51" y="57"/>
                        </a:lnTo>
                        <a:lnTo>
                          <a:pt x="47" y="72"/>
                        </a:lnTo>
                        <a:lnTo>
                          <a:pt x="40" y="79"/>
                        </a:lnTo>
                        <a:lnTo>
                          <a:pt x="25" y="77"/>
                        </a:lnTo>
                        <a:lnTo>
                          <a:pt x="15" y="77"/>
                        </a:lnTo>
                        <a:lnTo>
                          <a:pt x="9" y="67"/>
                        </a:lnTo>
                        <a:lnTo>
                          <a:pt x="4" y="55"/>
                        </a:lnTo>
                        <a:lnTo>
                          <a:pt x="4" y="43"/>
                        </a:lnTo>
                        <a:lnTo>
                          <a:pt x="0" y="26"/>
                        </a:lnTo>
                        <a:lnTo>
                          <a:pt x="11"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521120" y="3026520"/>
                    <a:ext cx="124200" cy="105480"/>
                  </a:xfrm>
                  <a:custGeom>
                    <a:avLst/>
                    <a:gdLst/>
                    <a:ahLst/>
                    <a:rect l="l" t="t" r="r" b="b"/>
                    <a:pathLst>
                      <a:path w="90" h="74">
                        <a:moveTo>
                          <a:pt x="13" y="0"/>
                        </a:moveTo>
                        <a:lnTo>
                          <a:pt x="24" y="12"/>
                        </a:lnTo>
                        <a:lnTo>
                          <a:pt x="35" y="9"/>
                        </a:lnTo>
                        <a:lnTo>
                          <a:pt x="52" y="12"/>
                        </a:lnTo>
                        <a:lnTo>
                          <a:pt x="67" y="12"/>
                        </a:lnTo>
                        <a:lnTo>
                          <a:pt x="74" y="19"/>
                        </a:lnTo>
                        <a:lnTo>
                          <a:pt x="83" y="35"/>
                        </a:lnTo>
                        <a:lnTo>
                          <a:pt x="89" y="42"/>
                        </a:lnTo>
                        <a:lnTo>
                          <a:pt x="69" y="47"/>
                        </a:lnTo>
                        <a:lnTo>
                          <a:pt x="63" y="52"/>
                        </a:lnTo>
                        <a:lnTo>
                          <a:pt x="69" y="61"/>
                        </a:lnTo>
                        <a:lnTo>
                          <a:pt x="69" y="71"/>
                        </a:lnTo>
                        <a:lnTo>
                          <a:pt x="48" y="61"/>
                        </a:lnTo>
                        <a:lnTo>
                          <a:pt x="32" y="54"/>
                        </a:lnTo>
                        <a:lnTo>
                          <a:pt x="24" y="57"/>
                        </a:lnTo>
                        <a:lnTo>
                          <a:pt x="24" y="71"/>
                        </a:lnTo>
                        <a:lnTo>
                          <a:pt x="13" y="73"/>
                        </a:lnTo>
                        <a:lnTo>
                          <a:pt x="7" y="61"/>
                        </a:lnTo>
                        <a:lnTo>
                          <a:pt x="6" y="47"/>
                        </a:lnTo>
                        <a:lnTo>
                          <a:pt x="0" y="45"/>
                        </a:lnTo>
                        <a:lnTo>
                          <a:pt x="6" y="31"/>
                        </a:lnTo>
                        <a:lnTo>
                          <a:pt x="15" y="26"/>
                        </a:lnTo>
                        <a:lnTo>
                          <a:pt x="13"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
                <p:cNvSpPr/>
                <p:nvPr/>
              </p:nvSpPr>
              <p:spPr>
                <a:xfrm>
                  <a:off x="7625520" y="4802040"/>
                  <a:ext cx="857880" cy="846360"/>
                </a:xfrm>
                <a:custGeom>
                  <a:avLst/>
                  <a:gdLst/>
                  <a:ahLst/>
                  <a:rect l="l" t="t" r="r" b="b"/>
                  <a:pathLst>
                    <a:path w="625" h="590">
                      <a:moveTo>
                        <a:pt x="449" y="0"/>
                      </a:moveTo>
                      <a:lnTo>
                        <a:pt x="483" y="0"/>
                      </a:lnTo>
                      <a:lnTo>
                        <a:pt x="483" y="47"/>
                      </a:lnTo>
                      <a:lnTo>
                        <a:pt x="496" y="59"/>
                      </a:lnTo>
                      <a:lnTo>
                        <a:pt x="500" y="66"/>
                      </a:lnTo>
                      <a:lnTo>
                        <a:pt x="507" y="66"/>
                      </a:lnTo>
                      <a:lnTo>
                        <a:pt x="511" y="76"/>
                      </a:lnTo>
                      <a:lnTo>
                        <a:pt x="514" y="123"/>
                      </a:lnTo>
                      <a:lnTo>
                        <a:pt x="533" y="154"/>
                      </a:lnTo>
                      <a:lnTo>
                        <a:pt x="561" y="199"/>
                      </a:lnTo>
                      <a:lnTo>
                        <a:pt x="561" y="206"/>
                      </a:lnTo>
                      <a:lnTo>
                        <a:pt x="591" y="244"/>
                      </a:lnTo>
                      <a:lnTo>
                        <a:pt x="591" y="251"/>
                      </a:lnTo>
                      <a:lnTo>
                        <a:pt x="620" y="281"/>
                      </a:lnTo>
                      <a:lnTo>
                        <a:pt x="624" y="336"/>
                      </a:lnTo>
                      <a:lnTo>
                        <a:pt x="620" y="386"/>
                      </a:lnTo>
                      <a:lnTo>
                        <a:pt x="611" y="409"/>
                      </a:lnTo>
                      <a:lnTo>
                        <a:pt x="600" y="421"/>
                      </a:lnTo>
                      <a:lnTo>
                        <a:pt x="596" y="445"/>
                      </a:lnTo>
                      <a:lnTo>
                        <a:pt x="585" y="466"/>
                      </a:lnTo>
                      <a:lnTo>
                        <a:pt x="576" y="475"/>
                      </a:lnTo>
                      <a:lnTo>
                        <a:pt x="578" y="483"/>
                      </a:lnTo>
                      <a:lnTo>
                        <a:pt x="566" y="497"/>
                      </a:lnTo>
                      <a:lnTo>
                        <a:pt x="561" y="527"/>
                      </a:lnTo>
                      <a:lnTo>
                        <a:pt x="559" y="544"/>
                      </a:lnTo>
                      <a:lnTo>
                        <a:pt x="548" y="551"/>
                      </a:lnTo>
                      <a:lnTo>
                        <a:pt x="546" y="558"/>
                      </a:lnTo>
                      <a:lnTo>
                        <a:pt x="539" y="572"/>
                      </a:lnTo>
                      <a:lnTo>
                        <a:pt x="526" y="575"/>
                      </a:lnTo>
                      <a:lnTo>
                        <a:pt x="516" y="580"/>
                      </a:lnTo>
                      <a:lnTo>
                        <a:pt x="503" y="589"/>
                      </a:lnTo>
                      <a:lnTo>
                        <a:pt x="487" y="570"/>
                      </a:lnTo>
                      <a:lnTo>
                        <a:pt x="468" y="572"/>
                      </a:lnTo>
                      <a:lnTo>
                        <a:pt x="462" y="572"/>
                      </a:lnTo>
                      <a:lnTo>
                        <a:pt x="436" y="577"/>
                      </a:lnTo>
                      <a:lnTo>
                        <a:pt x="420" y="558"/>
                      </a:lnTo>
                      <a:lnTo>
                        <a:pt x="409" y="539"/>
                      </a:lnTo>
                      <a:lnTo>
                        <a:pt x="401" y="542"/>
                      </a:lnTo>
                      <a:lnTo>
                        <a:pt x="394" y="525"/>
                      </a:lnTo>
                      <a:lnTo>
                        <a:pt x="390" y="511"/>
                      </a:lnTo>
                      <a:lnTo>
                        <a:pt x="386" y="506"/>
                      </a:lnTo>
                      <a:lnTo>
                        <a:pt x="386" y="483"/>
                      </a:lnTo>
                      <a:lnTo>
                        <a:pt x="388" y="468"/>
                      </a:lnTo>
                      <a:lnTo>
                        <a:pt x="384" y="459"/>
                      </a:lnTo>
                      <a:lnTo>
                        <a:pt x="370" y="464"/>
                      </a:lnTo>
                      <a:lnTo>
                        <a:pt x="362" y="466"/>
                      </a:lnTo>
                      <a:lnTo>
                        <a:pt x="349" y="466"/>
                      </a:lnTo>
                      <a:lnTo>
                        <a:pt x="344" y="466"/>
                      </a:lnTo>
                      <a:lnTo>
                        <a:pt x="338" y="466"/>
                      </a:lnTo>
                      <a:lnTo>
                        <a:pt x="329" y="452"/>
                      </a:lnTo>
                      <a:lnTo>
                        <a:pt x="319" y="433"/>
                      </a:lnTo>
                      <a:lnTo>
                        <a:pt x="318" y="435"/>
                      </a:lnTo>
                      <a:lnTo>
                        <a:pt x="301" y="435"/>
                      </a:lnTo>
                      <a:lnTo>
                        <a:pt x="299" y="428"/>
                      </a:lnTo>
                      <a:lnTo>
                        <a:pt x="290" y="435"/>
                      </a:lnTo>
                      <a:lnTo>
                        <a:pt x="280" y="433"/>
                      </a:lnTo>
                      <a:lnTo>
                        <a:pt x="266" y="433"/>
                      </a:lnTo>
                      <a:lnTo>
                        <a:pt x="256" y="428"/>
                      </a:lnTo>
                      <a:lnTo>
                        <a:pt x="253" y="435"/>
                      </a:lnTo>
                      <a:lnTo>
                        <a:pt x="238" y="438"/>
                      </a:lnTo>
                      <a:lnTo>
                        <a:pt x="234" y="433"/>
                      </a:lnTo>
                      <a:lnTo>
                        <a:pt x="225" y="445"/>
                      </a:lnTo>
                      <a:lnTo>
                        <a:pt x="214" y="457"/>
                      </a:lnTo>
                      <a:lnTo>
                        <a:pt x="206" y="457"/>
                      </a:lnTo>
                      <a:lnTo>
                        <a:pt x="195" y="471"/>
                      </a:lnTo>
                      <a:lnTo>
                        <a:pt x="178" y="471"/>
                      </a:lnTo>
                      <a:lnTo>
                        <a:pt x="165" y="475"/>
                      </a:lnTo>
                      <a:lnTo>
                        <a:pt x="150" y="483"/>
                      </a:lnTo>
                      <a:lnTo>
                        <a:pt x="143" y="492"/>
                      </a:lnTo>
                      <a:lnTo>
                        <a:pt x="137" y="490"/>
                      </a:lnTo>
                      <a:lnTo>
                        <a:pt x="132" y="499"/>
                      </a:lnTo>
                      <a:lnTo>
                        <a:pt x="124" y="501"/>
                      </a:lnTo>
                      <a:lnTo>
                        <a:pt x="115" y="513"/>
                      </a:lnTo>
                      <a:lnTo>
                        <a:pt x="85" y="513"/>
                      </a:lnTo>
                      <a:lnTo>
                        <a:pt x="72" y="497"/>
                      </a:lnTo>
                      <a:lnTo>
                        <a:pt x="71" y="490"/>
                      </a:lnTo>
                      <a:lnTo>
                        <a:pt x="67" y="497"/>
                      </a:lnTo>
                      <a:lnTo>
                        <a:pt x="61" y="485"/>
                      </a:lnTo>
                      <a:lnTo>
                        <a:pt x="63" y="454"/>
                      </a:lnTo>
                      <a:lnTo>
                        <a:pt x="67" y="435"/>
                      </a:lnTo>
                      <a:lnTo>
                        <a:pt x="61" y="421"/>
                      </a:lnTo>
                      <a:lnTo>
                        <a:pt x="56" y="407"/>
                      </a:lnTo>
                      <a:lnTo>
                        <a:pt x="54" y="390"/>
                      </a:lnTo>
                      <a:lnTo>
                        <a:pt x="45" y="383"/>
                      </a:lnTo>
                      <a:lnTo>
                        <a:pt x="43" y="381"/>
                      </a:lnTo>
                      <a:lnTo>
                        <a:pt x="41" y="374"/>
                      </a:lnTo>
                      <a:lnTo>
                        <a:pt x="28" y="352"/>
                      </a:lnTo>
                      <a:lnTo>
                        <a:pt x="11" y="300"/>
                      </a:lnTo>
                      <a:lnTo>
                        <a:pt x="6" y="265"/>
                      </a:lnTo>
                      <a:lnTo>
                        <a:pt x="6" y="244"/>
                      </a:lnTo>
                      <a:lnTo>
                        <a:pt x="0" y="237"/>
                      </a:lnTo>
                      <a:lnTo>
                        <a:pt x="2" y="218"/>
                      </a:lnTo>
                      <a:lnTo>
                        <a:pt x="7" y="208"/>
                      </a:lnTo>
                      <a:lnTo>
                        <a:pt x="28" y="182"/>
                      </a:lnTo>
                      <a:lnTo>
                        <a:pt x="48" y="185"/>
                      </a:lnTo>
                      <a:lnTo>
                        <a:pt x="52" y="189"/>
                      </a:lnTo>
                      <a:lnTo>
                        <a:pt x="78" y="189"/>
                      </a:lnTo>
                      <a:lnTo>
                        <a:pt x="80" y="182"/>
                      </a:lnTo>
                      <a:lnTo>
                        <a:pt x="85" y="185"/>
                      </a:lnTo>
                      <a:lnTo>
                        <a:pt x="93" y="177"/>
                      </a:lnTo>
                      <a:lnTo>
                        <a:pt x="98" y="180"/>
                      </a:lnTo>
                      <a:lnTo>
                        <a:pt x="104" y="175"/>
                      </a:lnTo>
                      <a:lnTo>
                        <a:pt x="102" y="168"/>
                      </a:lnTo>
                      <a:lnTo>
                        <a:pt x="108" y="151"/>
                      </a:lnTo>
                      <a:lnTo>
                        <a:pt x="115" y="144"/>
                      </a:lnTo>
                      <a:lnTo>
                        <a:pt x="111" y="140"/>
                      </a:lnTo>
                      <a:lnTo>
                        <a:pt x="115" y="135"/>
                      </a:lnTo>
                      <a:lnTo>
                        <a:pt x="111" y="128"/>
                      </a:lnTo>
                      <a:lnTo>
                        <a:pt x="123" y="116"/>
                      </a:lnTo>
                      <a:lnTo>
                        <a:pt x="139" y="114"/>
                      </a:lnTo>
                      <a:lnTo>
                        <a:pt x="156" y="85"/>
                      </a:lnTo>
                      <a:lnTo>
                        <a:pt x="176" y="62"/>
                      </a:lnTo>
                      <a:lnTo>
                        <a:pt x="186" y="59"/>
                      </a:lnTo>
                      <a:lnTo>
                        <a:pt x="191" y="54"/>
                      </a:lnTo>
                      <a:lnTo>
                        <a:pt x="201" y="54"/>
                      </a:lnTo>
                      <a:lnTo>
                        <a:pt x="217" y="73"/>
                      </a:lnTo>
                      <a:lnTo>
                        <a:pt x="223" y="76"/>
                      </a:lnTo>
                      <a:lnTo>
                        <a:pt x="228" y="66"/>
                      </a:lnTo>
                      <a:lnTo>
                        <a:pt x="240" y="54"/>
                      </a:lnTo>
                      <a:lnTo>
                        <a:pt x="247" y="52"/>
                      </a:lnTo>
                      <a:lnTo>
                        <a:pt x="254" y="33"/>
                      </a:lnTo>
                      <a:lnTo>
                        <a:pt x="262" y="31"/>
                      </a:lnTo>
                      <a:lnTo>
                        <a:pt x="271" y="24"/>
                      </a:lnTo>
                      <a:lnTo>
                        <a:pt x="280" y="17"/>
                      </a:lnTo>
                      <a:lnTo>
                        <a:pt x="290" y="17"/>
                      </a:lnTo>
                      <a:lnTo>
                        <a:pt x="297" y="7"/>
                      </a:lnTo>
                      <a:lnTo>
                        <a:pt x="308" y="7"/>
                      </a:lnTo>
                      <a:lnTo>
                        <a:pt x="321" y="7"/>
                      </a:lnTo>
                      <a:lnTo>
                        <a:pt x="338" y="12"/>
                      </a:lnTo>
                      <a:lnTo>
                        <a:pt x="349" y="21"/>
                      </a:lnTo>
                      <a:lnTo>
                        <a:pt x="351" y="28"/>
                      </a:lnTo>
                      <a:lnTo>
                        <a:pt x="353" y="33"/>
                      </a:lnTo>
                      <a:lnTo>
                        <a:pt x="355" y="45"/>
                      </a:lnTo>
                      <a:lnTo>
                        <a:pt x="353" y="50"/>
                      </a:lnTo>
                      <a:lnTo>
                        <a:pt x="353" y="59"/>
                      </a:lnTo>
                      <a:lnTo>
                        <a:pt x="351" y="66"/>
                      </a:lnTo>
                      <a:lnTo>
                        <a:pt x="379" y="92"/>
                      </a:lnTo>
                      <a:lnTo>
                        <a:pt x="388" y="106"/>
                      </a:lnTo>
                      <a:lnTo>
                        <a:pt x="399" y="111"/>
                      </a:lnTo>
                      <a:lnTo>
                        <a:pt x="410" y="118"/>
                      </a:lnTo>
                      <a:lnTo>
                        <a:pt x="418" y="121"/>
                      </a:lnTo>
                      <a:lnTo>
                        <a:pt x="429" y="114"/>
                      </a:lnTo>
                      <a:lnTo>
                        <a:pt x="438" y="92"/>
                      </a:lnTo>
                      <a:lnTo>
                        <a:pt x="442" y="76"/>
                      </a:lnTo>
                      <a:lnTo>
                        <a:pt x="446" y="45"/>
                      </a:lnTo>
                      <a:lnTo>
                        <a:pt x="449" y="31"/>
                      </a:lnTo>
                      <a:lnTo>
                        <a:pt x="44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422840" y="4618800"/>
                  <a:ext cx="477720" cy="116280"/>
                </a:xfrm>
                <a:custGeom>
                  <a:avLst/>
                  <a:gdLst/>
                  <a:ahLst/>
                  <a:rect l="l" t="t" r="r" b="b"/>
                  <a:pathLst>
                    <a:path w="348" h="81">
                      <a:moveTo>
                        <a:pt x="0" y="0"/>
                      </a:moveTo>
                      <a:lnTo>
                        <a:pt x="26" y="12"/>
                      </a:lnTo>
                      <a:lnTo>
                        <a:pt x="49" y="12"/>
                      </a:lnTo>
                      <a:lnTo>
                        <a:pt x="69" y="12"/>
                      </a:lnTo>
                      <a:lnTo>
                        <a:pt x="84" y="12"/>
                      </a:lnTo>
                      <a:lnTo>
                        <a:pt x="95" y="14"/>
                      </a:lnTo>
                      <a:lnTo>
                        <a:pt x="110" y="21"/>
                      </a:lnTo>
                      <a:lnTo>
                        <a:pt x="118" y="38"/>
                      </a:lnTo>
                      <a:lnTo>
                        <a:pt x="125" y="45"/>
                      </a:lnTo>
                      <a:lnTo>
                        <a:pt x="138" y="42"/>
                      </a:lnTo>
                      <a:lnTo>
                        <a:pt x="153" y="42"/>
                      </a:lnTo>
                      <a:lnTo>
                        <a:pt x="170" y="52"/>
                      </a:lnTo>
                      <a:lnTo>
                        <a:pt x="181" y="56"/>
                      </a:lnTo>
                      <a:lnTo>
                        <a:pt x="188" y="56"/>
                      </a:lnTo>
                      <a:lnTo>
                        <a:pt x="190" y="45"/>
                      </a:lnTo>
                      <a:lnTo>
                        <a:pt x="196" y="38"/>
                      </a:lnTo>
                      <a:lnTo>
                        <a:pt x="218" y="42"/>
                      </a:lnTo>
                      <a:lnTo>
                        <a:pt x="237" y="42"/>
                      </a:lnTo>
                      <a:lnTo>
                        <a:pt x="254" y="42"/>
                      </a:lnTo>
                      <a:lnTo>
                        <a:pt x="267" y="49"/>
                      </a:lnTo>
                      <a:lnTo>
                        <a:pt x="274" y="54"/>
                      </a:lnTo>
                      <a:lnTo>
                        <a:pt x="287" y="52"/>
                      </a:lnTo>
                      <a:lnTo>
                        <a:pt x="297" y="47"/>
                      </a:lnTo>
                      <a:lnTo>
                        <a:pt x="302" y="42"/>
                      </a:lnTo>
                      <a:lnTo>
                        <a:pt x="317" y="42"/>
                      </a:lnTo>
                      <a:lnTo>
                        <a:pt x="326" y="38"/>
                      </a:lnTo>
                      <a:lnTo>
                        <a:pt x="340" y="33"/>
                      </a:lnTo>
                      <a:lnTo>
                        <a:pt x="347" y="33"/>
                      </a:lnTo>
                      <a:lnTo>
                        <a:pt x="345" y="49"/>
                      </a:lnTo>
                      <a:lnTo>
                        <a:pt x="341" y="56"/>
                      </a:lnTo>
                      <a:lnTo>
                        <a:pt x="334" y="64"/>
                      </a:lnTo>
                      <a:lnTo>
                        <a:pt x="326" y="64"/>
                      </a:lnTo>
                      <a:lnTo>
                        <a:pt x="325" y="64"/>
                      </a:lnTo>
                      <a:lnTo>
                        <a:pt x="315" y="66"/>
                      </a:lnTo>
                      <a:lnTo>
                        <a:pt x="308" y="75"/>
                      </a:lnTo>
                      <a:lnTo>
                        <a:pt x="300" y="73"/>
                      </a:lnTo>
                      <a:lnTo>
                        <a:pt x="293" y="68"/>
                      </a:lnTo>
                      <a:lnTo>
                        <a:pt x="285" y="73"/>
                      </a:lnTo>
                      <a:lnTo>
                        <a:pt x="278" y="75"/>
                      </a:lnTo>
                      <a:lnTo>
                        <a:pt x="272" y="75"/>
                      </a:lnTo>
                      <a:lnTo>
                        <a:pt x="267" y="80"/>
                      </a:lnTo>
                      <a:lnTo>
                        <a:pt x="252" y="80"/>
                      </a:lnTo>
                      <a:lnTo>
                        <a:pt x="246" y="73"/>
                      </a:lnTo>
                      <a:lnTo>
                        <a:pt x="239" y="64"/>
                      </a:lnTo>
                      <a:lnTo>
                        <a:pt x="229" y="73"/>
                      </a:lnTo>
                      <a:lnTo>
                        <a:pt x="224" y="80"/>
                      </a:lnTo>
                      <a:lnTo>
                        <a:pt x="216" y="80"/>
                      </a:lnTo>
                      <a:lnTo>
                        <a:pt x="203" y="64"/>
                      </a:lnTo>
                      <a:lnTo>
                        <a:pt x="200" y="66"/>
                      </a:lnTo>
                      <a:lnTo>
                        <a:pt x="192" y="66"/>
                      </a:lnTo>
                      <a:lnTo>
                        <a:pt x="187" y="75"/>
                      </a:lnTo>
                      <a:lnTo>
                        <a:pt x="175" y="73"/>
                      </a:lnTo>
                      <a:lnTo>
                        <a:pt x="164" y="73"/>
                      </a:lnTo>
                      <a:lnTo>
                        <a:pt x="159" y="68"/>
                      </a:lnTo>
                      <a:lnTo>
                        <a:pt x="151" y="64"/>
                      </a:lnTo>
                      <a:lnTo>
                        <a:pt x="140" y="66"/>
                      </a:lnTo>
                      <a:lnTo>
                        <a:pt x="129" y="75"/>
                      </a:lnTo>
                      <a:lnTo>
                        <a:pt x="121" y="73"/>
                      </a:lnTo>
                      <a:lnTo>
                        <a:pt x="110" y="68"/>
                      </a:lnTo>
                      <a:lnTo>
                        <a:pt x="97" y="61"/>
                      </a:lnTo>
                      <a:lnTo>
                        <a:pt x="86" y="61"/>
                      </a:lnTo>
                      <a:lnTo>
                        <a:pt x="63" y="54"/>
                      </a:lnTo>
                      <a:lnTo>
                        <a:pt x="49" y="49"/>
                      </a:lnTo>
                      <a:lnTo>
                        <a:pt x="39" y="47"/>
                      </a:lnTo>
                      <a:lnTo>
                        <a:pt x="24" y="45"/>
                      </a:lnTo>
                      <a:lnTo>
                        <a:pt x="15" y="35"/>
                      </a:lnTo>
                      <a:lnTo>
                        <a:pt x="6" y="33"/>
                      </a:lnTo>
                      <a:lnTo>
                        <a:pt x="2" y="31"/>
                      </a:lnTo>
                      <a:lnTo>
                        <a:pt x="0" y="26"/>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684200" y="4393080"/>
                  <a:ext cx="216360" cy="221760"/>
                </a:xfrm>
                <a:custGeom>
                  <a:avLst/>
                  <a:gdLst/>
                  <a:ahLst/>
                  <a:rect l="l" t="t" r="r" b="b"/>
                  <a:pathLst>
                    <a:path w="158" h="155">
                      <a:moveTo>
                        <a:pt x="39" y="0"/>
                      </a:moveTo>
                      <a:lnTo>
                        <a:pt x="77" y="2"/>
                      </a:lnTo>
                      <a:lnTo>
                        <a:pt x="112" y="2"/>
                      </a:lnTo>
                      <a:lnTo>
                        <a:pt x="131" y="0"/>
                      </a:lnTo>
                      <a:lnTo>
                        <a:pt x="157" y="14"/>
                      </a:lnTo>
                      <a:lnTo>
                        <a:pt x="140" y="19"/>
                      </a:lnTo>
                      <a:lnTo>
                        <a:pt x="131" y="26"/>
                      </a:lnTo>
                      <a:lnTo>
                        <a:pt x="125" y="31"/>
                      </a:lnTo>
                      <a:lnTo>
                        <a:pt x="121" y="36"/>
                      </a:lnTo>
                      <a:lnTo>
                        <a:pt x="121" y="40"/>
                      </a:lnTo>
                      <a:lnTo>
                        <a:pt x="121" y="47"/>
                      </a:lnTo>
                      <a:lnTo>
                        <a:pt x="110" y="52"/>
                      </a:lnTo>
                      <a:lnTo>
                        <a:pt x="101" y="52"/>
                      </a:lnTo>
                      <a:lnTo>
                        <a:pt x="97" y="54"/>
                      </a:lnTo>
                      <a:lnTo>
                        <a:pt x="88" y="54"/>
                      </a:lnTo>
                      <a:lnTo>
                        <a:pt x="84" y="47"/>
                      </a:lnTo>
                      <a:lnTo>
                        <a:pt x="77" y="38"/>
                      </a:lnTo>
                      <a:lnTo>
                        <a:pt x="69" y="31"/>
                      </a:lnTo>
                      <a:lnTo>
                        <a:pt x="54" y="31"/>
                      </a:lnTo>
                      <a:lnTo>
                        <a:pt x="50" y="31"/>
                      </a:lnTo>
                      <a:lnTo>
                        <a:pt x="47" y="43"/>
                      </a:lnTo>
                      <a:lnTo>
                        <a:pt x="49" y="54"/>
                      </a:lnTo>
                      <a:lnTo>
                        <a:pt x="49" y="62"/>
                      </a:lnTo>
                      <a:lnTo>
                        <a:pt x="50" y="69"/>
                      </a:lnTo>
                      <a:lnTo>
                        <a:pt x="58" y="66"/>
                      </a:lnTo>
                      <a:lnTo>
                        <a:pt x="69" y="59"/>
                      </a:lnTo>
                      <a:lnTo>
                        <a:pt x="77" y="59"/>
                      </a:lnTo>
                      <a:lnTo>
                        <a:pt x="82" y="64"/>
                      </a:lnTo>
                      <a:lnTo>
                        <a:pt x="82" y="69"/>
                      </a:lnTo>
                      <a:lnTo>
                        <a:pt x="79" y="78"/>
                      </a:lnTo>
                      <a:lnTo>
                        <a:pt x="77" y="83"/>
                      </a:lnTo>
                      <a:lnTo>
                        <a:pt x="77" y="88"/>
                      </a:lnTo>
                      <a:lnTo>
                        <a:pt x="75" y="95"/>
                      </a:lnTo>
                      <a:lnTo>
                        <a:pt x="79" y="102"/>
                      </a:lnTo>
                      <a:lnTo>
                        <a:pt x="86" y="111"/>
                      </a:lnTo>
                      <a:lnTo>
                        <a:pt x="88" y="109"/>
                      </a:lnTo>
                      <a:lnTo>
                        <a:pt x="88" y="118"/>
                      </a:lnTo>
                      <a:lnTo>
                        <a:pt x="84" y="126"/>
                      </a:lnTo>
                      <a:lnTo>
                        <a:pt x="80" y="133"/>
                      </a:lnTo>
                      <a:lnTo>
                        <a:pt x="79" y="145"/>
                      </a:lnTo>
                      <a:lnTo>
                        <a:pt x="71" y="149"/>
                      </a:lnTo>
                      <a:lnTo>
                        <a:pt x="65" y="149"/>
                      </a:lnTo>
                      <a:lnTo>
                        <a:pt x="60" y="149"/>
                      </a:lnTo>
                      <a:lnTo>
                        <a:pt x="60" y="140"/>
                      </a:lnTo>
                      <a:lnTo>
                        <a:pt x="58" y="123"/>
                      </a:lnTo>
                      <a:lnTo>
                        <a:pt x="52" y="118"/>
                      </a:lnTo>
                      <a:lnTo>
                        <a:pt x="50" y="111"/>
                      </a:lnTo>
                      <a:lnTo>
                        <a:pt x="52" y="97"/>
                      </a:lnTo>
                      <a:lnTo>
                        <a:pt x="47" y="92"/>
                      </a:lnTo>
                      <a:lnTo>
                        <a:pt x="34" y="97"/>
                      </a:lnTo>
                      <a:lnTo>
                        <a:pt x="28" y="92"/>
                      </a:lnTo>
                      <a:lnTo>
                        <a:pt x="22" y="100"/>
                      </a:lnTo>
                      <a:lnTo>
                        <a:pt x="28" y="104"/>
                      </a:lnTo>
                      <a:lnTo>
                        <a:pt x="37" y="109"/>
                      </a:lnTo>
                      <a:lnTo>
                        <a:pt x="39" y="114"/>
                      </a:lnTo>
                      <a:lnTo>
                        <a:pt x="45" y="123"/>
                      </a:lnTo>
                      <a:lnTo>
                        <a:pt x="45" y="130"/>
                      </a:lnTo>
                      <a:lnTo>
                        <a:pt x="39" y="142"/>
                      </a:lnTo>
                      <a:lnTo>
                        <a:pt x="32" y="152"/>
                      </a:lnTo>
                      <a:lnTo>
                        <a:pt x="28" y="154"/>
                      </a:lnTo>
                      <a:lnTo>
                        <a:pt x="28" y="147"/>
                      </a:lnTo>
                      <a:lnTo>
                        <a:pt x="28" y="140"/>
                      </a:lnTo>
                      <a:lnTo>
                        <a:pt x="30" y="130"/>
                      </a:lnTo>
                      <a:lnTo>
                        <a:pt x="21" y="123"/>
                      </a:lnTo>
                      <a:lnTo>
                        <a:pt x="11" y="116"/>
                      </a:lnTo>
                      <a:lnTo>
                        <a:pt x="9" y="109"/>
                      </a:lnTo>
                      <a:lnTo>
                        <a:pt x="0" y="104"/>
                      </a:lnTo>
                      <a:lnTo>
                        <a:pt x="2" y="92"/>
                      </a:lnTo>
                      <a:lnTo>
                        <a:pt x="9" y="85"/>
                      </a:lnTo>
                      <a:lnTo>
                        <a:pt x="15" y="73"/>
                      </a:lnTo>
                      <a:lnTo>
                        <a:pt x="21" y="62"/>
                      </a:lnTo>
                      <a:lnTo>
                        <a:pt x="22" y="50"/>
                      </a:lnTo>
                      <a:lnTo>
                        <a:pt x="21" y="38"/>
                      </a:lnTo>
                      <a:lnTo>
                        <a:pt x="24" y="33"/>
                      </a:lnTo>
                      <a:lnTo>
                        <a:pt x="28" y="28"/>
                      </a:lnTo>
                      <a:lnTo>
                        <a:pt x="22" y="19"/>
                      </a:lnTo>
                      <a:lnTo>
                        <a:pt x="3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458840" y="4294080"/>
                  <a:ext cx="236880" cy="303480"/>
                </a:xfrm>
                <a:custGeom>
                  <a:avLst/>
                  <a:gdLst/>
                  <a:ahLst/>
                  <a:rect l="l" t="t" r="r" b="b"/>
                  <a:pathLst>
                    <a:path w="173" h="212">
                      <a:moveTo>
                        <a:pt x="0" y="70"/>
                      </a:moveTo>
                      <a:lnTo>
                        <a:pt x="35" y="38"/>
                      </a:lnTo>
                      <a:lnTo>
                        <a:pt x="54" y="23"/>
                      </a:lnTo>
                      <a:lnTo>
                        <a:pt x="63" y="12"/>
                      </a:lnTo>
                      <a:lnTo>
                        <a:pt x="91" y="0"/>
                      </a:lnTo>
                      <a:lnTo>
                        <a:pt x="105" y="26"/>
                      </a:lnTo>
                      <a:lnTo>
                        <a:pt x="120" y="14"/>
                      </a:lnTo>
                      <a:lnTo>
                        <a:pt x="126" y="7"/>
                      </a:lnTo>
                      <a:lnTo>
                        <a:pt x="139" y="0"/>
                      </a:lnTo>
                      <a:lnTo>
                        <a:pt x="146" y="0"/>
                      </a:lnTo>
                      <a:lnTo>
                        <a:pt x="148" y="9"/>
                      </a:lnTo>
                      <a:lnTo>
                        <a:pt x="148" y="16"/>
                      </a:lnTo>
                      <a:lnTo>
                        <a:pt x="141" y="28"/>
                      </a:lnTo>
                      <a:lnTo>
                        <a:pt x="141" y="35"/>
                      </a:lnTo>
                      <a:lnTo>
                        <a:pt x="161" y="66"/>
                      </a:lnTo>
                      <a:lnTo>
                        <a:pt x="165" y="84"/>
                      </a:lnTo>
                      <a:lnTo>
                        <a:pt x="170" y="84"/>
                      </a:lnTo>
                      <a:lnTo>
                        <a:pt x="172" y="94"/>
                      </a:lnTo>
                      <a:lnTo>
                        <a:pt x="165" y="103"/>
                      </a:lnTo>
                      <a:lnTo>
                        <a:pt x="159" y="98"/>
                      </a:lnTo>
                      <a:lnTo>
                        <a:pt x="146" y="106"/>
                      </a:lnTo>
                      <a:lnTo>
                        <a:pt x="148" y="124"/>
                      </a:lnTo>
                      <a:lnTo>
                        <a:pt x="133" y="136"/>
                      </a:lnTo>
                      <a:lnTo>
                        <a:pt x="133" y="166"/>
                      </a:lnTo>
                      <a:lnTo>
                        <a:pt x="133" y="188"/>
                      </a:lnTo>
                      <a:lnTo>
                        <a:pt x="126" y="197"/>
                      </a:lnTo>
                      <a:lnTo>
                        <a:pt x="120" y="211"/>
                      </a:lnTo>
                      <a:lnTo>
                        <a:pt x="113" y="209"/>
                      </a:lnTo>
                      <a:lnTo>
                        <a:pt x="102" y="202"/>
                      </a:lnTo>
                      <a:lnTo>
                        <a:pt x="92" y="195"/>
                      </a:lnTo>
                      <a:lnTo>
                        <a:pt x="85" y="183"/>
                      </a:lnTo>
                      <a:lnTo>
                        <a:pt x="59" y="185"/>
                      </a:lnTo>
                      <a:lnTo>
                        <a:pt x="37" y="178"/>
                      </a:lnTo>
                      <a:lnTo>
                        <a:pt x="22" y="159"/>
                      </a:lnTo>
                      <a:lnTo>
                        <a:pt x="13" y="145"/>
                      </a:lnTo>
                      <a:lnTo>
                        <a:pt x="6" y="134"/>
                      </a:lnTo>
                      <a:lnTo>
                        <a:pt x="6" y="110"/>
                      </a:lnTo>
                      <a:lnTo>
                        <a:pt x="0" y="7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964640" y="4467960"/>
                  <a:ext cx="455760" cy="286200"/>
                </a:xfrm>
                <a:custGeom>
                  <a:avLst/>
                  <a:gdLst/>
                  <a:ahLst/>
                  <a:rect l="l" t="t" r="r" b="b"/>
                  <a:pathLst>
                    <a:path w="332" h="200">
                      <a:moveTo>
                        <a:pt x="0" y="0"/>
                      </a:moveTo>
                      <a:lnTo>
                        <a:pt x="30" y="2"/>
                      </a:lnTo>
                      <a:lnTo>
                        <a:pt x="54" y="5"/>
                      </a:lnTo>
                      <a:lnTo>
                        <a:pt x="65" y="33"/>
                      </a:lnTo>
                      <a:lnTo>
                        <a:pt x="67" y="43"/>
                      </a:lnTo>
                      <a:lnTo>
                        <a:pt x="71" y="47"/>
                      </a:lnTo>
                      <a:lnTo>
                        <a:pt x="78" y="40"/>
                      </a:lnTo>
                      <a:lnTo>
                        <a:pt x="91" y="40"/>
                      </a:lnTo>
                      <a:lnTo>
                        <a:pt x="99" y="47"/>
                      </a:lnTo>
                      <a:lnTo>
                        <a:pt x="102" y="45"/>
                      </a:lnTo>
                      <a:lnTo>
                        <a:pt x="113" y="33"/>
                      </a:lnTo>
                      <a:lnTo>
                        <a:pt x="115" y="33"/>
                      </a:lnTo>
                      <a:lnTo>
                        <a:pt x="125" y="26"/>
                      </a:lnTo>
                      <a:lnTo>
                        <a:pt x="134" y="26"/>
                      </a:lnTo>
                      <a:lnTo>
                        <a:pt x="164" y="40"/>
                      </a:lnTo>
                      <a:lnTo>
                        <a:pt x="177" y="40"/>
                      </a:lnTo>
                      <a:lnTo>
                        <a:pt x="190" y="52"/>
                      </a:lnTo>
                      <a:lnTo>
                        <a:pt x="203" y="57"/>
                      </a:lnTo>
                      <a:lnTo>
                        <a:pt x="214" y="66"/>
                      </a:lnTo>
                      <a:lnTo>
                        <a:pt x="223" y="69"/>
                      </a:lnTo>
                      <a:lnTo>
                        <a:pt x="247" y="78"/>
                      </a:lnTo>
                      <a:lnTo>
                        <a:pt x="258" y="95"/>
                      </a:lnTo>
                      <a:lnTo>
                        <a:pt x="264" y="104"/>
                      </a:lnTo>
                      <a:lnTo>
                        <a:pt x="262" y="109"/>
                      </a:lnTo>
                      <a:lnTo>
                        <a:pt x="271" y="118"/>
                      </a:lnTo>
                      <a:lnTo>
                        <a:pt x="279" y="121"/>
                      </a:lnTo>
                      <a:lnTo>
                        <a:pt x="283" y="123"/>
                      </a:lnTo>
                      <a:lnTo>
                        <a:pt x="292" y="126"/>
                      </a:lnTo>
                      <a:lnTo>
                        <a:pt x="307" y="140"/>
                      </a:lnTo>
                      <a:lnTo>
                        <a:pt x="307" y="149"/>
                      </a:lnTo>
                      <a:lnTo>
                        <a:pt x="316" y="159"/>
                      </a:lnTo>
                      <a:lnTo>
                        <a:pt x="318" y="163"/>
                      </a:lnTo>
                      <a:lnTo>
                        <a:pt x="331" y="182"/>
                      </a:lnTo>
                      <a:lnTo>
                        <a:pt x="320" y="199"/>
                      </a:lnTo>
                      <a:lnTo>
                        <a:pt x="316" y="199"/>
                      </a:lnTo>
                      <a:lnTo>
                        <a:pt x="305" y="199"/>
                      </a:lnTo>
                      <a:lnTo>
                        <a:pt x="301" y="192"/>
                      </a:lnTo>
                      <a:lnTo>
                        <a:pt x="296" y="192"/>
                      </a:lnTo>
                      <a:lnTo>
                        <a:pt x="290" y="194"/>
                      </a:lnTo>
                      <a:lnTo>
                        <a:pt x="262" y="156"/>
                      </a:lnTo>
                      <a:lnTo>
                        <a:pt x="245" y="159"/>
                      </a:lnTo>
                      <a:lnTo>
                        <a:pt x="229" y="156"/>
                      </a:lnTo>
                      <a:lnTo>
                        <a:pt x="223" y="161"/>
                      </a:lnTo>
                      <a:lnTo>
                        <a:pt x="218" y="168"/>
                      </a:lnTo>
                      <a:lnTo>
                        <a:pt x="216" y="163"/>
                      </a:lnTo>
                      <a:lnTo>
                        <a:pt x="208" y="175"/>
                      </a:lnTo>
                      <a:lnTo>
                        <a:pt x="197" y="192"/>
                      </a:lnTo>
                      <a:lnTo>
                        <a:pt x="188" y="185"/>
                      </a:lnTo>
                      <a:lnTo>
                        <a:pt x="177" y="180"/>
                      </a:lnTo>
                      <a:lnTo>
                        <a:pt x="169" y="180"/>
                      </a:lnTo>
                      <a:lnTo>
                        <a:pt x="158" y="175"/>
                      </a:lnTo>
                      <a:lnTo>
                        <a:pt x="152" y="180"/>
                      </a:lnTo>
                      <a:lnTo>
                        <a:pt x="145" y="156"/>
                      </a:lnTo>
                      <a:lnTo>
                        <a:pt x="132" y="135"/>
                      </a:lnTo>
                      <a:lnTo>
                        <a:pt x="119" y="109"/>
                      </a:lnTo>
                      <a:lnTo>
                        <a:pt x="108" y="95"/>
                      </a:lnTo>
                      <a:lnTo>
                        <a:pt x="99" y="81"/>
                      </a:lnTo>
                      <a:lnTo>
                        <a:pt x="78" y="81"/>
                      </a:lnTo>
                      <a:lnTo>
                        <a:pt x="60" y="88"/>
                      </a:lnTo>
                      <a:lnTo>
                        <a:pt x="50" y="78"/>
                      </a:lnTo>
                      <a:lnTo>
                        <a:pt x="32" y="71"/>
                      </a:lnTo>
                      <a:lnTo>
                        <a:pt x="22" y="64"/>
                      </a:lnTo>
                      <a:lnTo>
                        <a:pt x="22" y="36"/>
                      </a:lnTo>
                      <a:lnTo>
                        <a:pt x="24"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122240" y="4263480"/>
                  <a:ext cx="275040" cy="379800"/>
                </a:xfrm>
                <a:custGeom>
                  <a:avLst/>
                  <a:gdLst/>
                  <a:ahLst/>
                  <a:rect l="l" t="t" r="r" b="b"/>
                  <a:pathLst>
                    <a:path w="200" h="264">
                      <a:moveTo>
                        <a:pt x="0" y="7"/>
                      </a:moveTo>
                      <a:lnTo>
                        <a:pt x="20" y="0"/>
                      </a:lnTo>
                      <a:lnTo>
                        <a:pt x="44" y="12"/>
                      </a:lnTo>
                      <a:lnTo>
                        <a:pt x="48" y="24"/>
                      </a:lnTo>
                      <a:lnTo>
                        <a:pt x="48" y="28"/>
                      </a:lnTo>
                      <a:lnTo>
                        <a:pt x="53" y="31"/>
                      </a:lnTo>
                      <a:lnTo>
                        <a:pt x="53" y="36"/>
                      </a:lnTo>
                      <a:lnTo>
                        <a:pt x="61" y="38"/>
                      </a:lnTo>
                      <a:lnTo>
                        <a:pt x="61" y="47"/>
                      </a:lnTo>
                      <a:lnTo>
                        <a:pt x="85" y="76"/>
                      </a:lnTo>
                      <a:lnTo>
                        <a:pt x="88" y="76"/>
                      </a:lnTo>
                      <a:lnTo>
                        <a:pt x="92" y="83"/>
                      </a:lnTo>
                      <a:lnTo>
                        <a:pt x="96" y="90"/>
                      </a:lnTo>
                      <a:lnTo>
                        <a:pt x="100" y="90"/>
                      </a:lnTo>
                      <a:lnTo>
                        <a:pt x="116" y="100"/>
                      </a:lnTo>
                      <a:lnTo>
                        <a:pt x="147" y="104"/>
                      </a:lnTo>
                      <a:lnTo>
                        <a:pt x="149" y="137"/>
                      </a:lnTo>
                      <a:lnTo>
                        <a:pt x="157" y="142"/>
                      </a:lnTo>
                      <a:lnTo>
                        <a:pt x="155" y="154"/>
                      </a:lnTo>
                      <a:lnTo>
                        <a:pt x="173" y="171"/>
                      </a:lnTo>
                      <a:lnTo>
                        <a:pt x="190" y="178"/>
                      </a:lnTo>
                      <a:lnTo>
                        <a:pt x="190" y="232"/>
                      </a:lnTo>
                      <a:lnTo>
                        <a:pt x="199" y="254"/>
                      </a:lnTo>
                      <a:lnTo>
                        <a:pt x="193" y="261"/>
                      </a:lnTo>
                      <a:lnTo>
                        <a:pt x="182" y="263"/>
                      </a:lnTo>
                      <a:lnTo>
                        <a:pt x="181" y="244"/>
                      </a:lnTo>
                      <a:lnTo>
                        <a:pt x="162" y="263"/>
                      </a:lnTo>
                      <a:lnTo>
                        <a:pt x="149" y="235"/>
                      </a:lnTo>
                      <a:lnTo>
                        <a:pt x="142" y="216"/>
                      </a:lnTo>
                      <a:lnTo>
                        <a:pt x="120" y="190"/>
                      </a:lnTo>
                      <a:lnTo>
                        <a:pt x="114" y="190"/>
                      </a:lnTo>
                      <a:lnTo>
                        <a:pt x="94" y="175"/>
                      </a:lnTo>
                      <a:lnTo>
                        <a:pt x="90" y="161"/>
                      </a:lnTo>
                      <a:lnTo>
                        <a:pt x="90" y="152"/>
                      </a:lnTo>
                      <a:lnTo>
                        <a:pt x="74" y="114"/>
                      </a:lnTo>
                      <a:lnTo>
                        <a:pt x="66" y="90"/>
                      </a:lnTo>
                      <a:lnTo>
                        <a:pt x="46" y="69"/>
                      </a:lnTo>
                      <a:lnTo>
                        <a:pt x="18" y="36"/>
                      </a:lnTo>
                      <a:lnTo>
                        <a:pt x="0" y="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610040" y="3858120"/>
                  <a:ext cx="268920" cy="415440"/>
                </a:xfrm>
                <a:custGeom>
                  <a:avLst/>
                  <a:gdLst/>
                  <a:ahLst/>
                  <a:rect l="l" t="t" r="r" b="b"/>
                  <a:pathLst>
                    <a:path w="196" h="290">
                      <a:moveTo>
                        <a:pt x="13" y="0"/>
                      </a:moveTo>
                      <a:lnTo>
                        <a:pt x="30" y="0"/>
                      </a:lnTo>
                      <a:lnTo>
                        <a:pt x="49" y="31"/>
                      </a:lnTo>
                      <a:lnTo>
                        <a:pt x="45" y="59"/>
                      </a:lnTo>
                      <a:lnTo>
                        <a:pt x="56" y="69"/>
                      </a:lnTo>
                      <a:lnTo>
                        <a:pt x="62" y="88"/>
                      </a:lnTo>
                      <a:lnTo>
                        <a:pt x="75" y="97"/>
                      </a:lnTo>
                      <a:lnTo>
                        <a:pt x="90" y="99"/>
                      </a:lnTo>
                      <a:lnTo>
                        <a:pt x="113" y="114"/>
                      </a:lnTo>
                      <a:lnTo>
                        <a:pt x="128" y="130"/>
                      </a:lnTo>
                      <a:lnTo>
                        <a:pt x="131" y="130"/>
                      </a:lnTo>
                      <a:lnTo>
                        <a:pt x="150" y="145"/>
                      </a:lnTo>
                      <a:lnTo>
                        <a:pt x="150" y="180"/>
                      </a:lnTo>
                      <a:lnTo>
                        <a:pt x="156" y="197"/>
                      </a:lnTo>
                      <a:lnTo>
                        <a:pt x="161" y="206"/>
                      </a:lnTo>
                      <a:lnTo>
                        <a:pt x="169" y="216"/>
                      </a:lnTo>
                      <a:lnTo>
                        <a:pt x="176" y="227"/>
                      </a:lnTo>
                      <a:lnTo>
                        <a:pt x="180" y="242"/>
                      </a:lnTo>
                      <a:lnTo>
                        <a:pt x="195" y="253"/>
                      </a:lnTo>
                      <a:lnTo>
                        <a:pt x="193" y="268"/>
                      </a:lnTo>
                      <a:lnTo>
                        <a:pt x="178" y="270"/>
                      </a:lnTo>
                      <a:lnTo>
                        <a:pt x="173" y="258"/>
                      </a:lnTo>
                      <a:lnTo>
                        <a:pt x="161" y="258"/>
                      </a:lnTo>
                      <a:lnTo>
                        <a:pt x="161" y="289"/>
                      </a:lnTo>
                      <a:lnTo>
                        <a:pt x="152" y="289"/>
                      </a:lnTo>
                      <a:lnTo>
                        <a:pt x="141" y="275"/>
                      </a:lnTo>
                      <a:lnTo>
                        <a:pt x="133" y="268"/>
                      </a:lnTo>
                      <a:lnTo>
                        <a:pt x="133" y="251"/>
                      </a:lnTo>
                      <a:lnTo>
                        <a:pt x="116" y="251"/>
                      </a:lnTo>
                      <a:lnTo>
                        <a:pt x="111" y="268"/>
                      </a:lnTo>
                      <a:lnTo>
                        <a:pt x="105" y="251"/>
                      </a:lnTo>
                      <a:lnTo>
                        <a:pt x="103" y="235"/>
                      </a:lnTo>
                      <a:lnTo>
                        <a:pt x="124" y="227"/>
                      </a:lnTo>
                      <a:lnTo>
                        <a:pt x="135" y="232"/>
                      </a:lnTo>
                      <a:lnTo>
                        <a:pt x="137" y="204"/>
                      </a:lnTo>
                      <a:lnTo>
                        <a:pt x="126" y="194"/>
                      </a:lnTo>
                      <a:lnTo>
                        <a:pt x="118" y="171"/>
                      </a:lnTo>
                      <a:lnTo>
                        <a:pt x="113" y="142"/>
                      </a:lnTo>
                      <a:lnTo>
                        <a:pt x="92" y="133"/>
                      </a:lnTo>
                      <a:lnTo>
                        <a:pt x="83" y="121"/>
                      </a:lnTo>
                      <a:lnTo>
                        <a:pt x="66" y="114"/>
                      </a:lnTo>
                      <a:lnTo>
                        <a:pt x="75" y="140"/>
                      </a:lnTo>
                      <a:lnTo>
                        <a:pt x="56" y="152"/>
                      </a:lnTo>
                      <a:lnTo>
                        <a:pt x="45" y="123"/>
                      </a:lnTo>
                      <a:lnTo>
                        <a:pt x="36" y="116"/>
                      </a:lnTo>
                      <a:lnTo>
                        <a:pt x="36" y="99"/>
                      </a:lnTo>
                      <a:lnTo>
                        <a:pt x="23" y="81"/>
                      </a:lnTo>
                      <a:lnTo>
                        <a:pt x="8" y="69"/>
                      </a:lnTo>
                      <a:lnTo>
                        <a:pt x="0" y="57"/>
                      </a:lnTo>
                      <a:lnTo>
                        <a:pt x="4" y="47"/>
                      </a:lnTo>
                      <a:lnTo>
                        <a:pt x="15" y="52"/>
                      </a:lnTo>
                      <a:lnTo>
                        <a:pt x="19" y="40"/>
                      </a:lnTo>
                      <a:lnTo>
                        <a:pt x="15" y="24"/>
                      </a:lnTo>
                      <a:lnTo>
                        <a:pt x="13"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549560" y="3155040"/>
                  <a:ext cx="197280" cy="351360"/>
                </a:xfrm>
                <a:custGeom>
                  <a:avLst/>
                  <a:gdLst/>
                  <a:ahLst/>
                  <a:rect l="l" t="t" r="r" b="b"/>
                  <a:pathLst>
                    <a:path w="144" h="245">
                      <a:moveTo>
                        <a:pt x="30" y="0"/>
                      </a:moveTo>
                      <a:lnTo>
                        <a:pt x="58" y="17"/>
                      </a:lnTo>
                      <a:lnTo>
                        <a:pt x="74" y="31"/>
                      </a:lnTo>
                      <a:lnTo>
                        <a:pt x="85" y="52"/>
                      </a:lnTo>
                      <a:lnTo>
                        <a:pt x="95" y="52"/>
                      </a:lnTo>
                      <a:lnTo>
                        <a:pt x="93" y="66"/>
                      </a:lnTo>
                      <a:lnTo>
                        <a:pt x="104" y="76"/>
                      </a:lnTo>
                      <a:lnTo>
                        <a:pt x="111" y="90"/>
                      </a:lnTo>
                      <a:lnTo>
                        <a:pt x="130" y="118"/>
                      </a:lnTo>
                      <a:lnTo>
                        <a:pt x="143" y="152"/>
                      </a:lnTo>
                      <a:lnTo>
                        <a:pt x="119" y="149"/>
                      </a:lnTo>
                      <a:lnTo>
                        <a:pt x="100" y="145"/>
                      </a:lnTo>
                      <a:lnTo>
                        <a:pt x="113" y="168"/>
                      </a:lnTo>
                      <a:lnTo>
                        <a:pt x="113" y="182"/>
                      </a:lnTo>
                      <a:lnTo>
                        <a:pt x="113" y="197"/>
                      </a:lnTo>
                      <a:lnTo>
                        <a:pt x="106" y="190"/>
                      </a:lnTo>
                      <a:lnTo>
                        <a:pt x="97" y="178"/>
                      </a:lnTo>
                      <a:lnTo>
                        <a:pt x="80" y="163"/>
                      </a:lnTo>
                      <a:lnTo>
                        <a:pt x="71" y="156"/>
                      </a:lnTo>
                      <a:lnTo>
                        <a:pt x="56" y="163"/>
                      </a:lnTo>
                      <a:lnTo>
                        <a:pt x="46" y="168"/>
                      </a:lnTo>
                      <a:lnTo>
                        <a:pt x="52" y="180"/>
                      </a:lnTo>
                      <a:lnTo>
                        <a:pt x="67" y="190"/>
                      </a:lnTo>
                      <a:lnTo>
                        <a:pt x="82" y="199"/>
                      </a:lnTo>
                      <a:lnTo>
                        <a:pt x="87" y="216"/>
                      </a:lnTo>
                      <a:lnTo>
                        <a:pt x="85" y="237"/>
                      </a:lnTo>
                      <a:lnTo>
                        <a:pt x="85" y="244"/>
                      </a:lnTo>
                      <a:lnTo>
                        <a:pt x="80" y="244"/>
                      </a:lnTo>
                      <a:lnTo>
                        <a:pt x="71" y="237"/>
                      </a:lnTo>
                      <a:lnTo>
                        <a:pt x="67" y="235"/>
                      </a:lnTo>
                      <a:lnTo>
                        <a:pt x="61" y="230"/>
                      </a:lnTo>
                      <a:lnTo>
                        <a:pt x="56" y="242"/>
                      </a:lnTo>
                      <a:lnTo>
                        <a:pt x="46" y="244"/>
                      </a:lnTo>
                      <a:lnTo>
                        <a:pt x="39" y="235"/>
                      </a:lnTo>
                      <a:lnTo>
                        <a:pt x="39" y="213"/>
                      </a:lnTo>
                      <a:lnTo>
                        <a:pt x="37" y="201"/>
                      </a:lnTo>
                      <a:lnTo>
                        <a:pt x="28" y="194"/>
                      </a:lnTo>
                      <a:lnTo>
                        <a:pt x="19" y="206"/>
                      </a:lnTo>
                      <a:lnTo>
                        <a:pt x="4" y="206"/>
                      </a:lnTo>
                      <a:lnTo>
                        <a:pt x="0" y="197"/>
                      </a:lnTo>
                      <a:lnTo>
                        <a:pt x="4" y="173"/>
                      </a:lnTo>
                      <a:lnTo>
                        <a:pt x="15" y="159"/>
                      </a:lnTo>
                      <a:lnTo>
                        <a:pt x="13" y="121"/>
                      </a:lnTo>
                      <a:lnTo>
                        <a:pt x="13" y="111"/>
                      </a:lnTo>
                      <a:lnTo>
                        <a:pt x="24" y="109"/>
                      </a:lnTo>
                      <a:lnTo>
                        <a:pt x="33" y="118"/>
                      </a:lnTo>
                      <a:lnTo>
                        <a:pt x="50" y="123"/>
                      </a:lnTo>
                      <a:lnTo>
                        <a:pt x="50" y="107"/>
                      </a:lnTo>
                      <a:lnTo>
                        <a:pt x="43" y="97"/>
                      </a:lnTo>
                      <a:lnTo>
                        <a:pt x="39" y="90"/>
                      </a:lnTo>
                      <a:lnTo>
                        <a:pt x="45" y="90"/>
                      </a:lnTo>
                      <a:lnTo>
                        <a:pt x="48" y="90"/>
                      </a:lnTo>
                      <a:lnTo>
                        <a:pt x="52" y="90"/>
                      </a:lnTo>
                      <a:lnTo>
                        <a:pt x="56" y="90"/>
                      </a:lnTo>
                      <a:lnTo>
                        <a:pt x="61" y="83"/>
                      </a:lnTo>
                      <a:lnTo>
                        <a:pt x="59" y="76"/>
                      </a:lnTo>
                      <a:lnTo>
                        <a:pt x="54" y="59"/>
                      </a:lnTo>
                      <a:lnTo>
                        <a:pt x="43" y="43"/>
                      </a:lnTo>
                      <a:lnTo>
                        <a:pt x="28" y="33"/>
                      </a:lnTo>
                      <a:lnTo>
                        <a:pt x="22" y="24"/>
                      </a:lnTo>
                      <a:lnTo>
                        <a:pt x="3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325640" y="2729880"/>
                  <a:ext cx="216360" cy="288720"/>
                </a:xfrm>
                <a:custGeom>
                  <a:avLst/>
                  <a:gdLst/>
                  <a:ahLst/>
                  <a:rect l="l" t="t" r="r" b="b"/>
                  <a:pathLst>
                    <a:path w="158" h="201">
                      <a:moveTo>
                        <a:pt x="0" y="0"/>
                      </a:moveTo>
                      <a:lnTo>
                        <a:pt x="15" y="0"/>
                      </a:lnTo>
                      <a:lnTo>
                        <a:pt x="21" y="14"/>
                      </a:lnTo>
                      <a:lnTo>
                        <a:pt x="41" y="35"/>
                      </a:lnTo>
                      <a:lnTo>
                        <a:pt x="50" y="59"/>
                      </a:lnTo>
                      <a:lnTo>
                        <a:pt x="65" y="61"/>
                      </a:lnTo>
                      <a:lnTo>
                        <a:pt x="77" y="66"/>
                      </a:lnTo>
                      <a:lnTo>
                        <a:pt x="86" y="75"/>
                      </a:lnTo>
                      <a:lnTo>
                        <a:pt x="97" y="75"/>
                      </a:lnTo>
                      <a:lnTo>
                        <a:pt x="110" y="89"/>
                      </a:lnTo>
                      <a:lnTo>
                        <a:pt x="121" y="101"/>
                      </a:lnTo>
                      <a:lnTo>
                        <a:pt x="135" y="108"/>
                      </a:lnTo>
                      <a:lnTo>
                        <a:pt x="133" y="115"/>
                      </a:lnTo>
                      <a:lnTo>
                        <a:pt x="125" y="120"/>
                      </a:lnTo>
                      <a:lnTo>
                        <a:pt x="118" y="120"/>
                      </a:lnTo>
                      <a:lnTo>
                        <a:pt x="114" y="127"/>
                      </a:lnTo>
                      <a:lnTo>
                        <a:pt x="129" y="141"/>
                      </a:lnTo>
                      <a:lnTo>
                        <a:pt x="140" y="155"/>
                      </a:lnTo>
                      <a:lnTo>
                        <a:pt x="157" y="169"/>
                      </a:lnTo>
                      <a:lnTo>
                        <a:pt x="146" y="186"/>
                      </a:lnTo>
                      <a:lnTo>
                        <a:pt x="136" y="191"/>
                      </a:lnTo>
                      <a:lnTo>
                        <a:pt x="138" y="200"/>
                      </a:lnTo>
                      <a:lnTo>
                        <a:pt x="121" y="200"/>
                      </a:lnTo>
                      <a:lnTo>
                        <a:pt x="116" y="193"/>
                      </a:lnTo>
                      <a:lnTo>
                        <a:pt x="103" y="174"/>
                      </a:lnTo>
                      <a:lnTo>
                        <a:pt x="93" y="158"/>
                      </a:lnTo>
                      <a:lnTo>
                        <a:pt x="79" y="129"/>
                      </a:lnTo>
                      <a:lnTo>
                        <a:pt x="62" y="108"/>
                      </a:lnTo>
                      <a:lnTo>
                        <a:pt x="43" y="78"/>
                      </a:lnTo>
                      <a:lnTo>
                        <a:pt x="32" y="68"/>
                      </a:lnTo>
                      <a:lnTo>
                        <a:pt x="22" y="61"/>
                      </a:lnTo>
                      <a:lnTo>
                        <a:pt x="19" y="45"/>
                      </a:lnTo>
                      <a:lnTo>
                        <a:pt x="2" y="31"/>
                      </a:lnTo>
                      <a:lnTo>
                        <a:pt x="2"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rot="18000000">
                  <a:off x="7302960" y="3115800"/>
                  <a:ext cx="130680" cy="272520"/>
                </a:xfrm>
                <a:custGeom>
                  <a:avLst/>
                  <a:gdLst/>
                  <a:ahLst/>
                  <a:rect l="l" t="t" r="r" b="b"/>
                  <a:pathLst>
                    <a:path w="91" h="198">
                      <a:moveTo>
                        <a:pt x="29" y="28"/>
                      </a:moveTo>
                      <a:lnTo>
                        <a:pt x="34" y="21"/>
                      </a:lnTo>
                      <a:lnTo>
                        <a:pt x="52" y="24"/>
                      </a:lnTo>
                      <a:lnTo>
                        <a:pt x="56" y="19"/>
                      </a:lnTo>
                      <a:lnTo>
                        <a:pt x="59" y="12"/>
                      </a:lnTo>
                      <a:lnTo>
                        <a:pt x="63" y="12"/>
                      </a:lnTo>
                      <a:lnTo>
                        <a:pt x="67" y="9"/>
                      </a:lnTo>
                      <a:lnTo>
                        <a:pt x="73" y="5"/>
                      </a:lnTo>
                      <a:lnTo>
                        <a:pt x="80" y="0"/>
                      </a:lnTo>
                      <a:lnTo>
                        <a:pt x="90" y="2"/>
                      </a:lnTo>
                      <a:lnTo>
                        <a:pt x="88" y="12"/>
                      </a:lnTo>
                      <a:lnTo>
                        <a:pt x="84" y="19"/>
                      </a:lnTo>
                      <a:lnTo>
                        <a:pt x="80" y="21"/>
                      </a:lnTo>
                      <a:lnTo>
                        <a:pt x="77" y="24"/>
                      </a:lnTo>
                      <a:lnTo>
                        <a:pt x="65" y="28"/>
                      </a:lnTo>
                      <a:lnTo>
                        <a:pt x="65" y="38"/>
                      </a:lnTo>
                      <a:lnTo>
                        <a:pt x="67" y="43"/>
                      </a:lnTo>
                      <a:lnTo>
                        <a:pt x="79" y="38"/>
                      </a:lnTo>
                      <a:lnTo>
                        <a:pt x="88" y="33"/>
                      </a:lnTo>
                      <a:lnTo>
                        <a:pt x="90" y="38"/>
                      </a:lnTo>
                      <a:lnTo>
                        <a:pt x="90" y="52"/>
                      </a:lnTo>
                      <a:lnTo>
                        <a:pt x="82" y="55"/>
                      </a:lnTo>
                      <a:lnTo>
                        <a:pt x="75" y="55"/>
                      </a:lnTo>
                      <a:lnTo>
                        <a:pt x="69" y="62"/>
                      </a:lnTo>
                      <a:lnTo>
                        <a:pt x="67" y="66"/>
                      </a:lnTo>
                      <a:lnTo>
                        <a:pt x="67" y="74"/>
                      </a:lnTo>
                      <a:lnTo>
                        <a:pt x="73" y="83"/>
                      </a:lnTo>
                      <a:lnTo>
                        <a:pt x="79" y="90"/>
                      </a:lnTo>
                      <a:lnTo>
                        <a:pt x="82" y="97"/>
                      </a:lnTo>
                      <a:lnTo>
                        <a:pt x="84" y="107"/>
                      </a:lnTo>
                      <a:lnTo>
                        <a:pt x="86" y="116"/>
                      </a:lnTo>
                      <a:lnTo>
                        <a:pt x="90" y="128"/>
                      </a:lnTo>
                      <a:lnTo>
                        <a:pt x="90" y="145"/>
                      </a:lnTo>
                      <a:lnTo>
                        <a:pt x="86" y="154"/>
                      </a:lnTo>
                      <a:lnTo>
                        <a:pt x="79" y="161"/>
                      </a:lnTo>
                      <a:lnTo>
                        <a:pt x="77" y="166"/>
                      </a:lnTo>
                      <a:lnTo>
                        <a:pt x="80" y="176"/>
                      </a:lnTo>
                      <a:lnTo>
                        <a:pt x="84" y="185"/>
                      </a:lnTo>
                      <a:lnTo>
                        <a:pt x="73" y="185"/>
                      </a:lnTo>
                      <a:lnTo>
                        <a:pt x="63" y="185"/>
                      </a:lnTo>
                      <a:lnTo>
                        <a:pt x="59" y="183"/>
                      </a:lnTo>
                      <a:lnTo>
                        <a:pt x="52" y="183"/>
                      </a:lnTo>
                      <a:lnTo>
                        <a:pt x="42" y="185"/>
                      </a:lnTo>
                      <a:lnTo>
                        <a:pt x="34" y="190"/>
                      </a:lnTo>
                      <a:lnTo>
                        <a:pt x="29" y="190"/>
                      </a:lnTo>
                      <a:lnTo>
                        <a:pt x="25" y="192"/>
                      </a:lnTo>
                      <a:lnTo>
                        <a:pt x="15" y="197"/>
                      </a:lnTo>
                      <a:lnTo>
                        <a:pt x="13" y="195"/>
                      </a:lnTo>
                      <a:lnTo>
                        <a:pt x="10" y="190"/>
                      </a:lnTo>
                      <a:lnTo>
                        <a:pt x="4" y="188"/>
                      </a:lnTo>
                      <a:lnTo>
                        <a:pt x="0" y="185"/>
                      </a:lnTo>
                      <a:lnTo>
                        <a:pt x="0" y="176"/>
                      </a:lnTo>
                      <a:lnTo>
                        <a:pt x="4" y="164"/>
                      </a:lnTo>
                      <a:lnTo>
                        <a:pt x="10" y="164"/>
                      </a:lnTo>
                      <a:lnTo>
                        <a:pt x="15" y="161"/>
                      </a:lnTo>
                      <a:lnTo>
                        <a:pt x="23" y="161"/>
                      </a:lnTo>
                      <a:lnTo>
                        <a:pt x="23" y="159"/>
                      </a:lnTo>
                      <a:lnTo>
                        <a:pt x="15" y="154"/>
                      </a:lnTo>
                      <a:lnTo>
                        <a:pt x="15" y="147"/>
                      </a:lnTo>
                      <a:lnTo>
                        <a:pt x="15" y="142"/>
                      </a:lnTo>
                      <a:lnTo>
                        <a:pt x="23" y="138"/>
                      </a:lnTo>
                      <a:lnTo>
                        <a:pt x="27" y="135"/>
                      </a:lnTo>
                      <a:lnTo>
                        <a:pt x="31" y="133"/>
                      </a:lnTo>
                      <a:lnTo>
                        <a:pt x="36" y="133"/>
                      </a:lnTo>
                      <a:lnTo>
                        <a:pt x="40" y="131"/>
                      </a:lnTo>
                      <a:lnTo>
                        <a:pt x="42" y="112"/>
                      </a:lnTo>
                      <a:lnTo>
                        <a:pt x="48" y="97"/>
                      </a:lnTo>
                      <a:lnTo>
                        <a:pt x="48" y="90"/>
                      </a:lnTo>
                      <a:lnTo>
                        <a:pt x="34" y="88"/>
                      </a:lnTo>
                      <a:lnTo>
                        <a:pt x="38" y="76"/>
                      </a:lnTo>
                      <a:lnTo>
                        <a:pt x="29" y="69"/>
                      </a:lnTo>
                      <a:lnTo>
                        <a:pt x="19" y="71"/>
                      </a:lnTo>
                      <a:lnTo>
                        <a:pt x="31" y="55"/>
                      </a:lnTo>
                      <a:lnTo>
                        <a:pt x="29" y="28"/>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13" name=""/>
          <p:cNvSpPr/>
          <p:nvPr/>
        </p:nvSpPr>
        <p:spPr>
          <a:xfrm>
            <a:off x="457200" y="48769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4" name=""/>
          <p:cNvSpPr/>
          <p:nvPr/>
        </p:nvSpPr>
        <p:spPr>
          <a:xfrm>
            <a:off x="610560" y="4800600"/>
            <a:ext cx="1480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pply Base</a:t>
            </a:r>
            <a:endParaRPr b="0" lang="en-US" sz="1700" spc="-1" strike="noStrike">
              <a:solidFill>
                <a:srgbClr val="000000"/>
              </a:solidFill>
              <a:latin typeface="Arial"/>
            </a:endParaRPr>
          </a:p>
        </p:txBody>
      </p:sp>
      <p:sp>
        <p:nvSpPr>
          <p:cNvPr id="215" name=""/>
          <p:cNvSpPr/>
          <p:nvPr/>
        </p:nvSpPr>
        <p:spPr>
          <a:xfrm>
            <a:off x="2209680" y="32767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6" name=""/>
          <p:cNvSpPr/>
          <p:nvPr/>
        </p:nvSpPr>
        <p:spPr>
          <a:xfrm>
            <a:off x="2438280" y="342900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7" name=""/>
          <p:cNvSpPr/>
          <p:nvPr/>
        </p:nvSpPr>
        <p:spPr>
          <a:xfrm>
            <a:off x="3124080" y="48769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8" name=""/>
          <p:cNvSpPr/>
          <p:nvPr/>
        </p:nvSpPr>
        <p:spPr>
          <a:xfrm>
            <a:off x="3200400" y="53341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9" name=""/>
          <p:cNvSpPr/>
          <p:nvPr/>
        </p:nvSpPr>
        <p:spPr>
          <a:xfrm>
            <a:off x="2438280" y="33526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0" name=""/>
          <p:cNvSpPr/>
          <p:nvPr/>
        </p:nvSpPr>
        <p:spPr>
          <a:xfrm>
            <a:off x="457200" y="52578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1" name=""/>
          <p:cNvSpPr/>
          <p:nvPr/>
        </p:nvSpPr>
        <p:spPr>
          <a:xfrm>
            <a:off x="2286000" y="33526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2" name=""/>
          <p:cNvSpPr/>
          <p:nvPr/>
        </p:nvSpPr>
        <p:spPr>
          <a:xfrm>
            <a:off x="2362320" y="33526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3" name=""/>
          <p:cNvSpPr/>
          <p:nvPr/>
        </p:nvSpPr>
        <p:spPr>
          <a:xfrm>
            <a:off x="2514600" y="32767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4" name=""/>
          <p:cNvSpPr/>
          <p:nvPr/>
        </p:nvSpPr>
        <p:spPr>
          <a:xfrm>
            <a:off x="5334120" y="53341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5" name=""/>
          <p:cNvSpPr/>
          <p:nvPr/>
        </p:nvSpPr>
        <p:spPr>
          <a:xfrm>
            <a:off x="7543800" y="32767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048120" y="48006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7" name=""/>
          <p:cNvSpPr/>
          <p:nvPr/>
        </p:nvSpPr>
        <p:spPr>
          <a:xfrm>
            <a:off x="3124080" y="49528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a:off x="3581280" y="51055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9" name=""/>
          <p:cNvSpPr/>
          <p:nvPr/>
        </p:nvSpPr>
        <p:spPr>
          <a:xfrm>
            <a:off x="3200400" y="52578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0" name=""/>
          <p:cNvSpPr/>
          <p:nvPr/>
        </p:nvSpPr>
        <p:spPr>
          <a:xfrm>
            <a:off x="3200400" y="54100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1" name=""/>
          <p:cNvSpPr/>
          <p:nvPr/>
        </p:nvSpPr>
        <p:spPr>
          <a:xfrm>
            <a:off x="5181480" y="25909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2" name=""/>
          <p:cNvSpPr/>
          <p:nvPr/>
        </p:nvSpPr>
        <p:spPr>
          <a:xfrm>
            <a:off x="4952880" y="31240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3" name=""/>
          <p:cNvSpPr/>
          <p:nvPr/>
        </p:nvSpPr>
        <p:spPr>
          <a:xfrm>
            <a:off x="8229600" y="54864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4" name=""/>
          <p:cNvSpPr/>
          <p:nvPr/>
        </p:nvSpPr>
        <p:spPr>
          <a:xfrm>
            <a:off x="2362320" y="32004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5" name=""/>
          <p:cNvSpPr/>
          <p:nvPr/>
        </p:nvSpPr>
        <p:spPr>
          <a:xfrm>
            <a:off x="2590920" y="29718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6" name=""/>
          <p:cNvSpPr/>
          <p:nvPr/>
        </p:nvSpPr>
        <p:spPr>
          <a:xfrm>
            <a:off x="2895480" y="32767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7" name=""/>
          <p:cNvSpPr/>
          <p:nvPr/>
        </p:nvSpPr>
        <p:spPr>
          <a:xfrm>
            <a:off x="3581280" y="49528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8" name=""/>
          <p:cNvSpPr/>
          <p:nvPr/>
        </p:nvSpPr>
        <p:spPr>
          <a:xfrm>
            <a:off x="7238880" y="36576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9" name=""/>
          <p:cNvSpPr/>
          <p:nvPr/>
        </p:nvSpPr>
        <p:spPr>
          <a:xfrm>
            <a:off x="2666880" y="38098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0" name=""/>
          <p:cNvSpPr/>
          <p:nvPr/>
        </p:nvSpPr>
        <p:spPr>
          <a:xfrm>
            <a:off x="7391520" y="32004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1" name=""/>
          <p:cNvSpPr/>
          <p:nvPr/>
        </p:nvSpPr>
        <p:spPr>
          <a:xfrm>
            <a:off x="76960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2" name=""/>
          <p:cNvSpPr/>
          <p:nvPr/>
        </p:nvSpPr>
        <p:spPr>
          <a:xfrm>
            <a:off x="6629400" y="38862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3" name=""/>
          <p:cNvSpPr/>
          <p:nvPr/>
        </p:nvSpPr>
        <p:spPr>
          <a:xfrm>
            <a:off x="609120" y="5181480"/>
            <a:ext cx="21315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CCS Supply Base</a:t>
            </a:r>
            <a:endParaRPr b="0" lang="en-US" sz="1700" spc="-1" strike="noStrike">
              <a:solidFill>
                <a:srgbClr val="000000"/>
              </a:solidFill>
              <a:latin typeface="Arial"/>
            </a:endParaRPr>
          </a:p>
        </p:txBody>
      </p:sp>
      <p:sp>
        <p:nvSpPr>
          <p:cNvPr id="244" name=""/>
          <p:cNvSpPr/>
          <p:nvPr/>
        </p:nvSpPr>
        <p:spPr>
          <a:xfrm>
            <a:off x="3124080" y="48769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5" name=""/>
          <p:cNvSpPr/>
          <p:nvPr/>
        </p:nvSpPr>
        <p:spPr>
          <a:xfrm>
            <a:off x="3200400" y="52578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6" name=""/>
          <p:cNvSpPr/>
          <p:nvPr/>
        </p:nvSpPr>
        <p:spPr>
          <a:xfrm>
            <a:off x="5410080" y="52578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7" name=""/>
          <p:cNvSpPr/>
          <p:nvPr/>
        </p:nvSpPr>
        <p:spPr>
          <a:xfrm>
            <a:off x="5334120" y="2895480"/>
            <a:ext cx="15228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8" name=""/>
          <p:cNvSpPr/>
          <p:nvPr/>
        </p:nvSpPr>
        <p:spPr>
          <a:xfrm>
            <a:off x="7238880" y="43434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9" name=""/>
          <p:cNvSpPr/>
          <p:nvPr/>
        </p:nvSpPr>
        <p:spPr>
          <a:xfrm>
            <a:off x="7315200" y="38862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0" name=""/>
          <p:cNvSpPr/>
          <p:nvPr/>
        </p:nvSpPr>
        <p:spPr>
          <a:xfrm>
            <a:off x="6553080" y="3124080"/>
            <a:ext cx="1447920" cy="1600200"/>
          </a:xfrm>
          <a:prstGeom prst="ellipse">
            <a:avLst/>
          </a:prstGeom>
          <a:noFill/>
          <a:ln w="19080">
            <a:solidFill>
              <a:srgbClr val="99cc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79280" y="260280"/>
            <a:ext cx="863928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Rates in Countries Outside Those with PD Operations Still Provide Much of the Reason to Consider LCC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52" name=""/>
          <p:cNvSpPr/>
          <p:nvPr/>
        </p:nvSpPr>
        <p:spPr>
          <a:xfrm rot="16200000">
            <a:off x="4241520" y="3398400"/>
            <a:ext cx="3124440" cy="304560"/>
          </a:xfrm>
          <a:prstGeom prst="downArrow">
            <a:avLst>
              <a:gd name="adj1" fmla="val 100000"/>
              <a:gd name="adj2" fmla="val 100000"/>
            </a:avLst>
          </a:prstGeom>
          <a:gradFill rotWithShape="0">
            <a:gsLst>
              <a:gs pos="0">
                <a:srgbClr val="cc9900"/>
              </a:gs>
              <a:gs pos="100000">
                <a:srgbClr val="e9d49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03560" y="1197000"/>
            <a:ext cx="34999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on of country labor r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 of China wage rates </a:t>
            </a:r>
            <a:endParaRPr b="0" lang="en-US" sz="1400" spc="-1" strike="noStrike">
              <a:solidFill>
                <a:srgbClr val="000000"/>
              </a:solidFill>
              <a:latin typeface="Arial"/>
            </a:endParaRPr>
          </a:p>
        </p:txBody>
      </p:sp>
      <p:sp>
        <p:nvSpPr>
          <p:cNvPr id="254" name=""/>
          <p:cNvSpPr/>
          <p:nvPr/>
        </p:nvSpPr>
        <p:spPr>
          <a:xfrm>
            <a:off x="5776920" y="1752480"/>
            <a:ext cx="3367080" cy="3227400"/>
          </a:xfrm>
          <a:prstGeom prst="rect">
            <a:avLst/>
          </a:prstGeom>
          <a:noFill/>
          <a:ln w="0">
            <a:noFill/>
          </a:ln>
        </p:spPr>
        <p:style>
          <a:lnRef idx="0"/>
          <a:fillRef idx="0"/>
          <a:effectRef idx="0"/>
          <a:fontRef idx="minor"/>
        </p:style>
        <p:txBody>
          <a:bodyPr lIns="90000" rIns="90000" tIns="46800" bIns="46800" anchor="t">
            <a:normAutofit fontScale="80000"/>
          </a:bodyPr>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labor rates in China, India and E. Europe are significantly lower</a:t>
            </a:r>
            <a:r>
              <a:rPr b="1" lang="en-US" sz="1800" spc="-1" strike="noStrike">
                <a:solidFill>
                  <a:srgbClr val="000000"/>
                </a:solidFill>
                <a:latin typeface="Arial"/>
              </a:rPr>
              <a:t> than the US and often lower than Peru and Chile</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with a </a:t>
            </a:r>
            <a:r>
              <a:rPr b="0" lang="en-US" sz="1800" spc="-1" strike="noStrike">
                <a:solidFill>
                  <a:srgbClr val="000000"/>
                </a:solidFill>
                <a:latin typeface="Arial"/>
              </a:rPr>
              <a:t>significant labor component can still yield savings</a:t>
            </a:r>
            <a:r>
              <a:rPr b="1" lang="en-US" sz="1800" spc="-1" strike="noStrike">
                <a:solidFill>
                  <a:srgbClr val="000000"/>
                </a:solidFill>
                <a:latin typeface="Arial"/>
              </a:rPr>
              <a:t> in the face of metal price increases</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with heavy metal content will have reduced savings, but </a:t>
            </a:r>
            <a:r>
              <a:rPr b="0" lang="en-US" sz="1800" spc="-1" strike="noStrike">
                <a:solidFill>
                  <a:srgbClr val="000000"/>
                </a:solidFill>
                <a:latin typeface="Arial"/>
              </a:rPr>
              <a:t>as surcharges continue cost avoidance may become a strategy</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 labor</a:t>
            </a:r>
            <a:r>
              <a:rPr b="1" lang="en-US" sz="1800" spc="-1" strike="noStrike">
                <a:solidFill>
                  <a:srgbClr val="000000"/>
                </a:solidFill>
                <a:latin typeface="Arial"/>
              </a:rPr>
              <a:t> can certainly take advantage of the high labor rate difference </a:t>
            </a:r>
            <a:r>
              <a:rPr b="0" lang="en-US" sz="1800" spc="-1" strike="noStrike">
                <a:solidFill>
                  <a:srgbClr val="000000"/>
                </a:solidFill>
                <a:latin typeface="Arial"/>
              </a:rPr>
              <a:t>for high savings</a:t>
            </a:r>
            <a:endParaRPr b="0" lang="en-US" sz="1800" spc="-1" strike="noStrike">
              <a:solidFill>
                <a:srgbClr val="000000"/>
              </a:solidFill>
              <a:latin typeface="Arial"/>
            </a:endParaRPr>
          </a:p>
        </p:txBody>
      </p:sp>
      <p:sp>
        <p:nvSpPr>
          <p:cNvPr id="255" name=""/>
          <p:cNvSpPr/>
          <p:nvPr/>
        </p:nvSpPr>
        <p:spPr>
          <a:xfrm>
            <a:off x="304920" y="5927760"/>
            <a:ext cx="1747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ILO and WTO 2000</a:t>
            </a:r>
            <a:endParaRPr b="0" lang="en-US" sz="1000" spc="-1" strike="noStrike">
              <a:solidFill>
                <a:srgbClr val="000000"/>
              </a:solidFill>
              <a:latin typeface="Arial"/>
            </a:endParaRPr>
          </a:p>
        </p:txBody>
      </p:sp>
      <p:pic>
        <p:nvPicPr>
          <p:cNvPr id="256" name="" descr=""/>
          <p:cNvPicPr/>
          <p:nvPr/>
        </p:nvPicPr>
        <p:blipFill>
          <a:blip r:embed="rId1"/>
          <a:stretch/>
        </p:blipFill>
        <p:spPr>
          <a:xfrm>
            <a:off x="457200" y="2378160"/>
            <a:ext cx="5243400" cy="3476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4267080" y="762120"/>
            <a:ext cx="4419720" cy="5333760"/>
          </a:xfrm>
          <a:prstGeom prst="rect">
            <a:avLst/>
          </a:prstGeom>
          <a:solidFill>
            <a:srgbClr val="cc9900">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PlaceHolder 1"/>
          <p:cNvSpPr>
            <a:spLocks noGrp="1"/>
          </p:cNvSpPr>
          <p:nvPr>
            <p:ph type="title"/>
          </p:nvPr>
        </p:nvSpPr>
        <p:spPr>
          <a:xfrm>
            <a:off x="131760" y="163440"/>
            <a:ext cx="9012240" cy="3700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lps Dodge’s Opportunities Are Largely Eastern Hemisphere, Where Resources Don’t Exist</a:t>
            </a:r>
            <a:endParaRPr b="0" lang="en-US" sz="2000" spc="-1" strike="noStrike">
              <a:solidFill>
                <a:srgbClr val="000000"/>
              </a:solidFill>
              <a:latin typeface="Arial"/>
            </a:endParaRPr>
          </a:p>
        </p:txBody>
      </p:sp>
      <p:sp>
        <p:nvSpPr>
          <p:cNvPr id="259" name=""/>
          <p:cNvSpPr/>
          <p:nvPr/>
        </p:nvSpPr>
        <p:spPr>
          <a:xfrm>
            <a:off x="561960" y="6172200"/>
            <a:ext cx="744480" cy="53352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ppty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X M</a:t>
            </a:r>
            <a:endParaRPr b="0" lang="en-US" sz="1200" spc="-1" strike="noStrike">
              <a:solidFill>
                <a:srgbClr val="000000"/>
              </a:solidFill>
              <a:latin typeface="Arial"/>
            </a:endParaRPr>
          </a:p>
        </p:txBody>
      </p:sp>
      <p:sp>
        <p:nvSpPr>
          <p:cNvPr id="260" name=""/>
          <p:cNvSpPr/>
          <p:nvPr/>
        </p:nvSpPr>
        <p:spPr>
          <a:xfrm>
            <a:off x="1250640" y="6172200"/>
            <a:ext cx="324216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dicative of where the top Opportunit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at could likely be supported from</a:t>
            </a:r>
            <a:endParaRPr b="0" lang="en-US" sz="1200" spc="-1" strike="noStrike">
              <a:solidFill>
                <a:srgbClr val="000000"/>
              </a:solidFill>
              <a:latin typeface="Arial"/>
            </a:endParaRPr>
          </a:p>
        </p:txBody>
      </p:sp>
      <p:pic>
        <p:nvPicPr>
          <p:cNvPr id="261" name="" descr=""/>
          <p:cNvPicPr/>
          <p:nvPr/>
        </p:nvPicPr>
        <p:blipFill>
          <a:blip r:embed="rId1">
            <a:lum contrast="22000"/>
          </a:blip>
          <a:stretch/>
        </p:blipFill>
        <p:spPr>
          <a:xfrm>
            <a:off x="0" y="685800"/>
            <a:ext cx="8915400" cy="5041800"/>
          </a:xfrm>
          <a:prstGeom prst="rect">
            <a:avLst/>
          </a:prstGeom>
          <a:ln w="0">
            <a:noFill/>
          </a:ln>
        </p:spPr>
      </p:pic>
      <p:sp>
        <p:nvSpPr>
          <p:cNvPr id="262" name=""/>
          <p:cNvSpPr/>
          <p:nvPr/>
        </p:nvSpPr>
        <p:spPr>
          <a:xfrm>
            <a:off x="106668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 Region</a:t>
            </a:r>
            <a:endParaRPr b="0" lang="en-US" sz="1400" spc="-1" strike="noStrike">
              <a:solidFill>
                <a:srgbClr val="000000"/>
              </a:solidFill>
              <a:latin typeface="Arial"/>
            </a:endParaRPr>
          </a:p>
        </p:txBody>
      </p:sp>
      <p:sp>
        <p:nvSpPr>
          <p:cNvPr id="263" name=""/>
          <p:cNvSpPr/>
          <p:nvPr/>
        </p:nvSpPr>
        <p:spPr>
          <a:xfrm>
            <a:off x="388620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me Experience</a:t>
            </a:r>
            <a:endParaRPr b="0" lang="en-US" sz="1400" spc="-1" strike="noStrike">
              <a:solidFill>
                <a:srgbClr val="000000"/>
              </a:solidFill>
              <a:latin typeface="Arial"/>
            </a:endParaRPr>
          </a:p>
        </p:txBody>
      </p:sp>
      <p:sp>
        <p:nvSpPr>
          <p:cNvPr id="264" name=""/>
          <p:cNvSpPr/>
          <p:nvPr/>
        </p:nvSpPr>
        <p:spPr>
          <a:xfrm>
            <a:off x="640080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experience</a:t>
            </a:r>
            <a:endParaRPr b="0" lang="en-US" sz="1400" spc="-1" strike="noStrike">
              <a:solidFill>
                <a:srgbClr val="000000"/>
              </a:solidFill>
              <a:latin typeface="Arial"/>
            </a:endParaRPr>
          </a:p>
        </p:txBody>
      </p:sp>
      <p:grpSp>
        <p:nvGrpSpPr>
          <p:cNvPr id="265" name=""/>
          <p:cNvGrpSpPr/>
          <p:nvPr/>
        </p:nvGrpSpPr>
        <p:grpSpPr>
          <a:xfrm>
            <a:off x="149400" y="1614600"/>
            <a:ext cx="8394480" cy="3848040"/>
            <a:chOff x="149400" y="1614600"/>
            <a:chExt cx="8394480" cy="3848040"/>
          </a:xfrm>
        </p:grpSpPr>
        <p:sp>
          <p:nvSpPr>
            <p:cNvPr id="266" name=""/>
            <p:cNvSpPr/>
            <p:nvPr/>
          </p:nvSpPr>
          <p:spPr>
            <a:xfrm>
              <a:off x="5943600" y="4267080"/>
              <a:ext cx="66816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Arial"/>
              </a:endParaRPr>
            </a:p>
          </p:txBody>
        </p:sp>
        <p:sp>
          <p:nvSpPr>
            <p:cNvPr id="267" name=""/>
            <p:cNvSpPr/>
            <p:nvPr/>
          </p:nvSpPr>
          <p:spPr>
            <a:xfrm flipH="1" flipV="1">
              <a:off x="6018120" y="3670200"/>
              <a:ext cx="147600" cy="53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H="1">
              <a:off x="6835680" y="2146320"/>
              <a:ext cx="890640" cy="106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726320" y="1879560"/>
              <a:ext cx="817560" cy="4636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Arial"/>
              </a:endParaRPr>
            </a:p>
          </p:txBody>
        </p:sp>
        <p:sp>
          <p:nvSpPr>
            <p:cNvPr id="270" name=""/>
            <p:cNvSpPr/>
            <p:nvPr/>
          </p:nvSpPr>
          <p:spPr>
            <a:xfrm>
              <a:off x="7726320" y="3471840"/>
              <a:ext cx="817560" cy="3985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lays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271" name=""/>
            <p:cNvSpPr/>
            <p:nvPr/>
          </p:nvSpPr>
          <p:spPr>
            <a:xfrm flipH="1">
              <a:off x="6536880" y="3603600"/>
              <a:ext cx="1189080" cy="4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726320" y="3935520"/>
              <a:ext cx="81756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stral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Arial"/>
              </a:endParaRPr>
            </a:p>
          </p:txBody>
        </p:sp>
        <p:sp>
          <p:nvSpPr>
            <p:cNvPr id="273" name=""/>
            <p:cNvSpPr/>
            <p:nvPr/>
          </p:nvSpPr>
          <p:spPr>
            <a:xfrm flipH="1">
              <a:off x="7207200" y="4267080"/>
              <a:ext cx="519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6536880" y="3338640"/>
              <a:ext cx="1189080" cy="46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726320" y="3006720"/>
              <a:ext cx="817560" cy="39996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il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276" name=""/>
            <p:cNvSpPr/>
            <p:nvPr/>
          </p:nvSpPr>
          <p:spPr>
            <a:xfrm flipH="1">
              <a:off x="7207200" y="2610000"/>
              <a:ext cx="519120" cy="59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726320" y="2409840"/>
              <a:ext cx="817560" cy="531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re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278" name=""/>
            <p:cNvSpPr/>
            <p:nvPr/>
          </p:nvSpPr>
          <p:spPr>
            <a:xfrm>
              <a:off x="6537240" y="1614600"/>
              <a:ext cx="96696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279" name=""/>
            <p:cNvSpPr/>
            <p:nvPr/>
          </p:nvSpPr>
          <p:spPr>
            <a:xfrm flipH="1">
              <a:off x="6165360" y="2013120"/>
              <a:ext cx="52092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978440" y="2013120"/>
              <a:ext cx="9651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281" name=""/>
            <p:cNvSpPr/>
            <p:nvPr/>
          </p:nvSpPr>
          <p:spPr>
            <a:xfrm flipH="1">
              <a:off x="4754520" y="2278080"/>
              <a:ext cx="22392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978440" y="2478240"/>
              <a:ext cx="9651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zec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83" name=""/>
            <p:cNvSpPr/>
            <p:nvPr/>
          </p:nvSpPr>
          <p:spPr>
            <a:xfrm flipH="1">
              <a:off x="4532040" y="2674800"/>
              <a:ext cx="44604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3417840" y="3074760"/>
              <a:ext cx="668520" cy="19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308480" y="5064120"/>
              <a:ext cx="104148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 Afric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86" name=""/>
            <p:cNvSpPr/>
            <p:nvPr/>
          </p:nvSpPr>
          <p:spPr>
            <a:xfrm flipH="1" flipV="1">
              <a:off x="4679640" y="4930920"/>
              <a:ext cx="29844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189080" y="4267080"/>
              <a:ext cx="81756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u</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288" name=""/>
            <p:cNvSpPr/>
            <p:nvPr/>
          </p:nvSpPr>
          <p:spPr>
            <a:xfrm flipV="1">
              <a:off x="2006640" y="4400280"/>
              <a:ext cx="37152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9" name=""/>
            <p:cNvSpPr/>
            <p:nvPr/>
          </p:nvSpPr>
          <p:spPr>
            <a:xfrm>
              <a:off x="149400" y="2674800"/>
              <a:ext cx="815760" cy="4003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ad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90" name=""/>
            <p:cNvSpPr/>
            <p:nvPr/>
          </p:nvSpPr>
          <p:spPr>
            <a:xfrm flipV="1">
              <a:off x="965160" y="2674800"/>
              <a:ext cx="371520" cy="66960"/>
            </a:xfrm>
            <a:prstGeom prst="line">
              <a:avLst/>
            </a:prstGeom>
            <a:ln w="9360">
              <a:solidFill>
                <a:srgbClr val="000000"/>
              </a:solidFill>
              <a:miter/>
              <a:tailEnd len="med" type="triangle" w="me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91" name=""/>
            <p:cNvSpPr/>
            <p:nvPr/>
          </p:nvSpPr>
          <p:spPr>
            <a:xfrm>
              <a:off x="3193920" y="4533840"/>
              <a:ext cx="817560" cy="3970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z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p:txBody>
        </p:sp>
        <p:sp>
          <p:nvSpPr>
            <p:cNvPr id="292" name=""/>
            <p:cNvSpPr/>
            <p:nvPr/>
          </p:nvSpPr>
          <p:spPr>
            <a:xfrm flipH="1" flipV="1">
              <a:off x="3046320" y="4400640"/>
              <a:ext cx="37152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20560" y="3670200"/>
              <a:ext cx="81612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x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Arial"/>
              </a:endParaRPr>
            </a:p>
          </p:txBody>
        </p:sp>
        <p:sp>
          <p:nvSpPr>
            <p:cNvPr id="294" name=""/>
            <p:cNvSpPr/>
            <p:nvPr/>
          </p:nvSpPr>
          <p:spPr>
            <a:xfrm flipV="1">
              <a:off x="1336680" y="3670200"/>
              <a:ext cx="371520" cy="68400"/>
            </a:xfrm>
            <a:prstGeom prst="line">
              <a:avLst/>
            </a:prstGeom>
            <a:ln w="9360">
              <a:solidFill>
                <a:srgbClr val="000000"/>
              </a:solidFill>
              <a:miter/>
              <a:tailEnd len="med" type="triangle" w="me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5" name=""/>
            <p:cNvSpPr/>
            <p:nvPr/>
          </p:nvSpPr>
          <p:spPr>
            <a:xfrm>
              <a:off x="4011480" y="3538440"/>
              <a:ext cx="817560" cy="3970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96" name=""/>
            <p:cNvSpPr/>
            <p:nvPr/>
          </p:nvSpPr>
          <p:spPr>
            <a:xfrm flipV="1">
              <a:off x="4532400" y="3206520"/>
              <a:ext cx="59364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121200" y="3273480"/>
              <a:ext cx="8157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65"/>
                                        </p:tgtEl>
                                        <p:attrNameLst>
                                          <p:attrName>style.visibility</p:attrName>
                                        </p:attrNameLst>
                                      </p:cBhvr>
                                      <p:to>
                                        <p:strVal val="visible"/>
                                      </p:to>
                                    </p:set>
                                    <p:anim calcmode="lin" valueType="num">
                                      <p:cBhvr additive="repl">
                                        <p:cTn id="7" dur="500" fill="hold"/>
                                        <p:tgtEl>
                                          <p:spTgt spid="265"/>
                                        </p:tgtEl>
                                        <p:attrNameLst>
                                          <p:attrName>ppt_w</p:attrName>
                                        </p:attrNameLst>
                                      </p:cBhvr>
                                      <p:tavLst>
                                        <p:tav tm="0">
                                          <p:val>
                                            <p:fltVal val="0"/>
                                          </p:val>
                                        </p:tav>
                                        <p:tav tm="100000">
                                          <p:val>
                                            <p:strVal val="#ppt_w"/>
                                          </p:val>
                                        </p:tav>
                                      </p:tavLst>
                                    </p:anim>
                                    <p:anim calcmode="lin" valueType="num">
                                      <p:cBhvr additive="repl">
                                        <p:cTn id="8" dur="500" fill="hold"/>
                                        <p:tgtEl>
                                          <p:spTgt spid="2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rticular la cadena integrada</a:t>
            </a: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ordinación y gestión interempres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formación y proce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nejo sistémic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andar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curement y Mktg B2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portando en Tecnologías de Información los proceso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
          <p:cNvSpPr/>
          <p:nvPr/>
        </p:nvSpPr>
        <p:spPr>
          <a:xfrm>
            <a:off x="1743120" y="5537160"/>
            <a:ext cx="4010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RP  </a:t>
            </a:r>
            <a:r>
              <a:rPr b="0" lang="es-CL" sz="1800" spc="-1" strike="noStrike">
                <a:solidFill>
                  <a:srgbClr val="000000"/>
                </a:solidFill>
                <a:latin typeface="Wingdings"/>
                <a:ea typeface="Wingdings"/>
              </a:rPr>
              <a:t></a:t>
            </a:r>
            <a:r>
              <a:rPr b="0" lang="es-CL" sz="1800" spc="-1" strike="noStrike">
                <a:solidFill>
                  <a:srgbClr val="000000"/>
                </a:solidFill>
                <a:latin typeface="Arial"/>
              </a:rPr>
              <a:t> Empre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2B   </a:t>
            </a:r>
            <a:r>
              <a:rPr b="0" lang="es-CL" sz="1800" spc="-1" strike="noStrike">
                <a:solidFill>
                  <a:srgbClr val="000000"/>
                </a:solidFill>
                <a:latin typeface="Wingdings"/>
                <a:ea typeface="Wingdings"/>
              </a:rPr>
              <a:t></a:t>
            </a:r>
            <a:r>
              <a:rPr b="0" lang="es-CL" sz="1800" spc="-1" strike="noStrike">
                <a:solidFill>
                  <a:srgbClr val="000000"/>
                </a:solidFill>
                <a:latin typeface="Arial"/>
              </a:rPr>
              <a:t> Cadena integrada de val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456000" y="189000"/>
            <a:ext cx="2232000" cy="404640"/>
          </a:xfrm>
          <a:prstGeom prst="rect">
            <a:avLst/>
          </a:prstGeom>
          <a:solidFill>
            <a:srgbClr val="ffff00"/>
          </a:solidFill>
          <a:ln w="9360">
            <a:solidFill>
              <a:srgbClr val="00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ORREOS</a:t>
            </a:r>
            <a:endParaRPr b="0" lang="en-US" sz="2400" spc="-1" strike="noStrike">
              <a:solidFill>
                <a:srgbClr val="000000"/>
              </a:solidFill>
              <a:latin typeface="Arial"/>
            </a:endParaRPr>
          </a:p>
        </p:txBody>
      </p:sp>
      <p:sp>
        <p:nvSpPr>
          <p:cNvPr id="302" name=""/>
          <p:cNvSpPr/>
          <p:nvPr/>
        </p:nvSpPr>
        <p:spPr>
          <a:xfrm>
            <a:off x="0" y="-94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3" name=""/>
          <p:cNvGraphicFramePr/>
          <p:nvPr/>
        </p:nvGraphicFramePr>
        <p:xfrm>
          <a:off x="1219320" y="533520"/>
          <a:ext cx="6705360" cy="6553080"/>
        </p:xfrm>
        <a:graphic>
          <a:graphicData uri="http://schemas.openxmlformats.org/presentationml/2006/ole">
            <p:oleObj r:id="rId1" spid="">
              <p:embed/>
              <p:pic>
                <p:nvPicPr>
                  <p:cNvPr id="304" name="" descr=""/>
                  <p:cNvPicPr/>
                  <p:nvPr/>
                </p:nvPicPr>
                <p:blipFill>
                  <a:blip r:embed="rId2"/>
                  <a:stretch/>
                </p:blipFill>
                <p:spPr>
                  <a:xfrm>
                    <a:off x="1219320" y="533520"/>
                    <a:ext cx="6705360" cy="655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000000"/>
                </a:solidFill>
                <a:uFillTx/>
                <a:latin typeface="Arial"/>
              </a:rPr>
              <a:t>Temario</a:t>
            </a:r>
            <a:endParaRPr b="0" lang="en-US" sz="4400" spc="-1" strike="noStrike">
              <a:solidFill>
                <a:srgbClr val="000000"/>
              </a:solidFill>
              <a:latin typeface="Arial"/>
            </a:endParaRPr>
          </a:p>
        </p:txBody>
      </p:sp>
      <p:sp>
        <p:nvSpPr>
          <p:cNvPr id="46" name="PlaceHolder 2"/>
          <p:cNvSpPr>
            <a:spLocks noGrp="1"/>
          </p:cNvSpPr>
          <p:nvPr>
            <p:ph/>
          </p:nvPr>
        </p:nvSpPr>
        <p:spPr>
          <a:xfrm>
            <a:off x="323640" y="2743200"/>
            <a:ext cx="856908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esentación del curs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2. Calendario y reglas del jueg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Introducción a la Estrategia de Operacion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0" y="1376280"/>
            <a:ext cx="9144000" cy="4848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Temario</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íntesis final conceptos curso </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dicaciones parte final del curso</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sentación Gte de Supply Minera Escondida</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mazon.com</a:t>
            </a:r>
            <a:endParaRPr b="0" lang="en-US" sz="4400" spc="-1" strike="noStrike">
              <a:solidFill>
                <a:srgbClr val="000000"/>
              </a:solidFill>
              <a:latin typeface="Arial"/>
            </a:endParaRPr>
          </a:p>
        </p:txBody>
      </p:sp>
      <p:sp>
        <p:nvSpPr>
          <p:cNvPr id="30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odelo de Negocio: Intermediario para venta de libros, CD, video y otros, operando a través de Internet.</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jetivo: Crear una experiencia de compra transparente para el cliente.</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grando satisfacer las expectativas del cliente ( Rapidez, Ausencia de errores ), se logra mantener su lealtad.</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ta: Lograr un mejoramiento significativo de las velocidades de entrega y la satisfacción del ped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attle:       70.000 sqf (aprox 6500 m2)</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laware: 200.000 sqf (aprox 18500 m2)</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r qué?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egurar que el 90% de los títulos más pedidos son entregados en menos de 24 horas en la costa Este y Oeste.</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satiafacción del cliente está por sobre la rigurosidad del concepto de negocio de Amaz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ómo opera?</a:t>
            </a:r>
            <a:endParaRPr b="0" lang="en-US" sz="4400" spc="-1" strike="noStrike">
              <a:solidFill>
                <a:srgbClr val="000000"/>
              </a:solidFill>
              <a:latin typeface="Arial"/>
            </a:endParaRPr>
          </a:p>
        </p:txBody>
      </p:sp>
      <p:sp>
        <p:nvSpPr>
          <p:cNvPr id="310"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iente coloca una orden en el web.</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sa un sistema integrado  conectado en línea con el sistema de órdenes, que siempre conoce la situación del pedido.</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 monitorea el estado de cada orden, la procesa, genera las salidas de bodega y las listas de despacho.</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se envía el pedido usando compañías en convenio (UPS).</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alto nivel de integración en el manejo de las órdenes, implica que Amazon puede rotar su inventario más rápido que su competencia.</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reduce los costos de inventario y bodega, haciéndolos más competi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isco Systems</a:t>
            </a:r>
            <a:endParaRPr b="0" lang="en-US" sz="4000" spc="-1" strike="noStrike">
              <a:solidFill>
                <a:srgbClr val="000000"/>
              </a:solidFill>
              <a:latin typeface="Arial"/>
            </a:endParaRPr>
          </a:p>
        </p:txBody>
      </p:sp>
      <p:sp>
        <p:nvSpPr>
          <p:cNvPr id="31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mpresa con mayor valoración bursátil del mundo, líder en equipamiento para conectividad.</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delo de Cisco se basa en la creencia de que las organizaciones deben estar adaptadas al cambio, requieren mucha interacción y comunicación, sobre la base de un fuerte apoyo tecnológico.</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ndada en 1984, se centró primero en universidades, la industría aeropespacial y el gobierno. En 1988 empieza su expansión hacia el sector privado.</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oy sus productos son el corazón de casi todas las redes de tamaño significativo.</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recimiento de CISCO se ha basado en una estrategia de adquisiciones e innvovación. (Más de 30 adquisiciones en los últimos 5 año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da una de las direcciones tecnológicas de mercado, en las que a incursionado la compañía ha ido acomparañada de una adquisición estratégica (Routers, Ethernet switch, ATM, etc).</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 precio de acción creciente ha permitido financiar esta estrategia.</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operación de las adquisiciones opera con dos grupos, que enfrentan el diseño estratégico y la táctica para ejecutar.</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iseño de negocio de CISCO, debe ser flexible para soportar el desafío organizacional de una estrategia basada en adquisici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organización está dada por un núcleo fuerte rodeado de unidades de negocio satéli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 importante es lograr la integración de productos para el cliente.</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RM</a:t>
            </a:r>
            <a:endParaRPr b="0" lang="en-US" sz="4400" spc="-1" strike="noStrike">
              <a:solidFill>
                <a:srgbClr val="000000"/>
              </a:solidFill>
              <a:latin typeface="Arial"/>
            </a:endParaRPr>
          </a:p>
        </p:txBody>
      </p:sp>
      <p:sp>
        <p:nvSpPr>
          <p:cNvPr id="318" name="PlaceHolder 2"/>
          <p:cNvSpPr>
            <a:spLocks noGrp="1"/>
          </p:cNvSpPr>
          <p:nvPr>
            <p:ph/>
          </p:nvPr>
        </p:nvSpPr>
        <p:spPr>
          <a:xfrm>
            <a:off x="324000" y="134136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levando la cadena de valor hacia el client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ociendo más del mercado, identificando sus necesidad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iculando la capacidad para ofrecer soluciones customizadas (productos y/o servicio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lación con GICAV:</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mos lograr que toda la cadena se oriente hacia el enfoque CRM y trabaje según é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relaciones de negocio entre empresas, puede ser soportadas efectivamente por el enfoque CRM.</a:t>
            </a:r>
            <a:endParaRPr b="0" lang="en-US" sz="1800" spc="-1" strike="noStrike">
              <a:solidFill>
                <a:srgbClr val="000000"/>
              </a:solidFill>
              <a:latin typeface="Arial"/>
            </a:endParaRPr>
          </a:p>
        </p:txBody>
      </p:sp>
      <p:pic>
        <p:nvPicPr>
          <p:cNvPr id="319" name="" descr=""/>
          <p:cNvPicPr/>
          <p:nvPr/>
        </p:nvPicPr>
        <p:blipFill>
          <a:blip r:embed="rId1"/>
          <a:stretch/>
        </p:blipFill>
        <p:spPr>
          <a:xfrm>
            <a:off x="7164360" y="0"/>
            <a:ext cx="1228680" cy="723960"/>
          </a:xfrm>
          <a:prstGeom prst="rect">
            <a:avLst/>
          </a:prstGeom>
          <a:ln w="0">
            <a:noFill/>
          </a:ln>
        </p:spPr>
      </p:pic>
      <p:pic>
        <p:nvPicPr>
          <p:cNvPr id="320" name="" descr=""/>
          <p:cNvPicPr/>
          <p:nvPr/>
        </p:nvPicPr>
        <p:blipFill>
          <a:blip r:embed="rId2"/>
          <a:stretch/>
        </p:blipFill>
        <p:spPr>
          <a:xfrm>
            <a:off x="4932360" y="2349360"/>
            <a:ext cx="3635280" cy="2727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1116000" y="2590920"/>
            <a:ext cx="7772400" cy="1676160"/>
          </a:xfrm>
          <a:prstGeom prst="rect">
            <a:avLst/>
          </a:prstGeom>
          <a:noFill/>
          <a:ln w="0">
            <a:noFill/>
          </a:ln>
        </p:spPr>
        <p:txBody>
          <a:bodyPr lIns="90000" rIns="90000" tIns="46800" bIns="46800" anchor="t">
            <a:normAutofit fontScale="76000"/>
          </a:bodyPr>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M = </a:t>
            </a:r>
            <a:endParaRPr b="0" lang="en-US" sz="4000" spc="-1" strike="noStrike">
              <a:solidFill>
                <a:srgbClr val="000000"/>
              </a:solidFill>
              <a:latin typeface="Arial"/>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ss Customization      + </a:t>
            </a:r>
            <a:endParaRPr b="0" lang="en-US" sz="4000" spc="-1" strike="noStrike">
              <a:solidFill>
                <a:srgbClr val="000000"/>
              </a:solidFill>
              <a:latin typeface="Arial"/>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One to One Marketing</a:t>
            </a:r>
            <a:endParaRPr b="0" lang="en-US" sz="4000" spc="-1" strike="noStrike">
              <a:solidFill>
                <a:srgbClr val="000000"/>
              </a:solidFill>
              <a:latin typeface="Arial"/>
            </a:endParaRPr>
          </a:p>
        </p:txBody>
      </p:sp>
      <p:sp>
        <p:nvSpPr>
          <p:cNvPr id="322" name=""/>
          <p:cNvSpPr/>
          <p:nvPr/>
        </p:nvSpPr>
        <p:spPr>
          <a:xfrm>
            <a:off x="2895480" y="1523880"/>
            <a:ext cx="5348520" cy="140040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r productos/servicios específicos</a:t>
            </a:r>
            <a:endParaRPr b="0" lang="en-US" sz="2800" spc="-1" strike="noStrike">
              <a:solidFill>
                <a:srgbClr val="000000"/>
              </a:solidFill>
              <a:latin typeface="Arial"/>
            </a:endParaRPr>
          </a:p>
        </p:txBody>
      </p:sp>
      <p:sp>
        <p:nvSpPr>
          <p:cNvPr id="323" name=""/>
          <p:cNvSpPr/>
          <p:nvPr/>
        </p:nvSpPr>
        <p:spPr>
          <a:xfrm>
            <a:off x="3200400" y="5486400"/>
            <a:ext cx="4572000" cy="91440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t">
            <a:normAutofit fontScale="96000"/>
          </a:bodyPr>
          <a:p>
            <a:pPr marL="329040" indent="-3290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tectar necesidades específicas </a:t>
            </a:r>
            <a:endParaRPr b="0" lang="en-US" sz="2800" spc="-1" strike="noStrike">
              <a:solidFill>
                <a:srgbClr val="000000"/>
              </a:solidFill>
              <a:latin typeface="Arial"/>
            </a:endParaRPr>
          </a:p>
          <a:p>
            <a:pPr marL="329040" indent="-3290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
          <p:cNvSpPr/>
          <p:nvPr/>
        </p:nvSpPr>
        <p:spPr>
          <a:xfrm>
            <a:off x="4038480" y="2590920"/>
            <a:ext cx="762120" cy="838080"/>
          </a:xfrm>
          <a:prstGeom prst="upArrow">
            <a:avLst>
              <a:gd name="adj1" fmla="val 50000"/>
              <a:gd name="adj2" fmla="val 274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rot="10800000">
            <a:off x="4038120" y="4572000"/>
            <a:ext cx="762120" cy="838080"/>
          </a:xfrm>
          <a:prstGeom prst="upArrow">
            <a:avLst>
              <a:gd name="adj1" fmla="val 50000"/>
              <a:gd name="adj2" fmla="val 274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eguntas esenciales</a:t>
            </a: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ónde es competitiva mi cadena de valor?</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ónde me es atractivo desarrollar el negocio?</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Que clientes pueden ser atendidos en forma eficiente y rentable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Qué servicios/clientes tienen importancia estratégica para mi empres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La Innovación</a:t>
            </a:r>
            <a:r>
              <a:rPr b="0" lang="es-CL" sz="2800" spc="-1" strike="noStrike">
                <a:solidFill>
                  <a:srgbClr val="000000"/>
                </a:solidFill>
                <a:latin typeface="Arial"/>
              </a:rPr>
              <a:t> es una exigencia estratégica y su desarrollo también abarca a toda la Cadena de Valor</a:t>
            </a:r>
            <a:endParaRPr b="0" lang="en-US" sz="2800" spc="-1" strike="noStrike">
              <a:solidFill>
                <a:srgbClr val="000000"/>
              </a:solidFill>
              <a:latin typeface="Arial"/>
            </a:endParaRPr>
          </a:p>
        </p:txBody>
      </p:sp>
      <p:sp>
        <p:nvSpPr>
          <p:cNvPr id="329" name=""/>
          <p:cNvSpPr/>
          <p:nvPr/>
        </p:nvSpPr>
        <p:spPr>
          <a:xfrm>
            <a:off x="684360" y="2060640"/>
            <a:ext cx="180000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3059280" y="2060640"/>
            <a:ext cx="223344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5796000" y="2060640"/>
            <a:ext cx="1871640" cy="3456000"/>
          </a:xfrm>
          <a:prstGeom prst="rect">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32" name=""/>
          <p:cNvSpPr/>
          <p:nvPr/>
        </p:nvSpPr>
        <p:spPr>
          <a:xfrm>
            <a:off x="3635280" y="2708280"/>
            <a:ext cx="72072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33" name=""/>
          <p:cNvSpPr/>
          <p:nvPr/>
        </p:nvSpPr>
        <p:spPr>
          <a:xfrm>
            <a:off x="3851280" y="3213000"/>
            <a:ext cx="647640" cy="64764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334" name=""/>
          <p:cNvSpPr/>
          <p:nvPr/>
        </p:nvSpPr>
        <p:spPr>
          <a:xfrm>
            <a:off x="3348000" y="3213000"/>
            <a:ext cx="79236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35"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36"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337"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338"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339"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EMPRESA</a:t>
            </a:r>
            <a:endParaRPr b="0" lang="en-US" sz="1800" spc="-1" strike="noStrike">
              <a:solidFill>
                <a:srgbClr val="000000"/>
              </a:solidFill>
              <a:latin typeface="Arial"/>
            </a:endParaRPr>
          </a:p>
        </p:txBody>
      </p:sp>
      <p:sp>
        <p:nvSpPr>
          <p:cNvPr id="340"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PROVEEDORES</a:t>
            </a:r>
            <a:endParaRPr b="0" lang="en-US" sz="1800" spc="-1" strike="noStrike">
              <a:solidFill>
                <a:srgbClr val="000000"/>
              </a:solidFill>
              <a:latin typeface="Arial"/>
            </a:endParaRPr>
          </a:p>
        </p:txBody>
      </p:sp>
      <p:sp>
        <p:nvSpPr>
          <p:cNvPr id="341" name=""/>
          <p:cNvSpPr/>
          <p:nvPr/>
        </p:nvSpPr>
        <p:spPr>
          <a:xfrm>
            <a:off x="1116000" y="314172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2" name=""/>
          <p:cNvSpPr/>
          <p:nvPr/>
        </p:nvSpPr>
        <p:spPr>
          <a:xfrm>
            <a:off x="1692360" y="285264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3"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4"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45"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46"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47"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48"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49"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50" name=""/>
          <p:cNvSpPr/>
          <p:nvPr/>
        </p:nvSpPr>
        <p:spPr>
          <a:xfrm>
            <a:off x="1547640" y="3860640"/>
            <a:ext cx="360360" cy="287640"/>
          </a:xfrm>
          <a:prstGeom prst="hexagon">
            <a:avLst>
              <a:gd name="adj" fmla="val 3132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1" name=""/>
          <p:cNvSpPr/>
          <p:nvPr/>
        </p:nvSpPr>
        <p:spPr>
          <a:xfrm>
            <a:off x="971640" y="4508640"/>
            <a:ext cx="144360" cy="215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2" name=""/>
          <p:cNvSpPr/>
          <p:nvPr/>
        </p:nvSpPr>
        <p:spPr>
          <a:xfrm>
            <a:off x="1619280" y="4653000"/>
            <a:ext cx="144360" cy="288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3"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354"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55"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56" name=""/>
          <p:cNvSpPr/>
          <p:nvPr/>
        </p:nvSpPr>
        <p:spPr>
          <a:xfrm>
            <a:off x="971640" y="5084640"/>
            <a:ext cx="144360" cy="14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7" name=""/>
          <p:cNvSpPr/>
          <p:nvPr/>
        </p:nvSpPr>
        <p:spPr>
          <a:xfrm>
            <a:off x="2050920" y="5300640"/>
            <a:ext cx="217440" cy="730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358" name=""/>
          <p:cNvSpPr/>
          <p:nvPr/>
        </p:nvSpPr>
        <p:spPr>
          <a:xfrm>
            <a:off x="1187280" y="5300640"/>
            <a:ext cx="144720" cy="14436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9"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0"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1"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2" name=""/>
          <p:cNvSpPr/>
          <p:nvPr/>
        </p:nvSpPr>
        <p:spPr>
          <a:xfrm>
            <a:off x="5940360" y="3068640"/>
            <a:ext cx="57636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3" name=""/>
          <p:cNvSpPr/>
          <p:nvPr/>
        </p:nvSpPr>
        <p:spPr>
          <a:xfrm>
            <a:off x="6012000" y="4149720"/>
            <a:ext cx="57600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4" name=""/>
          <p:cNvSpPr/>
          <p:nvPr/>
        </p:nvSpPr>
        <p:spPr>
          <a:xfrm>
            <a:off x="7164360" y="249228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5" name=""/>
          <p:cNvSpPr/>
          <p:nvPr/>
        </p:nvSpPr>
        <p:spPr>
          <a:xfrm>
            <a:off x="7164360" y="357336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6" name=""/>
          <p:cNvSpPr/>
          <p:nvPr/>
        </p:nvSpPr>
        <p:spPr>
          <a:xfrm>
            <a:off x="7093080" y="4941720"/>
            <a:ext cx="360360" cy="287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7"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368"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9"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0"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1"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2"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3"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374"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375"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6" name=""/>
          <p:cNvSpPr/>
          <p:nvPr/>
        </p:nvSpPr>
        <p:spPr>
          <a:xfrm>
            <a:off x="7164360" y="3141720"/>
            <a:ext cx="216000" cy="21600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77"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8"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9"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0"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1"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2"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3"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4"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5"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DISTRIBUCION</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rategia de Operaciones: Enfoque clásico</a:t>
            </a:r>
            <a:endParaRPr b="0" lang="en-US" sz="4000" spc="-1" strike="noStrike">
              <a:solidFill>
                <a:srgbClr val="000000"/>
              </a:solidFill>
              <a:latin typeface="Arial"/>
            </a:endParaRPr>
          </a:p>
        </p:txBody>
      </p:sp>
      <p:sp>
        <p:nvSpPr>
          <p:cNvPr id="51" name="PlaceHolder 2"/>
          <p:cNvSpPr>
            <a:spLocks noGrp="1"/>
          </p:cNvSpPr>
          <p:nvPr>
            <p:ph/>
          </p:nvPr>
        </p:nvSpPr>
        <p:spPr>
          <a:xfrm>
            <a:off x="7164000" y="3284640"/>
            <a:ext cx="1763640" cy="1296720"/>
          </a:xfrm>
          <a:prstGeom prst="rect">
            <a:avLst/>
          </a:prstGeom>
          <a:solidFill>
            <a:srgbClr val="ffcc00"/>
          </a:solid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st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Tiemp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lidad/servici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lexibilidad</a:t>
            </a:r>
            <a:endParaRPr b="0" lang="en-US" sz="1200" spc="-1" strike="noStrike">
              <a:solidFill>
                <a:srgbClr val="000000"/>
              </a:solidFill>
              <a:latin typeface="Arial"/>
            </a:endParaRPr>
          </a:p>
        </p:txBody>
      </p:sp>
      <p:sp>
        <p:nvSpPr>
          <p:cNvPr id="52" name=""/>
          <p:cNvSpPr/>
          <p:nvPr/>
        </p:nvSpPr>
        <p:spPr>
          <a:xfrm>
            <a:off x="250920" y="2133720"/>
            <a:ext cx="2017440" cy="57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Arial"/>
            </a:endParaRPr>
          </a:p>
        </p:txBody>
      </p:sp>
      <p:sp>
        <p:nvSpPr>
          <p:cNvPr id="53" name=""/>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55" name=""/>
          <p:cNvSpPr/>
          <p:nvPr/>
        </p:nvSpPr>
        <p:spPr>
          <a:xfrm>
            <a:off x="1042920" y="2781360"/>
            <a:ext cx="503280" cy="720720"/>
          </a:xfrm>
          <a:prstGeom prst="upDownArrow">
            <a:avLst>
              <a:gd name="adj1" fmla="val 50000"/>
              <a:gd name="adj2" fmla="val 2850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Arial"/>
            </a:endParaRPr>
          </a:p>
        </p:txBody>
      </p:sp>
      <p:sp>
        <p:nvSpPr>
          <p:cNvPr id="57" name=""/>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336920" y="5056200"/>
            <a:ext cx="2124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mbitos estratégic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decisión</a:t>
            </a:r>
            <a:endParaRPr b="0" lang="en-US" sz="1600" spc="-1" strike="noStrike">
              <a:solidFill>
                <a:srgbClr val="000000"/>
              </a:solidFill>
              <a:latin typeface="Arial"/>
            </a:endParaRPr>
          </a:p>
        </p:txBody>
      </p:sp>
      <p:sp>
        <p:nvSpPr>
          <p:cNvPr id="59" name=""/>
          <p:cNvSpPr/>
          <p:nvPr/>
        </p:nvSpPr>
        <p:spPr>
          <a:xfrm>
            <a:off x="4859280" y="2781360"/>
            <a:ext cx="503280" cy="720720"/>
          </a:xfrm>
          <a:prstGeom prst="upDownArrow">
            <a:avLst>
              <a:gd name="adj1" fmla="val 50000"/>
              <a:gd name="adj2" fmla="val 2850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Resumen</a:t>
            </a:r>
            <a:endParaRPr b="0" lang="en-US" sz="3600" spc="-1" strike="noStrike">
              <a:solidFill>
                <a:srgbClr val="000000"/>
              </a:solidFill>
              <a:latin typeface="Arial"/>
            </a:endParaRPr>
          </a:p>
        </p:txBody>
      </p:sp>
      <p:pic>
        <p:nvPicPr>
          <p:cNvPr id="387" name="" descr=""/>
          <p:cNvPicPr/>
          <p:nvPr/>
        </p:nvPicPr>
        <p:blipFill>
          <a:blip r:embed="rId1"/>
          <a:stretch/>
        </p:blipFill>
        <p:spPr>
          <a:xfrm>
            <a:off x="250920" y="1413000"/>
            <a:ext cx="8642160" cy="4968720"/>
          </a:xfrm>
          <a:prstGeom prst="rect">
            <a:avLst/>
          </a:prstGeom>
          <a:ln w="12600">
            <a:solidFill>
              <a:srgbClr val="333399"/>
            </a:solidFill>
            <a:miter/>
          </a:ln>
        </p:spPr>
      </p:pic>
      <p:sp>
        <p:nvSpPr>
          <p:cNvPr id="388" name=""/>
          <p:cNvSpPr/>
          <p:nvPr/>
        </p:nvSpPr>
        <p:spPr>
          <a:xfrm>
            <a:off x="1909800" y="5157720"/>
            <a:ext cx="9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ntratos</a:t>
            </a:r>
            <a:endParaRPr b="0" lang="en-US" sz="1200" spc="-1" strike="noStrike">
              <a:solidFill>
                <a:srgbClr val="000000"/>
              </a:solidFill>
              <a:latin typeface="Arial"/>
            </a:endParaRPr>
          </a:p>
        </p:txBody>
      </p:sp>
      <p:grpSp>
        <p:nvGrpSpPr>
          <p:cNvPr id="389" name=""/>
          <p:cNvGrpSpPr/>
          <p:nvPr/>
        </p:nvGrpSpPr>
        <p:grpSpPr>
          <a:xfrm>
            <a:off x="468360" y="3860640"/>
            <a:ext cx="1985760" cy="950760"/>
            <a:chOff x="468360" y="3860640"/>
            <a:chExt cx="1985760" cy="950760"/>
          </a:xfrm>
        </p:grpSpPr>
        <p:sp>
          <p:nvSpPr>
            <p:cNvPr id="390" name=""/>
            <p:cNvSpPr/>
            <p:nvPr/>
          </p:nvSpPr>
          <p:spPr>
            <a:xfrm>
              <a:off x="46836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 descr=""/>
            <p:cNvPicPr/>
            <p:nvPr/>
          </p:nvPicPr>
          <p:blipFill>
            <a:blip r:embed="rId2"/>
            <a:stretch/>
          </p:blipFill>
          <p:spPr>
            <a:xfrm>
              <a:off x="1110240" y="3860640"/>
              <a:ext cx="680760" cy="670680"/>
            </a:xfrm>
            <a:prstGeom prst="rect">
              <a:avLst/>
            </a:prstGeom>
            <a:ln w="0">
              <a:noFill/>
            </a:ln>
          </p:spPr>
        </p:pic>
      </p:grpSp>
      <p:grpSp>
        <p:nvGrpSpPr>
          <p:cNvPr id="392" name=""/>
          <p:cNvGrpSpPr/>
          <p:nvPr/>
        </p:nvGrpSpPr>
        <p:grpSpPr>
          <a:xfrm>
            <a:off x="4284720" y="3860640"/>
            <a:ext cx="1985760" cy="950760"/>
            <a:chOff x="4284720" y="3860640"/>
            <a:chExt cx="1985760" cy="950760"/>
          </a:xfrm>
        </p:grpSpPr>
        <p:sp>
          <p:nvSpPr>
            <p:cNvPr id="393" name=""/>
            <p:cNvSpPr/>
            <p:nvPr/>
          </p:nvSpPr>
          <p:spPr>
            <a:xfrm>
              <a:off x="428472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 descr=""/>
            <p:cNvPicPr/>
            <p:nvPr/>
          </p:nvPicPr>
          <p:blipFill>
            <a:blip r:embed="rId3"/>
            <a:stretch/>
          </p:blipFill>
          <p:spPr>
            <a:xfrm>
              <a:off x="4926600" y="3860640"/>
              <a:ext cx="680760" cy="670680"/>
            </a:xfrm>
            <a:prstGeom prst="rect">
              <a:avLst/>
            </a:prstGeom>
            <a:ln w="0">
              <a:noFill/>
            </a:ln>
          </p:spPr>
        </p:pic>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Finalmente algunas tendencias que definen las estructuras de las cadenas actuales</a:t>
            </a:r>
            <a:endParaRPr b="0" lang="en-US" sz="4400" spc="-1" strike="noStrike">
              <a:solidFill>
                <a:srgbClr val="000000"/>
              </a:solidFill>
              <a:latin typeface="Arial"/>
            </a:endParaRPr>
          </a:p>
        </p:txBody>
      </p:sp>
      <p:sp>
        <p:nvSpPr>
          <p:cNvPr id="396" name="PlaceHolder 2"/>
          <p:cNvSpPr>
            <a:spLocks noGrp="1"/>
          </p:cNvSpPr>
          <p:nvPr>
            <p:ph type="subTitle"/>
          </p:nvPr>
        </p:nvSpPr>
        <p:spPr>
          <a:xfrm>
            <a:off x="152388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ímite entre Manufactura y servicios</a:t>
            </a:r>
            <a:endParaRPr b="0" lang="en-US" sz="4400" spc="-1" strike="noStrike">
              <a:solidFill>
                <a:srgbClr val="000000"/>
              </a:solidFill>
              <a:latin typeface="Arial"/>
            </a:endParaRPr>
          </a:p>
        </p:txBody>
      </p:sp>
      <p:sp>
        <p:nvSpPr>
          <p:cNvPr id="398" name="PlaceHolder 2"/>
          <p:cNvSpPr>
            <a:spLocks noGrp="1"/>
          </p:cNvSpPr>
          <p:nvPr>
            <p:ph/>
          </p:nvPr>
        </p:nvSpPr>
        <p:spPr>
          <a:xfrm>
            <a:off x="304920" y="1981080"/>
            <a:ext cx="86104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vuelve cada vez más difu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hay manufactura sin componente de servici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costo del proceso de transformación, es solo una fracción del costo del bien/servic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lógicas de servicio han penetrado en la gestión de manufactur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omponentes que agregan valor están más vinculadas a los servicio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lientes no compran productos solamente…también eligen por el servicio implícito en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60" y="-36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filosofia de JIT y calidad total van más allá de la fabrica</a:t>
            </a:r>
            <a:endParaRPr b="0" lang="en-US" sz="4400" spc="-1" strike="noStrike">
              <a:solidFill>
                <a:srgbClr val="000000"/>
              </a:solidFill>
              <a:latin typeface="Arial"/>
            </a:endParaRPr>
          </a:p>
        </p:txBody>
      </p:sp>
      <p:sp>
        <p:nvSpPr>
          <p:cNvPr id="400" name="PlaceHolder 2"/>
          <p:cNvSpPr>
            <a:spLocks noGrp="1"/>
          </p:cNvSpPr>
          <p:nvPr>
            <p:ph/>
          </p:nvPr>
        </p:nvSpPr>
        <p:spPr>
          <a:xfrm>
            <a:off x="0" y="1752480"/>
            <a:ext cx="91440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éxito del JIT y las técnicas japonesas de gestión en manufactura lograron impactar a occidente durante los 80 y 9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esafío es llevarlas más allá de la fabrica, para integrar toda la cadena de abastecimiento y distribu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isión sistémica es importante…se debe gestionar sobre el sistema para lograr calidad y eficiencia en la respuesta al clien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lógica sigue siendo que el sistema sea ‘tirado’ por la demanda, para optimizar su respuesta, sus costos y sus efici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os clientes definen</a:t>
            </a:r>
            <a:endParaRPr b="0" lang="en-US" sz="4400" spc="-1" strike="noStrike">
              <a:solidFill>
                <a:srgbClr val="000000"/>
              </a:solidFill>
              <a:latin typeface="Arial"/>
            </a:endParaRPr>
          </a:p>
        </p:txBody>
      </p:sp>
      <p:sp>
        <p:nvSpPr>
          <p:cNvPr id="402" name="PlaceHolder 2"/>
          <p:cNvSpPr>
            <a:spLocks noGrp="1"/>
          </p:cNvSpPr>
          <p:nvPr>
            <p:ph/>
          </p:nvPr>
        </p:nvSpPr>
        <p:spPr>
          <a:xfrm>
            <a:off x="-360" y="1447920"/>
            <a:ext cx="8458200" cy="41148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cercanía al cliente es el activo determinante en los negocios de hoy.</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 cambiado el balance de poder entre productores y comercializadore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uestra posición estratégica requiere necesariamente estar cerca del cliente.</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oda la cadena se juega su éxito en la capacidad para responder eficazmnente al cliente.</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capacidad de innovar es clave para lograr responder a los requerimientos del cliente…innovamos para los cli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s Tecnologías de Información son fundamentales en este proceso de cambios.</a:t>
            </a:r>
            <a:endParaRPr b="0" lang="en-US" sz="3600" spc="-1" strike="noStrike">
              <a:solidFill>
                <a:srgbClr val="000000"/>
              </a:solidFill>
              <a:latin typeface="Arial"/>
            </a:endParaRPr>
          </a:p>
        </p:txBody>
      </p:sp>
      <p:sp>
        <p:nvSpPr>
          <p:cNvPr id="404" name="PlaceHolder 2"/>
          <p:cNvSpPr>
            <a:spLocks noGrp="1"/>
          </p:cNvSpPr>
          <p:nvPr>
            <p:ph/>
          </p:nvPr>
        </p:nvSpPr>
        <p:spPr>
          <a:xfrm>
            <a:off x="-360" y="1752480"/>
            <a:ext cx="8915400" cy="411480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parte de estas transformaciones no serían posibles sin las Tecnologías de Información.</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emoes nuevos negocios y nuevas industrías que se generan a partir de su desarrollo...</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y tenemos también transformaciones radicales en la forma de hacer negocios y gestionar industrias tradicionale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elocidad de cambio hace que la variable tecnológica no pueda estar ausente de nuestra mirada estratégica de las operacione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stión de operaciones es cada vez más, gestión de información.</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esafío es transformar los procesos a un soporte digital de la inform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y la Globalización</a:t>
            </a:r>
            <a:endParaRPr b="0" lang="en-US" sz="3200" spc="-1" strike="noStrike">
              <a:solidFill>
                <a:srgbClr val="000000"/>
              </a:solidFill>
              <a:latin typeface="Arial"/>
            </a:endParaRPr>
          </a:p>
        </p:txBody>
      </p:sp>
      <p:sp>
        <p:nvSpPr>
          <p:cNvPr id="406" name="PlaceHolder 2"/>
          <p:cNvSpPr>
            <a:spLocks noGrp="1"/>
          </p:cNvSpPr>
          <p:nvPr>
            <p:ph/>
          </p:nvPr>
        </p:nvSpPr>
        <p:spPr>
          <a:xfrm>
            <a:off x="0" y="762120"/>
            <a:ext cx="9144000" cy="4114800"/>
          </a:xfrm>
          <a:prstGeom prst="rect">
            <a:avLst/>
          </a:prstGeom>
          <a:noFill/>
          <a:ln w="0">
            <a:noFill/>
          </a:ln>
        </p:spPr>
        <p:txBody>
          <a:bodyPr lIns="90000" rIns="90000" tIns="46800" bIns="46800" anchor="t">
            <a:normAutofit fontScale="85000"/>
          </a:bodyPr>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nque suene repetitivo, esta dimensión de cambio esta transformando las estructuras productiva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disecta la cadena del valor buscando las mejores opciones para cada parte del proceso.</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migraciones de las fabricas hacia los países con mejores condiciones de costo para su mano de obra…lo que promueve el desarrollo de países pobre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fronteras son cada vez menos relevantes, para determinar el origen de un producto (cada vez intervienen más países…cada vez es más difícil establecer donde se produce algo…lo miramos por quién produce, quién gestiona o quién pone el capital…o el acceso a mercado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proceso se ve catapultado por nuevas relaciones económica y una tendencia a la integración y la eliminación de barreras arancelarías entre los paíse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factores políticos también son importantes para establecer condiciones de viabilidad.</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undo como una sola máquina…como un solo gran sistema productiv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304920"/>
            <a:ext cx="7772400" cy="46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 electrónicos de negocios </a:t>
            </a:r>
            <a:endParaRPr b="0" lang="en-US" sz="3600" spc="-1" strike="noStrike">
              <a:solidFill>
                <a:srgbClr val="000000"/>
              </a:solidFill>
              <a:latin typeface="Arial"/>
            </a:endParaRPr>
          </a:p>
        </p:txBody>
      </p:sp>
      <p:sp>
        <p:nvSpPr>
          <p:cNvPr id="408" name="PlaceHolder 2"/>
          <p:cNvSpPr>
            <a:spLocks noGrp="1"/>
          </p:cNvSpPr>
          <p:nvPr>
            <p:ph/>
          </p:nvPr>
        </p:nvSpPr>
        <p:spPr>
          <a:xfrm>
            <a:off x="-360" y="981000"/>
            <a:ext cx="84978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estamos hablando solo del uso de las TIC para poyar el modelo de operación, las empresas del siglo XXI pueden establecer un modelo de negocio, que use intensivamente el potencial de Internet y las Tecnologías de Información.</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olo para tener un sitio web que muestre o venda productos.</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se debe integrar completamente a la empresa, sus sistemas, su modelo de operación para desarrollar nuevos canales comerciales.</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exige un diseño completo del modelo de operación de la empresa, que será clave en su capacidad competitiva.</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s: Banca, Retail, Servicios, Logística, Salud, Distribución,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17520" y="188640"/>
            <a:ext cx="850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o olvidar que un aspecto importante en el desarrollo de la estrategia de Operaciones...</a:t>
            </a:r>
            <a:endParaRPr b="0" lang="en-US" sz="3600" spc="-1" strike="noStrike">
              <a:solidFill>
                <a:srgbClr val="000000"/>
              </a:solidFill>
              <a:latin typeface="Arial"/>
            </a:endParaRPr>
          </a:p>
        </p:txBody>
      </p:sp>
      <p:sp>
        <p:nvSpPr>
          <p:cNvPr id="410" name="PlaceHolder 2"/>
          <p:cNvSpPr>
            <a:spLocks noGrp="1"/>
          </p:cNvSpPr>
          <p:nvPr>
            <p:ph/>
          </p:nvPr>
        </p:nvSpPr>
        <p:spPr>
          <a:xfrm>
            <a:off x="0" y="1714320"/>
            <a:ext cx="8964720" cy="3429000"/>
          </a:xfrm>
          <a:prstGeom prst="rect">
            <a:avLst/>
          </a:prstGeom>
          <a:noFill/>
          <a:ln w="0">
            <a:noFill/>
          </a:ln>
        </p:spPr>
        <p:txBody>
          <a:bodyPr lIns="90000" rIns="90000" tIns="46800" bIns="46800" anchor="t">
            <a:normAutofit fontScale="73000"/>
          </a:bodyPr>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es la focalización y priorización de los esfuerzos de cambio en la empresa.</a:t>
            </a:r>
            <a:endParaRPr b="0" lang="en-US" sz="28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e puede ser bueno en tod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importante establecer de acuerdo con la estrategia de negocio, lo que requiere nuestro modelo operativ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esfuerzos de transformación son demasiado costoso para realizar muchos cambios en paralel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 que es bueno en una empresa, puede no ser adecuado en otra…o requiere otra forma de ser implementad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importante darle una dimensión empresarial y de negocio a cada propuesta de cambio tecnológico o de modelo de ope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res focos para dirigir el cambio del modelo de su empresa. </a:t>
            </a:r>
            <a:r>
              <a:rPr b="0" lang="es-CL" sz="1800" spc="-1" strike="noStrike">
                <a:solidFill>
                  <a:srgbClr val="000000"/>
                </a:solidFill>
                <a:latin typeface="Arial"/>
              </a:rPr>
              <a:t>(Kalatova)</a:t>
            </a:r>
            <a:endParaRPr b="0" lang="en-US" sz="1800" spc="-1" strike="noStrike">
              <a:solidFill>
                <a:srgbClr val="000000"/>
              </a:solidFill>
              <a:latin typeface="Arial"/>
            </a:endParaRPr>
          </a:p>
        </p:txBody>
      </p:sp>
      <p:sp>
        <p:nvSpPr>
          <p:cNvPr id="412"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en Servicio:</a:t>
            </a:r>
            <a:r>
              <a:rPr b="0" lang="es-CL" sz="2800" spc="-1" strike="noStrike">
                <a:solidFill>
                  <a:srgbClr val="000000"/>
                </a:solidFill>
                <a:latin typeface="Arial"/>
              </a:rPr>
              <a:t> Responder entregando lo que el cliente quiere con un servicio perfecto y de superior valor para é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Operacional:</a:t>
            </a:r>
            <a:r>
              <a:rPr b="0" lang="es-CL" sz="2800" spc="-1" strike="noStrike">
                <a:solidFill>
                  <a:srgbClr val="000000"/>
                </a:solidFill>
                <a:latin typeface="Arial"/>
              </a:rPr>
              <a:t> Entregar productos de alta calidad, con un servicio excelente (rápidez y ausencia de errores) a un precio razonabl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en la innovación continua:</a:t>
            </a:r>
            <a:r>
              <a:rPr b="0" lang="es-CL" sz="2800" spc="-1" strike="noStrike">
                <a:solidFill>
                  <a:srgbClr val="000000"/>
                </a:solidFill>
                <a:latin typeface="Arial"/>
              </a:rPr>
              <a:t> Generar productos y servicios que constantemente empujen los niveles de exigencias en la satisfacción de las necesiades del cl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60" y="1066320"/>
            <a:ext cx="9372600" cy="57913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stalaciones: Inversiones en planta, ubicación, tamaño, estructur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pacidad: Enfrentar la demanda, plazos, competenci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gración vertical: Hacia atrás o hacia delante, coordinación y eficiencia en la gestión del proceso, costos, confiabilidad,...</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cnologías de Proceso: Tipo de proceso, introducción de nuevas herramientas, costos, evaluació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tensión de las líneas y nuevos productos: Complejidad, costos, capacidad de adaptación, diseño de producto y proces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
          <p:cNvSpPr/>
          <p:nvPr/>
        </p:nvSpPr>
        <p:spPr>
          <a:xfrm>
            <a:off x="1452600" y="352440"/>
            <a:ext cx="608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Decisiones claves de la gestión de operaciones</a:t>
            </a:r>
            <a:endParaRPr b="0" lang="en-US" sz="2400" spc="-1" strike="noStrike">
              <a:solidFill>
                <a:srgbClr val="000000"/>
              </a:solidFill>
              <a:latin typeface="Arial"/>
            </a:endParaRPr>
          </a:p>
        </p:txBody>
      </p:sp>
      <p:sp>
        <p:nvSpPr>
          <p:cNvPr id="6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60" y="1267920"/>
            <a:ext cx="9372600" cy="57913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stión de recursos humanos: Ciclo de personal, perfil, incentivos, relación labora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stión de calidad: Medición, justificación económica, responsabilidad,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rganización e Infraestructura de gestión: Planificación y contro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ones con Proveedores: Enfoque competitivo - enfoque cooperativ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1452600" y="352440"/>
            <a:ext cx="608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Decisiones claves de la gestión de operaciones</a:t>
            </a:r>
            <a:endParaRPr b="0" lang="en-US" sz="2400" spc="-1" strike="noStrike">
              <a:solidFill>
                <a:srgbClr val="000000"/>
              </a:solidFill>
              <a:latin typeface="Arial"/>
            </a:endParaRPr>
          </a:p>
        </p:txBody>
      </p:sp>
      <p:sp>
        <p:nvSpPr>
          <p:cNvPr id="6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nfoque clásico mantiene su vigencia, aunque debe ser analizado a la luz del concepto de cadena o red de valor.</a:t>
            </a:r>
            <a:endParaRPr b="0" lang="en-US" sz="2400" spc="-1" strike="noStrike">
              <a:solidFill>
                <a:srgbClr val="000000"/>
              </a:solidFill>
              <a:latin typeface="Arial"/>
            </a:endParaRPr>
          </a:p>
        </p:txBody>
      </p:sp>
      <p:sp>
        <p:nvSpPr>
          <p:cNvPr id="69" name="PlaceHolder 2"/>
          <p:cNvSpPr>
            <a:spLocks noGrp="1"/>
          </p:cNvSpPr>
          <p:nvPr>
            <p:ph/>
          </p:nvPr>
        </p:nvSpPr>
        <p:spPr>
          <a:xfrm>
            <a:off x="457200" y="2205000"/>
            <a:ext cx="8362800" cy="2736720"/>
          </a:xfrm>
          <a:prstGeom prst="rect">
            <a:avLst/>
          </a:prstGeom>
          <a:solidFill>
            <a:srgbClr val="ffff00"/>
          </a:solidFill>
          <a:ln w="9360">
            <a:solidFill>
              <a:srgbClr val="333399"/>
            </a:solidFill>
            <a:miter/>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Las empresas deben entender su Supply Chain como un activo estratégico, que debe ser desarrollado de acuerdo con las orientaciones del negoci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gración de la cadena de valor</a:t>
            </a:r>
            <a:endParaRPr b="0" lang="en-US" sz="2800" spc="-1" strike="noStrike">
              <a:solidFill>
                <a:srgbClr val="000000"/>
              </a:solidFill>
              <a:latin typeface="Arial"/>
            </a:endParaRPr>
          </a:p>
        </p:txBody>
      </p:sp>
      <p:sp>
        <p:nvSpPr>
          <p:cNvPr id="71" name=""/>
          <p:cNvSpPr/>
          <p:nvPr/>
        </p:nvSpPr>
        <p:spPr>
          <a:xfrm>
            <a:off x="684360" y="2060640"/>
            <a:ext cx="180000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3059280" y="2060640"/>
            <a:ext cx="223344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5796000" y="2060640"/>
            <a:ext cx="1871640" cy="3456000"/>
          </a:xfrm>
          <a:prstGeom prst="rect">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74" name=""/>
          <p:cNvSpPr/>
          <p:nvPr/>
        </p:nvSpPr>
        <p:spPr>
          <a:xfrm>
            <a:off x="3635280" y="2708280"/>
            <a:ext cx="72072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75" name=""/>
          <p:cNvSpPr/>
          <p:nvPr/>
        </p:nvSpPr>
        <p:spPr>
          <a:xfrm>
            <a:off x="3851280" y="3213000"/>
            <a:ext cx="647640" cy="64764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76" name=""/>
          <p:cNvSpPr/>
          <p:nvPr/>
        </p:nvSpPr>
        <p:spPr>
          <a:xfrm>
            <a:off x="3348000" y="3213000"/>
            <a:ext cx="79236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77"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78"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79"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80"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81"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MPRESA</a:t>
            </a:r>
            <a:endParaRPr b="0" lang="en-US" sz="1800" spc="-1" strike="noStrike">
              <a:solidFill>
                <a:srgbClr val="000000"/>
              </a:solidFill>
              <a:latin typeface="Arial"/>
            </a:endParaRPr>
          </a:p>
        </p:txBody>
      </p:sp>
      <p:sp>
        <p:nvSpPr>
          <p:cNvPr id="82"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VEEDORES</a:t>
            </a:r>
            <a:endParaRPr b="0" lang="en-US" sz="1800" spc="-1" strike="noStrike">
              <a:solidFill>
                <a:srgbClr val="000000"/>
              </a:solidFill>
              <a:latin typeface="Arial"/>
            </a:endParaRPr>
          </a:p>
        </p:txBody>
      </p:sp>
      <p:sp>
        <p:nvSpPr>
          <p:cNvPr id="83" name=""/>
          <p:cNvSpPr/>
          <p:nvPr/>
        </p:nvSpPr>
        <p:spPr>
          <a:xfrm>
            <a:off x="1116000" y="314172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4" name=""/>
          <p:cNvSpPr/>
          <p:nvPr/>
        </p:nvSpPr>
        <p:spPr>
          <a:xfrm>
            <a:off x="1692360" y="285264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5"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6"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87"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88"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89"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0"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1"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2" name=""/>
          <p:cNvSpPr/>
          <p:nvPr/>
        </p:nvSpPr>
        <p:spPr>
          <a:xfrm>
            <a:off x="1547640" y="3860640"/>
            <a:ext cx="360360" cy="287640"/>
          </a:xfrm>
          <a:prstGeom prst="hexagon">
            <a:avLst>
              <a:gd name="adj" fmla="val 3132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3" name=""/>
          <p:cNvSpPr/>
          <p:nvPr/>
        </p:nvSpPr>
        <p:spPr>
          <a:xfrm>
            <a:off x="971640" y="4508640"/>
            <a:ext cx="144360" cy="215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4" name=""/>
          <p:cNvSpPr/>
          <p:nvPr/>
        </p:nvSpPr>
        <p:spPr>
          <a:xfrm>
            <a:off x="1619280" y="4653000"/>
            <a:ext cx="144360" cy="288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5"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96"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7"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8" name=""/>
          <p:cNvSpPr/>
          <p:nvPr/>
        </p:nvSpPr>
        <p:spPr>
          <a:xfrm>
            <a:off x="971640" y="5084640"/>
            <a:ext cx="144360" cy="14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9" name=""/>
          <p:cNvSpPr/>
          <p:nvPr/>
        </p:nvSpPr>
        <p:spPr>
          <a:xfrm>
            <a:off x="2050920" y="5300640"/>
            <a:ext cx="217440" cy="730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100" name=""/>
          <p:cNvSpPr/>
          <p:nvPr/>
        </p:nvSpPr>
        <p:spPr>
          <a:xfrm>
            <a:off x="1187280" y="5300640"/>
            <a:ext cx="144720" cy="14436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1"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2"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3"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4" name=""/>
          <p:cNvSpPr/>
          <p:nvPr/>
        </p:nvSpPr>
        <p:spPr>
          <a:xfrm>
            <a:off x="5940360" y="3068640"/>
            <a:ext cx="57636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5" name=""/>
          <p:cNvSpPr/>
          <p:nvPr/>
        </p:nvSpPr>
        <p:spPr>
          <a:xfrm>
            <a:off x="6012000" y="4149720"/>
            <a:ext cx="57600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6" name=""/>
          <p:cNvSpPr/>
          <p:nvPr/>
        </p:nvSpPr>
        <p:spPr>
          <a:xfrm>
            <a:off x="7164360" y="249228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7" name=""/>
          <p:cNvSpPr/>
          <p:nvPr/>
        </p:nvSpPr>
        <p:spPr>
          <a:xfrm>
            <a:off x="7164360" y="357336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8" name=""/>
          <p:cNvSpPr/>
          <p:nvPr/>
        </p:nvSpPr>
        <p:spPr>
          <a:xfrm>
            <a:off x="7093080" y="4941720"/>
            <a:ext cx="360360" cy="287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9"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110"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1"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4"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5"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116"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117"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8" name=""/>
          <p:cNvSpPr/>
          <p:nvPr/>
        </p:nvSpPr>
        <p:spPr>
          <a:xfrm>
            <a:off x="7164360" y="3141720"/>
            <a:ext cx="216000" cy="21600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9"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0"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1"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2"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3"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4"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5"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6"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7"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DISTRIBUCION</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Resumen</a:t>
            </a:r>
            <a:endParaRPr b="0" lang="en-US" sz="3600" spc="-1" strike="noStrike">
              <a:solidFill>
                <a:srgbClr val="000000"/>
              </a:solidFill>
              <a:latin typeface="Arial"/>
            </a:endParaRPr>
          </a:p>
        </p:txBody>
      </p:sp>
      <p:pic>
        <p:nvPicPr>
          <p:cNvPr id="129" name="" descr=""/>
          <p:cNvPicPr/>
          <p:nvPr/>
        </p:nvPicPr>
        <p:blipFill>
          <a:blip r:embed="rId1"/>
          <a:stretch/>
        </p:blipFill>
        <p:spPr>
          <a:xfrm>
            <a:off x="250920" y="1413000"/>
            <a:ext cx="8642160" cy="4968720"/>
          </a:xfrm>
          <a:prstGeom prst="rect">
            <a:avLst/>
          </a:prstGeom>
          <a:ln w="12600">
            <a:solidFill>
              <a:srgbClr val="333399"/>
            </a:solidFill>
            <a:miter/>
          </a:ln>
        </p:spPr>
      </p:pic>
      <p:sp>
        <p:nvSpPr>
          <p:cNvPr id="130" name=""/>
          <p:cNvSpPr/>
          <p:nvPr/>
        </p:nvSpPr>
        <p:spPr>
          <a:xfrm>
            <a:off x="1909800" y="5157720"/>
            <a:ext cx="9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ntratos</a:t>
            </a:r>
            <a:endParaRPr b="0" lang="en-US" sz="1200" spc="-1" strike="noStrike">
              <a:solidFill>
                <a:srgbClr val="000000"/>
              </a:solidFill>
              <a:latin typeface="Arial"/>
            </a:endParaRPr>
          </a:p>
        </p:txBody>
      </p:sp>
      <p:grpSp>
        <p:nvGrpSpPr>
          <p:cNvPr id="131" name=""/>
          <p:cNvGrpSpPr/>
          <p:nvPr/>
        </p:nvGrpSpPr>
        <p:grpSpPr>
          <a:xfrm>
            <a:off x="468360" y="3860640"/>
            <a:ext cx="1985760" cy="950760"/>
            <a:chOff x="468360" y="3860640"/>
            <a:chExt cx="1985760" cy="950760"/>
          </a:xfrm>
        </p:grpSpPr>
        <p:sp>
          <p:nvSpPr>
            <p:cNvPr id="132" name=""/>
            <p:cNvSpPr/>
            <p:nvPr/>
          </p:nvSpPr>
          <p:spPr>
            <a:xfrm>
              <a:off x="46836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2"/>
            <a:stretch/>
          </p:blipFill>
          <p:spPr>
            <a:xfrm>
              <a:off x="1110240" y="3860640"/>
              <a:ext cx="680760" cy="670680"/>
            </a:xfrm>
            <a:prstGeom prst="rect">
              <a:avLst/>
            </a:prstGeom>
            <a:ln w="0">
              <a:noFill/>
            </a:ln>
          </p:spPr>
        </p:pic>
      </p:grpSp>
      <p:grpSp>
        <p:nvGrpSpPr>
          <p:cNvPr id="134" name=""/>
          <p:cNvGrpSpPr/>
          <p:nvPr/>
        </p:nvGrpSpPr>
        <p:grpSpPr>
          <a:xfrm>
            <a:off x="4284720" y="3860640"/>
            <a:ext cx="1985760" cy="950760"/>
            <a:chOff x="4284720" y="3860640"/>
            <a:chExt cx="1985760" cy="950760"/>
          </a:xfrm>
        </p:grpSpPr>
        <p:sp>
          <p:nvSpPr>
            <p:cNvPr id="135" name=""/>
            <p:cNvSpPr/>
            <p:nvPr/>
          </p:nvSpPr>
          <p:spPr>
            <a:xfrm>
              <a:off x="428472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 descr=""/>
            <p:cNvPicPr/>
            <p:nvPr/>
          </p:nvPicPr>
          <p:blipFill>
            <a:blip r:embed="rId3"/>
            <a:stretch/>
          </p:blipFill>
          <p:spPr>
            <a:xfrm>
              <a:off x="4926600" y="3860640"/>
              <a:ext cx="680760" cy="67068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a:t>
            </a:r>
            <a:endParaRPr b="0" lang="en-US" sz="4400" spc="-1" strike="noStrike">
              <a:solidFill>
                <a:srgbClr val="000000"/>
              </a:solidFill>
              <a:latin typeface="Arial"/>
            </a:endParaRPr>
          </a:p>
        </p:txBody>
      </p:sp>
      <p:sp>
        <p:nvSpPr>
          <p:cNvPr id="138"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ección de la cadena de valor y sus proces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lección de socios de negocio proveedores/distribuido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arrollar relaciones de negocio inter-empres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uerdos contractuales y balances de poder </a:t>
            </a:r>
            <a:r>
              <a:rPr b="0" lang="es-CL" sz="2800" spc="-1" strike="noStrike">
                <a:solidFill>
                  <a:srgbClr val="000000"/>
                </a:solidFill>
                <a:latin typeface="Wingdings"/>
                <a:ea typeface="Wingdings"/>
              </a:rPr>
              <a:t></a:t>
            </a:r>
            <a:r>
              <a:rPr b="0" lang="es-CL" sz="2800" spc="-1" strike="noStrike">
                <a:solidFill>
                  <a:srgbClr val="000000"/>
                </a:solidFill>
                <a:latin typeface="Arial"/>
              </a:rPr>
              <a:t> Distribución del riesgo / benefic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icular la 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ministrar la complej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2T18:57:37Z</dcterms:created>
  <dc:creator>ibraga</dc:creator>
  <dc:description/>
  <dc:language>en-US</dc:language>
  <cp:lastModifiedBy>.</cp:lastModifiedBy>
  <dcterms:modified xsi:type="dcterms:W3CDTF">2007-12-07T02:42:31Z</dcterms:modified>
  <cp:revision>51</cp:revision>
  <dc:subject/>
  <dc:title>IN 75P:  Estrategia de Operaciones</dc:title>
</cp:coreProperties>
</file>