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AA11-5CAE-40FC-B9FF-D3CBEFFA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8187-DA6E-4612-90FF-39FD8070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4EA2-2440-4ED2-8767-8B6E46F0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E8BB-68E0-4DDA-8C11-51ED01A2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02D7-6A88-4238-B483-84180153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ACF6-05EA-457E-B2E2-60F13CB6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1637-3CFE-4C59-91AF-C8C4A140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DD76-8D16-480C-A9B5-13451481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A94-8AC4-4888-B823-8F381013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15C-0217-42E8-8BEE-1DC32AD0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0AD7-130E-4C85-BDC6-2C2B8274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8AFC-BEFB-4D30-A2EE-16DF52E8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6177-30A2-40AC-AF82-A4F8EBB03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ta Propues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75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ción de Model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95280" y="1052640"/>
          <a:ext cx="8497800" cy="4789440"/>
        </p:xfrm>
        <a:graphic>
          <a:graphicData uri="http://schemas.openxmlformats.org/drawingml/2006/table">
            <a:tbl>
              <a:tblPr/>
              <a:tblGrid>
                <a:gridCol w="1584360"/>
                <a:gridCol w="3456000"/>
                <a:gridCol w="3457440"/>
              </a:tblGrid>
              <a:tr h="80244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168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ión requerida para lograr cober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dor de Interne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stolas de Captura de Informa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 Call Cent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a/Arriendo del loc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(Red Propi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 Call Cent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ndarización de Proce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ón al cliente presencial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a. Sujeto a la realidad de cada local. Se limita a la capacitación de franquic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rio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ncillito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suario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liente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ón al cliente presencial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. RRHH propi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ón al cliente Web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rio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rvipag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suario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liente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RHH requeri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Local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o. (capacitaciones esporádicas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Central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 Center, Back Office, Mantención Sistem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Local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jeros, supervisores, externalización aseo y limpiez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Central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 Center, Back Office, Mantención Sistem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95280" y="1052640"/>
          <a:ext cx="8497800" cy="4233600"/>
        </p:xfrm>
        <a:graphic>
          <a:graphicData uri="http://schemas.openxmlformats.org/drawingml/2006/table">
            <a:tbl>
              <a:tblPr/>
              <a:tblGrid>
                <a:gridCol w="1584360"/>
                <a:gridCol w="3456000"/>
                <a:gridCol w="3457440"/>
              </a:tblGrid>
              <a:tr h="80856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220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uctura de 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 variable/fijo asociado al uso de la franquic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ción de terminales, sistem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ística de recaudación y transporte de valor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s fijos del local (arriendo/compr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z, Agua, teléfono, Interne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ción de terminales, sistem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ística de recaudación y transporte de valor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o y segur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 de loc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 de Call Cent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 de loc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 de Call Cent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cionar horario web (24x7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56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ización de Ac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 de transmisión de informa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e de valor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ridad y Ase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e de valor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ción de Model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1052640"/>
          <a:ext cx="8497800" cy="5173560"/>
        </p:xfrm>
        <a:graphic>
          <a:graphicData uri="http://schemas.openxmlformats.org/drawingml/2006/table">
            <a:tbl>
              <a:tblPr/>
              <a:tblGrid>
                <a:gridCol w="1584360"/>
                <a:gridCol w="3456000"/>
                <a:gridCol w="3457440"/>
              </a:tblGrid>
              <a:tr h="80460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79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resas de servic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 de recaudación confiable, rápido y exac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 Cobertura geográfic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o: preocuparse de tareas de mayor valor agreg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 de recaudación confiable, rápido y exac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 Cobertura geográfic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 estable y expedito (web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o: preocuparse de tareas de mayor valor agreg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79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ez de atención y seguridad en la transac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os de atención cercan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bilidad de realizar varios trámites a a la ve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ez de atención y seguridad en la transac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os de atención cercan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o amigable (we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bilidad de realizar varios trámites a a la ve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31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ños de loc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o de comisión por franquicia confiable, rápido, exacto y periódic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cho para el público objetivo del loc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plic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esperan los clientes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95280" y="1052640"/>
          <a:ext cx="8497800" cy="4827600"/>
        </p:xfrm>
        <a:graphic>
          <a:graphicData uri="http://schemas.openxmlformats.org/drawingml/2006/table">
            <a:tbl>
              <a:tblPr/>
              <a:tblGrid>
                <a:gridCol w="1584360"/>
                <a:gridCol w="3456000"/>
                <a:gridCol w="3457440"/>
              </a:tblGrid>
              <a:tr h="8125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de pago presen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de pago rem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pl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ficación y pago a cli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audación y transporte de val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amiento de da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zació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95280" y="1052640"/>
          <a:ext cx="8497800" cy="5645160"/>
        </p:xfrm>
        <a:graphic>
          <a:graphicData uri="http://schemas.openxmlformats.org/drawingml/2006/table">
            <a:tbl>
              <a:tblPr/>
              <a:tblGrid>
                <a:gridCol w="1584360"/>
                <a:gridCol w="3456000"/>
                <a:gridCol w="3457440"/>
              </a:tblGrid>
              <a:tr h="7045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os, debido al modelo de la franqui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os, debido a la inversión inicial en infraestructura y costos asociados a personal en loc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64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ón al cliente: relativa a cada loc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geográfica: Casi todas las reg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transaccional: en línea, eficien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ón al cliente: estandarizad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geográfica: Todas las regiones. Plus: servicio we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transaccional: en línea, sujeto a estándares bancarios, eficiente. Plus: servicio we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676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de entre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s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o, depósito al día siguien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rio presencial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de espera sujeto a la demanda horaria y geográfica. Tiempo de transacción: Baj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s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o, depósito al día siguien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rio presencial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de espera sujeto a la demanda horaria y geográfica. Tiempo de transacción: Baj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rio web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flexibilidad para abrir/cerrar locale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ranquic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flexibilidad a las variaciones de demanda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rvicio we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se comparan en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95280" y="1052640"/>
          <a:ext cx="8497800" cy="4192560"/>
        </p:xfrm>
        <a:graphic>
          <a:graphicData uri="http://schemas.openxmlformats.org/drawingml/2006/table">
            <a:tbl>
              <a:tblPr/>
              <a:tblGrid>
                <a:gridCol w="1584360"/>
                <a:gridCol w="3456000"/>
                <a:gridCol w="3457440"/>
              </a:tblGrid>
              <a:tr h="8089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31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 Cober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dad asociada a los bajos costos por franquic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crecimiento en cobertura geográfico es más lento debido a los altos costos operacion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ificar el uso del servicio we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31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delización de usu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transaccional rápido y confiable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transaccional rápido y confiable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dades y promociones en el servicio we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mento de Cli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exacto. Pagos periódic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 masivo por usuari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aldo de los procedimientos y ambiente bancari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exacto. Pagos periódic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 masivo por usuari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ategias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como responde el mode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gración vertical de los cl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gración vertical de la ban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o de nuevos competidores (mis cuentas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menazas para el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mpare ambos modelos en términos de: 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(1,2 pun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versión requerida para lograr cobertura.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andarización de procesos.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cursos humanos requeridos.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ructura de costos de operación.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orarios.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xternalización de actividades.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¿Que esperan los clientes de estas empresas? 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(0,8 pun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¿Que actividades manejan cada empresa centralizadamente y cuales no? 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(1 pun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mo se comparan en: 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(1 pun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stos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5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lidad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5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iempo de entrega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5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lexibilidad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5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nalice las estrategias de ambas empresas y como el modelo responde a ellas. 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(1 pun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¿Qué amenazas se ciernen sobre este negocio? 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(1 pun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Bonus: búsqueda de información adicional (0,5 pun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0000"/>
                </a:solidFill>
                <a:latin typeface="Arial"/>
              </a:rPr>
              <a:t>Presentación general y preocupación (0,5 pun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unta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22:00:49Z</dcterms:created>
  <dc:creator>gluna001</dc:creator>
  <dc:description/>
  <dc:language>en-US</dc:language>
  <cp:lastModifiedBy>gluna001</cp:lastModifiedBy>
  <dcterms:modified xsi:type="dcterms:W3CDTF">2007-12-13T19:38:58Z</dcterms:modified>
  <cp:revision>13</cp:revision>
  <dc:subject/>
  <dc:title>Comparación de Modelos </dc:title>
</cp:coreProperties>
</file>