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3D950-1509-42F6-A0A9-55738267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7BDC-A749-4383-B2A5-5B7BB99C7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4A62-A817-4092-A852-886094FC5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4200" y="198108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4200" y="4130640"/>
            <a:ext cx="2821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0586-1E9C-481C-9E53-D9D1A4620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293B9-CFF5-46FE-B594-C827E6792B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3418-B41B-4794-9671-0EADD41E9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4779-17F7-4A57-8983-59302905B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45BF-FBA7-45D1-A71E-F8DB82A3A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991C-50ED-4F05-9889-0DD760969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86DC-5817-4016-91BA-F7392DDF3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8880" y="413064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01C0-ADAA-40B9-9CC2-7216FD677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981080"/>
            <a:ext cx="4276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76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21B61-E3B0-43A4-84AC-068CECC56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A5B3-A550-49B1-938B-FA9C0D721D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Verdana"/>
              </a:rPr>
              <a:t>IN77R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99"/>
                </a:solidFill>
                <a:latin typeface="Verdana"/>
              </a:rPr>
              <a:t>PRODUCTO</a:t>
            </a:r>
            <a:r>
              <a:rPr b="0" lang="es-MX" sz="5400" spc="-1" strike="noStrike">
                <a:solidFill>
                  <a:srgbClr val="ff6699"/>
                </a:solidFill>
                <a:latin typeface="Verdana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304920"/>
            <a:ext cx="5105520" cy="838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ultad de Ciencias Físicas y Matemá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5638680"/>
            <a:ext cx="3733920" cy="83844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Verdana"/>
              </a:rPr>
              <a:t>Bosch&amp;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4840" y="3049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CBE5-0E46-4FB3-BE5C-109817257A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Estrell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relativa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 de alto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es cantidades de efectivo para financiar el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dades significati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Signos de Interrog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creciendo rápida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an grandes cantidades de efectivo para financiar su crec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dores débiles de efec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empresa debe evaluar si sigue invirtiendo en éste nego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D27D1-9C61-4D12-978A-FEFC03CB80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Vacas Leche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n más efectivo del que necesitan para su crecimiento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usarse para crear o desarrollar otros negoc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árgenes de utilidad al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7000"/>
                </a:solidFill>
                <a:latin typeface="Arial"/>
              </a:rPr>
              <a:t>Perr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participación en el merc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ados de crecimiento l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eden generar pocas utilidades o a veces pérdi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mente deben ser reestructuradas o eliminada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Manejo de la carter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2CF2C-85F6-48F2-A9D3-5B2EA2B0AD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a “Ley”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oston Consulting Grou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ADD5-78F3-483E-8446-3F755CDD2BC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ey de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xperiencia=volumen acumulado de     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fecto experiencia =  costos valor agregad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sto en valor re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xperiencia es mas importante en el arran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3685-947C-4CAD-99F5-6D6A52C083D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Causas del efecto Experienci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ficiencia del Trabajo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Estandariz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uevos procedimientos de fabric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ejoras en recursos utiliz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diseño del produc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B55F-C577-4A26-A9B1-BB39F9E9C9D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Formulación Matemátic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=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 *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(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/Q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)**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p= Costo unitario previ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b = Costo unitario b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Q = Volumen acumulado de produc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= elasticidad del cos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8D737-00B0-4AAF-927D-10F12F46CAC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2860-61D9-44D2-AEE8-1B11E4D61C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Implicancia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 empresa que acumula la mayor producción tendrá los costos men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as empresas tienen interés en desarrollarse para descender lo más rápidamente posible por la curva de experienc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l objetivo es crecer más rápido que los competi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pecialmente al principi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s de Penetra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77FE-39A3-45B5-AC37-608FF3D8BE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Límit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baja predictibilidad en Productos de poco valor agregad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No considera la diferenci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ambios tecnológ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C34E8-A98C-41F0-866C-2A310010B1E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UN PRODUCTO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ES LO QUE VENDE LA EMPRESA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EN QUÉ NEGOCIO ESTÁ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68A70-3FD5-490F-8B70-327CE6E60A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No confundir experiencia con economía de escala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Teoría de la difusión de productos nuev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Verdana"/>
              </a:rPr>
              <a:t>¿Cómo un producto nuevo es asimilado en la sociedad en el tiemp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Tiempo de adopción de Rog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uatro “proposiciones” acerca del proceso de adopció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49C68-8772-464F-BFAB-02732CB1AF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99"/>
                </a:solidFill>
                <a:latin typeface="Verdana"/>
              </a:rPr>
              <a:t>1-  </a:t>
            </a:r>
            <a:r>
              <a:rPr b="1" lang="es-ES_tradnl" sz="2900" spc="-1" strike="noStrike">
                <a:solidFill>
                  <a:srgbClr val="ffff99"/>
                </a:solidFill>
                <a:latin typeface="Verdana"/>
              </a:rPr>
              <a:t>ETAPAS EN EL PROCESO DE ADOPCIÓN</a:t>
            </a:r>
            <a:endParaRPr b="1" lang="en-US" sz="29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249B-0E7B-4A66-8465-425F3D838B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2 </a:t>
            </a: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Las personas difieren en su tendencia a probar productos nuevos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Cinco grup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DOPTADORES TEMPRANER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EMPRAN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MAYORÍA TAR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REZAG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CBB36-8402-42AA-96E2-28973F7E5E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3333cc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3819-3030-4F28-B1C7-4983E670EE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Verdana"/>
              </a:rPr>
              <a:t>ALGUNAS CARACTERISTICAS LOS INNOVADORES</a:t>
            </a:r>
            <a:endParaRPr b="1" lang="en-US" sz="32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ACTERISTICA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ducación, ingreso, nivel de vida están correlacionados positivamente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No existe correlación con la edad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TITUD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Actitud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ositiva al cambio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spiraciones educacion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otivación por los logro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SzPct val="10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LACIONES SOCIALE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ida social activa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a exposición a los medios de comunic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esviación de las normas sociales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280160" indent="-182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articipación en actividades sociales de grup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5F2D1-1690-4ED2-8842-5FB4657C45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99"/>
                </a:solidFill>
                <a:latin typeface="Verdana"/>
              </a:rPr>
              <a:t>Proposicione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99"/>
                </a:solidFill>
                <a:latin typeface="Verdana"/>
              </a:rPr>
              <a:t>Influencia de otras person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Líderes de opinión:</a:t>
            </a:r>
            <a:r>
              <a:rPr b="1" lang="es-MX" sz="2500" spc="-1" strike="noStrike">
                <a:solidFill>
                  <a:srgbClr val="000000"/>
                </a:solidFill>
                <a:latin typeface="Verdana"/>
              </a:rPr>
              <a:t> importantes en la etapa de adopción</a:t>
            </a:r>
            <a:endParaRPr b="1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99"/>
                </a:solidFill>
                <a:latin typeface="Verdana"/>
              </a:rPr>
              <a:t>4 </a:t>
            </a:r>
            <a:r>
              <a:rPr b="1" lang="es-ES_tradnl" sz="2800" spc="-1" strike="noStrike">
                <a:solidFill>
                  <a:srgbClr val="ffff99"/>
                </a:solidFill>
                <a:latin typeface="Verdana"/>
              </a:rPr>
              <a:t>Características del producto que pueden modificar la tasa de velocidad  a la que se desarrolla el proceso de adop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Complej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ntajas relativa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sponibilidad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Beneficios de corto plazo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Posibilidad de Comunicación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379440">
              <a:lnSpc>
                <a:spcPct val="12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Divisibl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2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BB71-28C4-4524-9E16-996C6282630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MODELOS DE VENTAS DE NUEVOS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DIFUSIÓN O DE PRIMERA COMPR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ODELOS DE COMPRA REPETITIVA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AA61-5F6A-4F86-943F-2281F48C64C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99"/>
                </a:solidFill>
                <a:latin typeface="Verdana"/>
              </a:rPr>
              <a:t>MODELOS DE DIFUSIÓN</a:t>
            </a: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3600"/>
            </a:br>
            <a:r>
              <a:rPr b="1" lang="es-ES_tradnl" sz="44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Uno de los modelos de difusión más conocido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l de Bass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6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808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04ED-45BD-4586-9CDC-3A9D2932CC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MODELO DE BAS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La suma de efectos de “innovadores” e “imitadores” los expresa Bass con la siguiente ecuación: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32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800" spc="-1" strike="noStrike">
                <a:solidFill>
                  <a:srgbClr val="ccccff"/>
                </a:solidFill>
                <a:latin typeface="Bookman Old Style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del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Verdana"/>
              </a:rPr>
              <a:t>t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: Ventas acumuladas previas al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      periodo t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 : Mercado potencial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 : Coeficiente de innov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q : Coeficiente de imitació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PRODUCTO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egún Charles Revson , presidente de la empresa de cosmética Revlon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N LA FÁBRICA HACEMOS COSMÉTICOS; EN LA TIENDA, VENDEMOS ESPERANZA”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CONSUMIDORES NO COMPRAN PRODUCTOS; ADQUIEREN LA ESPERANZA DE CONSEGUIR BENEFICIOS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C7EE-A882-458F-A13E-0AC3979B0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7320" y="684000"/>
            <a:ext cx="805176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Ventas (t) = p (O - Vt ) + q Vt (O - Vt ) / O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 = 0.04  q = 0.6  O = 5000   O: Mercado Potencial</a:t>
            </a:r>
            <a:br>
              <a:rPr sz="2000"/>
            </a:br>
            <a:r>
              <a:rPr b="1" lang="es-ES_tradnl" sz="2000" spc="-1" strike="noStrike">
                <a:solidFill>
                  <a:srgbClr val="ffff99"/>
                </a:solidFill>
                <a:latin typeface="Verdana"/>
              </a:rPr>
              <a:t>p: Coeficiente de innovación q:  Coeficiente de imitación</a:t>
            </a:r>
            <a:endParaRPr b="1" lang="en-US" sz="2000" spc="-1" strike="noStrike">
              <a:solidFill>
                <a:srgbClr val="ffff99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13BC6-A37D-4167-948C-3DB32D8E1F07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Verdana"/>
              </a:rPr>
              <a:t>PRODUCTO AUMENTADO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Times New Roman"/>
              </a:rPr>
              <a:t>ASPECTOS AÑAD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Producto “aument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0" lang="es-ES_tradnl" sz="1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4920" y="5127480"/>
            <a:ext cx="4506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Servicio posventa                          Fina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-166680" y="3306600"/>
            <a:ext cx="3132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Entrega                         Garant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6319440" y="3096720"/>
            <a:ext cx="3452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Times New Roman"/>
              </a:rPr>
              <a:t>Instalación</a:t>
            </a:r>
            <a:r>
              <a:rPr b="0" lang="es-ES_tradnl" sz="1800" spc="-1" strike="noStrike">
                <a:solidFill>
                  <a:srgbClr val="808080"/>
                </a:solidFill>
                <a:latin typeface="Times New Roman"/>
              </a:rPr>
              <a:t>             Manten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La salud de LP de muchas compañías está relacionada con su capacidad de 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Innovació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mportan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iesgosa y costos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7B1F-B4D5-4DF5-8D6C-B49C1DF93C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Verdana"/>
              </a:rPr>
              <a:t>DESARROLLO DE PRODUCTOS</a:t>
            </a:r>
            <a:endParaRPr b="1" lang="en-US" sz="48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Dificultad del Desarrollo de Productos nuevos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Fragmentación mercad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soci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tricciones gubernamenta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VP más cort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14E8-681B-4046-BD45-35F4B9C951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lien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&amp;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petidores (Benchmarking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presentante de Vent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Directiv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tros (consultores, agencias, laboratorios universitarios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Fuente de Generación de Ideas</a:t>
            </a:r>
            <a:endParaRPr b="1" lang="en-US" sz="3600" spc="-1" strike="noStrike">
              <a:solidFill>
                <a:srgbClr val="ffff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193B-BF74-43AF-86EE-BB47B50C2B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69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09880" y="3581280"/>
            <a:ext cx="1524240" cy="457200"/>
            <a:chOff x="3809880" y="3581280"/>
            <a:chExt cx="1524240" cy="457200"/>
          </a:xfrm>
        </p:grpSpPr>
        <p:sp>
          <p:nvSpPr>
            <p:cNvPr id="80" name=""/>
            <p:cNvSpPr/>
            <p:nvPr/>
          </p:nvSpPr>
          <p:spPr>
            <a:xfrm>
              <a:off x="4114800" y="3581280"/>
              <a:ext cx="114300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9880" y="3616200"/>
              <a:ext cx="152424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flipH="1">
            <a:off x="4038120" y="403848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8120" y="4419720"/>
            <a:ext cx="1523880" cy="457200"/>
            <a:chOff x="3048120" y="4419720"/>
            <a:chExt cx="1523880" cy="457200"/>
          </a:xfrm>
        </p:grpSpPr>
        <p:sp>
          <p:nvSpPr>
            <p:cNvPr id="84" name=""/>
            <p:cNvSpPr/>
            <p:nvPr/>
          </p:nvSpPr>
          <p:spPr>
            <a:xfrm>
              <a:off x="3352680" y="441972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445464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 NUE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95680" y="2666880"/>
            <a:ext cx="1524240" cy="914400"/>
            <a:chOff x="4495680" y="2666880"/>
            <a:chExt cx="1524240" cy="914400"/>
          </a:xfrm>
        </p:grpSpPr>
        <p:sp>
          <p:nvSpPr>
            <p:cNvPr id="87" name=""/>
            <p:cNvSpPr/>
            <p:nvPr/>
          </p:nvSpPr>
          <p:spPr>
            <a:xfrm flipV="1">
              <a:off x="4724280" y="320040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4495680" y="2666880"/>
              <a:ext cx="1524240" cy="457200"/>
              <a:chOff x="4495680" y="2666880"/>
              <a:chExt cx="1524240" cy="457200"/>
            </a:xfrm>
          </p:grpSpPr>
          <p:sp>
            <p:nvSpPr>
              <p:cNvPr id="89" name=""/>
              <p:cNvSpPr/>
              <p:nvPr/>
            </p:nvSpPr>
            <p:spPr>
              <a:xfrm>
                <a:off x="4800600" y="2666880"/>
                <a:ext cx="114300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95680" y="2701800"/>
                <a:ext cx="15242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" name=""/>
          <p:cNvGrpSpPr/>
          <p:nvPr/>
        </p:nvGrpSpPr>
        <p:grpSpPr>
          <a:xfrm>
            <a:off x="3352680" y="4038480"/>
            <a:ext cx="1752840" cy="990720"/>
            <a:chOff x="3352680" y="4038480"/>
            <a:chExt cx="1752840" cy="990720"/>
          </a:xfrm>
        </p:grpSpPr>
        <p:sp>
          <p:nvSpPr>
            <p:cNvPr id="92" name=""/>
            <p:cNvSpPr/>
            <p:nvPr/>
          </p:nvSpPr>
          <p:spPr>
            <a:xfrm flipH="1">
              <a:off x="4038120" y="4038480"/>
              <a:ext cx="381240" cy="381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191120"/>
              <a:ext cx="175284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65C0-B271-412D-ACEA-EA2CAE92D4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1600" y="457200"/>
            <a:ext cx="795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99"/>
                </a:solidFill>
                <a:latin typeface="Verdana"/>
              </a:rPr>
              <a:t>Decisión sobre la li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438280" y="2209680"/>
            <a:ext cx="4114800" cy="3354840"/>
            <a:chOff x="2438280" y="2209680"/>
            <a:chExt cx="4114800" cy="3354840"/>
          </a:xfrm>
        </p:grpSpPr>
        <p:graphicFrame>
          <p:nvGraphicFramePr>
            <p:cNvPr id="96" name=""/>
            <p:cNvGraphicFramePr/>
            <p:nvPr/>
          </p:nvGraphicFramePr>
          <p:xfrm>
            <a:off x="2514600" y="2209680"/>
            <a:ext cx="4038480" cy="3352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2209680"/>
                      <a:ext cx="403848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"/>
            <p:cNvGraphicFramePr/>
            <p:nvPr/>
          </p:nvGraphicFramePr>
          <p:xfrm>
            <a:off x="2514600" y="3200400"/>
            <a:ext cx="295200" cy="1504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3200400"/>
                      <a:ext cx="295200" cy="150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3429000" y="5300640"/>
            <a:ext cx="2295360" cy="2617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29000" y="5300640"/>
                      <a:ext cx="2295360" cy="26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55627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520" y="5333760"/>
              <a:ext cx="9144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8280" y="24382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38280" y="4952880"/>
              <a:ext cx="914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AJ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971800" y="4495680"/>
            <a:ext cx="1523880" cy="457200"/>
            <a:chOff x="2971800" y="4495680"/>
            <a:chExt cx="1523880" cy="457200"/>
          </a:xfrm>
        </p:grpSpPr>
        <p:sp>
          <p:nvSpPr>
            <p:cNvPr id="107" name=""/>
            <p:cNvSpPr/>
            <p:nvPr/>
          </p:nvSpPr>
          <p:spPr>
            <a:xfrm>
              <a:off x="3276360" y="4495680"/>
              <a:ext cx="1142640" cy="457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71800" y="4530600"/>
              <a:ext cx="15238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RODUCTOS A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581280"/>
            <a:ext cx="1523880" cy="914400"/>
            <a:chOff x="3657600" y="3581280"/>
            <a:chExt cx="1523880" cy="914400"/>
          </a:xfrm>
        </p:grpSpPr>
        <p:sp>
          <p:nvSpPr>
            <p:cNvPr id="110" name=""/>
            <p:cNvSpPr/>
            <p:nvPr/>
          </p:nvSpPr>
          <p:spPr>
            <a:xfrm flipV="1">
              <a:off x="3885840" y="4114800"/>
              <a:ext cx="45684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657600" y="3581280"/>
              <a:ext cx="1523880" cy="457200"/>
              <a:chOff x="3657600" y="3581280"/>
              <a:chExt cx="152388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3962160" y="3581280"/>
                <a:ext cx="1142640" cy="457200"/>
              </a:xfrm>
              <a:prstGeom prst="roundRect">
                <a:avLst>
                  <a:gd name="adj" fmla="val 1666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3616200"/>
                <a:ext cx="152388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PRODUCTOS  NUEV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83A3-E715-4655-9D6A-D14C877158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7-10-03T02:45:00Z</dcterms:modified>
  <cp:revision>408</cp:revision>
  <dc:subject/>
  <dc:title>77n</dc:title>
</cp:coreProperties>
</file>