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A06-11DF-4D3D-8ED6-FDBB96BE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F17-A4F2-4AB4-BDAA-BA17AC1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40B-F218-4D88-9417-ACB5B4A2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1C6-8DD7-458F-8AC7-05B66AE1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291-F57B-4A34-B023-DB5BD28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78F-A2CB-49EA-9EE0-E98508B0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CA7-F83E-457F-AE4A-D296B3BA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2A0-50A4-4C6D-B045-6B690720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37B-EF78-473D-B509-01D47FA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522-C181-4F40-8EA1-03A4440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EE4-DA65-4221-BD99-9FE9DBE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0C9-1E8E-4B92-B0D8-79A9EBD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A156-737B-46CB-BE45-5BB3DAD3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7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07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7-10-03T02:39:36Z</dcterms:modified>
  <cp:revision>15</cp:revision>
  <dc:subject/>
  <dc:title>Diapositiva 1</dc:title>
</cp:coreProperties>
</file>