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5BCB-D01E-49A5-8EBF-2CEFF43B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BE00-D279-44C7-BD28-182B3376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C50E-39B0-4EC6-A32A-D7501658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F590-2F29-487B-AD76-FD7BF955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A12B-7AF0-4ABE-BB2E-A477293F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3D9C-078F-450A-B37D-91CEC9B9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6F7B-9154-42C4-820E-3A4F6565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9562-7678-4C66-AE7F-22482327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9717-7B50-4516-BE36-BA7B2667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8998-4F10-4A61-8039-0427E57C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28E9-9A0F-46FA-A8B5-FEF78A2C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F925-E997-4BD7-85FB-776DC7AA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B3FC-1AB5-4CDD-B505-A5CFE9D27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el preci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William Young</cp:lastModifiedBy>
  <cp:lastPrinted>2000-03-10T16:13:12Z</cp:lastPrinted>
  <dcterms:modified xsi:type="dcterms:W3CDTF">2006-10-10T22:42:48Z</dcterms:modified>
  <cp:revision>23</cp:revision>
  <dc:subject/>
  <dc:title>Sin título de diapositiva</dc:title>
</cp:coreProperties>
</file>