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F55EA0-87EE-4A5C-8F34-727CBD4F31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316CF1-D042-45AE-92F2-B8C4DEA17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B216C8-CB21-41E1-A10E-77BADD3742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530E1F-73E6-4ABB-AD1C-34FB1A8EA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A546A7-C4CE-49A5-84A8-AB7A3D133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0EFE8-9D6D-4391-8CBB-DEEF13549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BD91F-BE5E-47FF-8F3D-2BA9E632F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EDBBC-7FE4-462F-9802-2885242A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6EAE0-2184-4EF4-B87B-2FA89648D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47213-DB70-4177-80BD-C826EDDD6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17ECC-9433-46AC-9C6B-FA5135122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E1AD43-09FB-4D69-A46B-9439EC9FA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0B240-7A7F-418F-BDB0-DC499089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A85EA-CF32-4DE9-9236-6620C001D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83321-62CA-4445-ABC8-EF19AD79F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4C715-E8DF-4B7E-B145-C4598CDBA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8CE00-488B-4468-9EB9-33D94899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98236-A2E7-42C9-A4D7-3F7438D7B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37E73A-0CDF-4429-9A0B-9B32936BA8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0EF38E-487D-45E0-BF46-23F63B95F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F0364D-60AD-409A-9049-D894DBA16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C057F-5EA1-4C95-8008-634168744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D6CC3-5259-40B0-A841-23F5C3AA9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8A5D19-B620-4B2F-8FDB-3836CBB61D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6833-3375-4E9D-A6FA-44DDAAAB45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2574-D3FD-498A-9E30-FCBACFBA7F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ICING</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Formas de Discriminación de Precio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TROS EJEMPLOS TRADICIONALES</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os tapa dura/ tapa blanda</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ículas/Videos</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y el 486SX</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aestros son las lineas aé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MENSIONES</a:t>
            </a:r>
            <a:endParaRPr b="0" lang="en-US" sz="3600" spc="-1" strike="noStrike">
              <a:solidFill>
                <a:srgbClr val="000000"/>
              </a:solidFill>
              <a:latin typeface="Arial"/>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so (Fed Ex)</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Usuaria (Adobe Phoptoshop,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werpoint)</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Operación (Mathematica)</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ción de Imagen  (Photodisk)</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LECCIONES PARA EL DISEÑO</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ence por diseñar la solución de “alto nivel”.</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asegúrese que después podrá eliminar algunas de sus características.</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ces la solución de mala calidad puede resultar más costosa que la de “alto ni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SERVACIÓN</a:t>
            </a:r>
            <a:endParaRPr b="0" lang="en-US" sz="3600" spc="-1" strike="noStrike">
              <a:solidFill>
                <a:srgbClr val="000000"/>
              </a:solidFill>
              <a:latin typeface="Arial"/>
            </a:endParaRPr>
          </a:p>
        </p:txBody>
      </p:sp>
      <p:sp>
        <p:nvSpPr>
          <p:cNvPr id="151"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87000"/>
          </a:bodyPr>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ría un grupo de consumidores que no tendría acceso al produ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es muy poca</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z probablemente muchas</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ce el mercado, divida en segmentos, y encuentre coportamientos distintos (elasticidades , urgencias, gustos, neces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o sabe cuantas versiones, haga 3 </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nsumidores tenemos aversión a los extremos.</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so de los Micro o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OR SEGMENTOS</a:t>
            </a:r>
            <a:endParaRPr b="0" lang="en-US" sz="3600" spc="-1" strike="noStrike">
              <a:solidFill>
                <a:srgbClr val="000000"/>
              </a:solidFill>
              <a:latin typeface="Arial"/>
            </a:endParaRPr>
          </a:p>
        </p:txBody>
      </p:sp>
      <p:sp>
        <p:nvSpPr>
          <p:cNvPr id="157"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e son las diferentes sensibilidades al precio.</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cobrar por el mismo (exactamente) producto distintos precios, de acuerdo a las sensibilidades (elastic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59"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1200" y="457200"/>
            <a:ext cx="808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TIPOS DE P. NO LINEALES</a:t>
            </a:r>
            <a:endParaRPr b="0" lang="en-US" sz="3600" spc="-1" strike="noStrike">
              <a:solidFill>
                <a:srgbClr val="000000"/>
              </a:solidFill>
              <a:latin typeface="Arial"/>
            </a:endParaRPr>
          </a:p>
        </p:txBody>
      </p:sp>
      <p:sp>
        <p:nvSpPr>
          <p:cNvPr id="163"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7240" y="663480"/>
            <a:ext cx="8762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NERAS DE DIFERENCIAR EL PRECIO</a:t>
            </a:r>
            <a:endParaRPr b="0" lang="en-US" sz="3600" spc="-1" strike="noStrike">
              <a:solidFill>
                <a:srgbClr val="000000"/>
              </a:solidFill>
              <a:latin typeface="Arial"/>
            </a:endParaRPr>
          </a:p>
        </p:txBody>
      </p:sp>
      <p:sp>
        <p:nvSpPr>
          <p:cNvPr id="109" name="PlaceHolder 2"/>
          <p:cNvSpPr>
            <a:spLocks noGrp="1"/>
          </p:cNvSpPr>
          <p:nvPr>
            <p:ph/>
          </p:nvPr>
        </p:nvSpPr>
        <p:spPr>
          <a:xfrm>
            <a:off x="990720" y="161928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ersonalizad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da usuario le cobramos un precio distinto. </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sionalización del Product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n ofrecer variantes del producto a distintos precios y cada usuario elige.</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or Segmentos</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obramos distinto a distintos grupos </a:t>
            </a:r>
            <a:endParaRPr b="0" lang="en-US" sz="22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No Lineale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de Líneas de Producto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ndling</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ield management</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p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65"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67" name=""/>
          <p:cNvGraphicFramePr/>
          <p:nvPr/>
        </p:nvGraphicFramePr>
        <p:xfrm>
          <a:off x="900000" y="2417760"/>
          <a:ext cx="7115400" cy="2595600"/>
        </p:xfrm>
        <a:graphic>
          <a:graphicData uri="http://schemas.openxmlformats.org/presentationml/2006/ole">
            <p:oleObj progId="Excel.Sheet.12" r:id="rId1" spid="">
              <p:embed/>
              <p:pic>
                <p:nvPicPr>
                  <p:cNvPr id="168" name="" descr=""/>
                  <p:cNvPicPr/>
                  <p:nvPr/>
                </p:nvPicPr>
                <p:blipFill>
                  <a:blip r:embed="rId2"/>
                  <a:stretch/>
                </p:blipFill>
                <p:spPr>
                  <a:xfrm>
                    <a:off x="900000" y="2417760"/>
                    <a:ext cx="711540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08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70" name=""/>
          <p:cNvGraphicFramePr/>
          <p:nvPr/>
        </p:nvGraphicFramePr>
        <p:xfrm>
          <a:off x="380880" y="2286000"/>
          <a:ext cx="8382240" cy="1882800"/>
        </p:xfrm>
        <a:graphic>
          <a:graphicData uri="http://schemas.openxmlformats.org/presentationml/2006/ole">
            <p:oleObj progId="Excel.Sheet.12" r:id="rId1" spid="">
              <p:embed/>
              <p:pic>
                <p:nvPicPr>
                  <p:cNvPr id="171"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72"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Comparación con políticas de precios lineales</a:t>
            </a:r>
            <a:endParaRPr b="0" lang="en-US" sz="3600" spc="-1" strike="noStrike">
              <a:solidFill>
                <a:srgbClr val="000000"/>
              </a:solidFill>
              <a:latin typeface="Times New Roman"/>
            </a:endParaRPr>
          </a:p>
        </p:txBody>
      </p:sp>
      <p:sp>
        <p:nvSpPr>
          <p:cNvPr id="174"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76"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7"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79"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83"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185" name="PlaceHolder 1"/>
          <p:cNvSpPr>
            <a:spLocks noGrp="1"/>
          </p:cNvSpPr>
          <p:nvPr>
            <p:ph type="title"/>
          </p:nvPr>
        </p:nvSpPr>
        <p:spPr>
          <a:xfrm>
            <a:off x="59040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cc"/>
                </a:solidFill>
                <a:latin typeface="Arial"/>
              </a:rPr>
              <a:t>PRECIO DE PAQUETES (BUNDLING)</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0" y="1589040"/>
          <a:ext cx="9144000" cy="3679920"/>
        </p:xfrm>
        <a:graphic>
          <a:graphicData uri="http://schemas.openxmlformats.org/presentationml/2006/ole">
            <p:oleObj progId="Excel.Sheet.12" r:id="rId1" spid="">
              <p:embed/>
              <p:pic>
                <p:nvPicPr>
                  <p:cNvPr id="190"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324000" y="620640"/>
            <a:ext cx="8591400" cy="5924520"/>
            <a:chOff x="324000" y="620640"/>
            <a:chExt cx="8591400" cy="5924520"/>
          </a:xfrm>
        </p:grpSpPr>
        <p:graphicFrame>
          <p:nvGraphicFramePr>
            <p:cNvPr id="192" name=""/>
            <p:cNvGraphicFramePr/>
            <p:nvPr/>
          </p:nvGraphicFramePr>
          <p:xfrm>
            <a:off x="324000" y="620640"/>
            <a:ext cx="8496000" cy="5924520"/>
          </p:xfrm>
          <a:graphic>
            <a:graphicData uri="http://schemas.openxmlformats.org/presentationml/2006/ole">
              <p:oleObj progId="Excel.Sheet.12" r:id="rId1" spid="">
                <p:embed/>
                <p:pic>
                  <p:nvPicPr>
                    <p:cNvPr id="193" name="" descr=""/>
                    <p:cNvPicPr/>
                    <p:nvPr/>
                  </p:nvPicPr>
                  <p:blipFill>
                    <a:blip r:embed="rId2"/>
                    <a:stretch/>
                  </p:blipFill>
                  <p:spPr>
                    <a:xfrm>
                      <a:off x="324000" y="620640"/>
                      <a:ext cx="8496000" cy="5924520"/>
                    </a:xfrm>
                    <a:prstGeom prst="rect">
                      <a:avLst/>
                    </a:prstGeom>
                    <a:ln w="0">
                      <a:noFill/>
                    </a:ln>
                  </p:spPr>
                </p:pic>
              </p:oleObj>
            </a:graphicData>
          </a:graphic>
        </p:graphicFrame>
        <p:sp>
          <p:nvSpPr>
            <p:cNvPr id="194" name=""/>
            <p:cNvSpPr/>
            <p:nvPr/>
          </p:nvSpPr>
          <p:spPr>
            <a:xfrm flipV="1">
              <a:off x="6953400" y="16948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76480" y="222876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16383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197" name=""/>
            <p:cNvSpPr/>
            <p:nvPr/>
          </p:nvSpPr>
          <p:spPr>
            <a:xfrm>
              <a:off x="7391520" y="2171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ERSONALIZADOS</a:t>
            </a:r>
            <a:endParaRPr b="0" lang="en-US" sz="3600" spc="-1" strike="noStrike">
              <a:solidFill>
                <a:srgbClr val="000000"/>
              </a:solidFill>
              <a:latin typeface="Arial"/>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ios personales (gásfiter,abogados,..)</a:t>
            </a:r>
            <a:endParaRPr b="0" lang="en-US" sz="32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ácil en la Internet (caso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24000" y="228600"/>
          <a:ext cx="8496000" cy="5924520"/>
        </p:xfrm>
        <a:graphic>
          <a:graphicData uri="http://schemas.openxmlformats.org/presentationml/2006/ole">
            <p:oleObj progId="Excel.Sheet.12" r:id="rId1" spid="">
              <p:embed/>
              <p:pic>
                <p:nvPicPr>
                  <p:cNvPr id="200"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1" name=""/>
          <p:cNvSpPr/>
          <p:nvPr/>
        </p:nvSpPr>
        <p:spPr>
          <a:xfrm flipH="1" flipV="1">
            <a:off x="2076480" y="1047600"/>
            <a:ext cx="6400800" cy="381024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28600"/>
          <a:ext cx="8496000" cy="5924520"/>
        </p:xfrm>
        <a:graphic>
          <a:graphicData uri="http://schemas.openxmlformats.org/presentationml/2006/ole">
            <p:oleObj progId="Excel.Sheet.12" r:id="rId1" spid="">
              <p:embed/>
              <p:pic>
                <p:nvPicPr>
                  <p:cNvPr id="205"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6"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10"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11"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13"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0" y="2276640"/>
          <a:ext cx="9144000" cy="2219040"/>
        </p:xfrm>
        <a:graphic>
          <a:graphicData uri="http://schemas.openxmlformats.org/presentationml/2006/ole">
            <p:oleObj progId="Excel.Sheet.12" r:id="rId1" spid="">
              <p:embed/>
              <p:pic>
                <p:nvPicPr>
                  <p:cNvPr id="215"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218"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1"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3"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VERSIONAMIENTO</a:t>
            </a:r>
            <a:endParaRPr b="0" lang="en-US" sz="36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hacer que nuestro producto no sea el mismo para tod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permite que existan diferentes preci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consumidor elegirá la “versión” que le convenga.</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bajamos con una LINEA de PRODUCTOS. Los precios deben ponerse con el objetivo de maximizar el ingreso de la Li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5"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obrevender</a:t>
            </a:r>
            <a:endParaRPr b="0" lang="en-US" sz="36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er intencionalmente más asientos que la capacidad del av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aciones y no- apari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sto, el 15% de los asientos estarían desocup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oceso Sobrereserva</a:t>
            </a:r>
            <a:endParaRPr b="0" lang="en-US" sz="3600" spc="-1" strike="noStrike">
              <a:solidFill>
                <a:srgbClr val="000000"/>
              </a:solidFill>
              <a:latin typeface="Arial"/>
            </a:endParaRPr>
          </a:p>
        </p:txBody>
      </p:sp>
      <p:sp>
        <p:nvSpPr>
          <p:cNvPr id="229"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232"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234"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236"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9999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66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39"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40"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241"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242"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criminación de Precios</a:t>
            </a:r>
            <a:endParaRPr b="0" lang="en-US" sz="3600" spc="-1" strike="noStrike">
              <a:solidFill>
                <a:srgbClr val="000000"/>
              </a:solidFill>
              <a:latin typeface="Arial"/>
            </a:endParaRPr>
          </a:p>
        </p:txBody>
      </p:sp>
      <p:sp>
        <p:nvSpPr>
          <p:cNvPr id="249"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20880" y="1911240"/>
            <a:ext cx="1358640" cy="3949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20880" y="1911240"/>
            <a:ext cx="755640" cy="4413240"/>
          </a:xfrm>
          <a:prstGeom prst="line">
            <a:avLst/>
          </a:prstGeom>
          <a:ln w="12600">
            <a:solidFill>
              <a:srgbClr val="6666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20880" y="3511440"/>
            <a:ext cx="6083280" cy="1663920"/>
          </a:xfrm>
          <a:prstGeom prst="line">
            <a:avLst/>
          </a:prstGeom>
          <a:ln w="3816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20880" y="3511440"/>
            <a:ext cx="2806560" cy="1663920"/>
          </a:xfrm>
          <a:prstGeom prst="line">
            <a:avLst/>
          </a:prstGeom>
          <a:ln w="12600">
            <a:solidFill>
              <a:srgbClr val="9999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256"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362320" y="3879720"/>
            <a:ext cx="0" cy="191160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907560" y="3886200"/>
            <a:ext cx="1460520" cy="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371600" y="3193560"/>
            <a:ext cx="0" cy="259740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907920" y="3200400"/>
            <a:ext cx="470160" cy="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262"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Precio Turista</a:t>
            </a:r>
            <a:endParaRPr b="0" lang="en-US" sz="2400" spc="-1" strike="noStrike">
              <a:solidFill>
                <a:srgbClr val="000000"/>
              </a:solidFill>
              <a:latin typeface="Times New Roman"/>
            </a:endParaRPr>
          </a:p>
        </p:txBody>
      </p:sp>
      <p:sp>
        <p:nvSpPr>
          <p:cNvPr id="263"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264"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265"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266"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267"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68"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Demanda Turista</a:t>
            </a:r>
            <a:endParaRPr b="0" lang="en-US" sz="2400" spc="-1" strike="noStrike">
              <a:solidFill>
                <a:srgbClr val="000000"/>
              </a:solidFill>
              <a:latin typeface="Times New Roman"/>
            </a:endParaRPr>
          </a:p>
        </p:txBody>
      </p:sp>
      <p:sp>
        <p:nvSpPr>
          <p:cNvPr id="269"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Demanda Busines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ecisión de Reservas</a:t>
            </a:r>
            <a:endParaRPr b="0" lang="en-US" sz="3600" spc="-1" strike="noStrike">
              <a:solidFill>
                <a:srgbClr val="000000"/>
              </a:solidFill>
              <a:latin typeface="Arial"/>
            </a:endParaRPr>
          </a:p>
        </p:txBody>
      </p:sp>
      <p:sp>
        <p:nvSpPr>
          <p:cNvPr id="271"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una aerolínea tiene un asiento disponible en un vuelo futuro</a:t>
            </a:r>
            <a:endParaRPr b="0" lang="en-US" sz="2400" spc="-1" strike="noStrike">
              <a:solidFill>
                <a:srgbClr val="000000"/>
              </a:solidFill>
              <a:latin typeface="Arial"/>
            </a:endParaRPr>
          </a:p>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 establecido dos tarifas para ese vuelo:</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125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 $75 (sólo con reserva previa) </a:t>
            </a:r>
            <a:endParaRPr b="0" lang="en-US" sz="20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liente potencial llama para reservar por $75 </a:t>
            </a:r>
            <a:endParaRPr b="0" lang="en-US" sz="24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ebe hacer la aerolínea? </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arle a $75, o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azarle la reserva, apostando a que habrá otro pasajero que pague $1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ximizar E(Beneficio)</a:t>
            </a:r>
            <a:endParaRPr b="0" lang="en-US" sz="36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Max el beneficio, se deben evaluar riesgos y beneficios de c/opción: </a:t>
            </a:r>
            <a:endParaRPr b="0" lang="en-US" sz="28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pto por $75, arriesgo posible venta de $125</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hazo por $75, arriesgo asiento desocupado porque la demanda de $125 no alcanza</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isión correcta depende de la demanda espe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br>
              <a:rPr sz="3600"/>
            </a:br>
            <a:r>
              <a:rPr b="0" lang="es-ES_tradnl" sz="3600" spc="-1" strike="noStrike">
                <a:solidFill>
                  <a:srgbClr val="0033cc"/>
                </a:solidFill>
                <a:latin typeface="Arial"/>
              </a:rPr>
              <a:t>Método Anidado de Reserva</a:t>
            </a:r>
            <a:endParaRPr b="0" lang="en-US" sz="3600" spc="-1" strike="noStrike">
              <a:solidFill>
                <a:srgbClr val="000000"/>
              </a:solidFill>
              <a:latin typeface="Arial"/>
            </a:endParaRPr>
          </a:p>
        </p:txBody>
      </p:sp>
      <p:sp>
        <p:nvSpPr>
          <p:cNvPr id="275"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8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8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8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8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8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8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8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9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9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9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295"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asos Famosos </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íneas Aérea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ones y Scanners de Supermer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9528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298" name=""/>
          <p:cNvSpPr/>
          <p:nvPr/>
        </p:nvSpPr>
        <p:spPr>
          <a:xfrm>
            <a:off x="457200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299" name=""/>
          <p:cNvSpPr/>
          <p:nvPr/>
        </p:nvSpPr>
        <p:spPr>
          <a:xfrm>
            <a:off x="457200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129528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302"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303"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304"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305"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306"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illón tiene  wtp $60, 2 millones wtp $20?</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va de Demanda (próx. Diapositiva)</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ongamos que ponemos sólo un precio</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60 obtenemos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también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i discriminamos obtenemos 100</a:t>
            </a: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blemas</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o conocemos la voluntad a pagar</a:t>
            </a:r>
            <a:endParaRPr b="0" lang="en-US" sz="2800" spc="-1" strike="noStrike">
              <a:solidFill>
                <a:srgbClr val="000000"/>
              </a:solidFill>
              <a:latin typeface="Arial"/>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URVA DE DEMANDA</a:t>
            </a:r>
            <a:endParaRPr b="0" lang="en-US" sz="3600" spc="-1" strike="noStrike">
              <a:solidFill>
                <a:srgbClr val="000000"/>
              </a:solidFill>
              <a:latin typeface="Arial"/>
            </a:endParaRPr>
          </a:p>
        </p:txBody>
      </p:sp>
      <p:sp>
        <p:nvSpPr>
          <p:cNvPr id="119"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27"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28"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5"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6"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7"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50000"/>
              </a:lnSpc>
              <a:spcBef>
                <a:spcPts val="7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blemas</a:t>
            </a:r>
            <a:endParaRPr b="0" lang="en-US" sz="2900" spc="-1" strike="noStrike">
              <a:solidFill>
                <a:srgbClr val="000000"/>
              </a:solidFill>
              <a:latin typeface="Arial"/>
            </a:endParaRPr>
          </a:p>
          <a:p>
            <a:pPr lvl="2" marL="1143000" indent="-228600">
              <a:lnSpc>
                <a:spcPct val="150000"/>
              </a:lnSpc>
              <a:spcBef>
                <a:spcPts val="7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o conocemos la voluntad a pagar</a:t>
            </a:r>
            <a:endParaRPr b="0" lang="en-US" sz="3200" spc="-1" strike="noStrike">
              <a:solidFill>
                <a:srgbClr val="000000"/>
              </a:solidFill>
              <a:latin typeface="Arial"/>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 SOLUCIÓN DE QUICKEN</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para  Windows a $20</a:t>
            </a:r>
            <a:endParaRPr b="0" lang="en-US" sz="3200" spc="-1" strike="noStrike">
              <a:solidFill>
                <a:srgbClr val="000000"/>
              </a:solidFill>
              <a:latin typeface="Arial"/>
            </a:endParaRPr>
          </a:p>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Deluxe a $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7-06-04T13:19:08Z</dcterms:modified>
  <cp:revision>44</cp:revision>
  <dc:subject/>
  <dc:title>PRICING</dc:title>
</cp:coreProperties>
</file>