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DE5-280D-4E07-AB01-78DB2A3A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924-7326-41B5-A879-C990E4FE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604-D8E8-4248-A625-BB4AF995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A5C-78EE-4483-8BC9-BB48A5A8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0F3-3062-4E01-B2F2-E93F5D0B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EED-05D8-4EF1-A30F-ED57889C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6D7-373A-4A8F-B2BA-D94140DA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C3B-62F6-4D84-B1E0-00F098C7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1A1-B0EF-4C43-8AE2-1038642C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227-B152-4153-A179-5415DC34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3F9-F95D-4AD5-B794-BCAF3A1A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66B-A390-4C79-8CDC-BDC2B9E8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B6C7-14F4-4495-9EF7-D1D63D626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O DIFERENCIAL E INTEG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147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DAD DE FUNCIONES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BILIDAD DE FUNCIONES  (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O DE PRIMITIVAS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L DE RIEMANN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CIONES DE LA INTEGRAL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EN EL ESPACIO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   INTEGRALES IMPROPIAS Y SERIES  (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IMIENTO PARA 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l dominio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, el conjunto de puntos 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los cuales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cumple el álgebra de funciones continu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Para cada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  D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_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, determinar si existe el limite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i existe, repar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 Sea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   Para cada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R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si existe el limite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i existe, repar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 Sea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C =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                  es el conjunto de puntos de continuidad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84360" y="3284640"/>
                <a:ext cx="22392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00720" y="3500280"/>
                <a:ext cx="1833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443640" y="3500280"/>
                <a:ext cx="1728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parad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427640" y="4508640"/>
                <a:ext cx="18730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00720" y="4508640"/>
                <a:ext cx="17287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parad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84360" y="4292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32000" y="5192640"/>
                <a:ext cx="15843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∪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0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Para desarrollar la etap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se usa el algebra de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números reales.                  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                        </a:t>
            </a:r>
            <a:br>
              <a:rPr sz="2400"/>
            </a:b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consider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y se determina 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un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numero real.                         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Para la etap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, se expre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en términos d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funciones  básicas  que la  definen,  y se  determin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usando los  dominios  de  continuidad  de 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Las etap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se trabajan con los resultados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el calculo de limites tratados en el primer sem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059280" y="1268280"/>
                <a:ext cx="25848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EMA DE VALORES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: 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a, b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     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continua 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a)f(b)    0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ntonces exist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a, 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) = 0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m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Caso  f(a)f(b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: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o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b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implica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o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 b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Caso  f(a)f(b) &lt;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: 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 = (a+b)/2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   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   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definir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)f(d) &lt;</a:t>
            </a:r>
            <a:r>
              <a:rPr b="1" i="1" lang="es-C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               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o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f(b) &lt; 0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Repitiendo lo anterior se obtien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acotadas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creciente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decreciente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f(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   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implic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 ambas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convergen a un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y  la continuidad d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asegura qu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f(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f(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converge a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f(c))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0,  i.e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524720" y="1628640"/>
                <a:ext cx="41760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43280" y="1628640"/>
                <a:ext cx="4492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64000" y="213372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79640" y="3645000"/>
                <a:ext cx="28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284720" y="530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32720" y="4797360"/>
                <a:ext cx="2458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88000" y="4797360"/>
                <a:ext cx="2458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51640" y="5661000"/>
                <a:ext cx="2476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CION Y CONSECUENCIAS DEL TV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procedimiento iterativo en la demostración se conoc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 </a:t>
            </a:r>
            <a:r>
              <a:rPr b="1" i="1" lang="es-CL" sz="2000" spc="-1" strike="noStrike">
                <a:solidFill>
                  <a:srgbClr val="ff7c80"/>
                </a:solidFill>
                <a:latin typeface="Arial"/>
              </a:rPr>
              <a:t>método  de  la  bisección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 se aplica a la resolu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cu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s continua, entonces existe u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tal qu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c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( </a:t>
            </a:r>
            <a:r>
              <a:rPr b="1" i="1" lang="es-CL" sz="2000" spc="-1" strike="noStrike">
                <a:solidFill>
                  <a:srgbClr val="ff7c80"/>
                </a:solidFill>
                <a:latin typeface="Arial"/>
              </a:rPr>
              <a:t>Teorema del punto fijo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: A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intervalo.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s continua 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1-1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(inyec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 entonces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es  estrictamente monótona e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continua.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  d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,d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979640" y="420228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124000" y="3068640"/>
                <a:ext cx="4762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40000" y="530064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148360" y="530064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732720" y="5300640"/>
                <a:ext cx="2397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76360" y="5661000"/>
                <a:ext cx="289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EOREMA DE WEIRTRASS (minimo y max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continua. Entonces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es acotada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y alcanza sus valores minimo y maxim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m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in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   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Para   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1/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,  exist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tal que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– 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&lt;  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acotad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, por (B-W) existe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implica que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converge 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( dado     &gt;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exis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I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tal que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- f(c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&lt;     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pero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- 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&lt;      +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1/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se tiene que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&lt;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, i.e.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99ff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380360" y="2924280"/>
                <a:ext cx="322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908000" y="2924280"/>
                <a:ext cx="2923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211640" y="299736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68360" y="1628640"/>
                <a:ext cx="4320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64000" y="4437000"/>
                <a:ext cx="236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04000" y="443700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236000" y="4437000"/>
                <a:ext cx="326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0920" y="4437000"/>
                <a:ext cx="324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8000" y="501336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24360" y="4508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308720" y="364500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87640" y="5013360"/>
                <a:ext cx="2271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132000" y="5084640"/>
                <a:ext cx="187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48000" y="4941720"/>
                <a:ext cx="144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716360" y="501336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148360" y="5013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516720" y="5013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732720" y="3645000"/>
                <a:ext cx="5032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020000" y="5084640"/>
                <a:ext cx="3236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835280" y="5734080"/>
                <a:ext cx="57600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95640" y="5734080"/>
                <a:ext cx="2206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580000" y="5661000"/>
                <a:ext cx="324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211640" y="5661000"/>
                <a:ext cx="219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219640" y="566100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80000" y="2708280"/>
                <a:ext cx="18720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11640" y="2708280"/>
                <a:ext cx="18720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NTARIOS SOBRE T. DE WEIRT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alcanza su valor mínimo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en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si exist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ta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= f(c)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y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    f(x)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todo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Para el caso del máximo se consider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= sup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: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la demostración,  o  se considera la función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g(x) = - f(x)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la  cual  es  continua  en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y  se  usa  la  propieda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: 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 = - min{g(x): x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denotan los valores mínimo y máximo d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TVINTER y el T. de Wiertrass aseguran qu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) =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,M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020000" y="1700280"/>
                <a:ext cx="1998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4000" y="1989000"/>
                <a:ext cx="2080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219640" y="20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96360" y="2781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411280" y="38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38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36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INUIDAD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: A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es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uniformemente</a:t>
            </a:r>
            <a:r>
              <a:rPr b="1" lang="es-E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ntinua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si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dado           existe             tal que para todo  x, y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que cumplen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 – y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      se tiene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x) – f(y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I &lt;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es uniformemente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entonces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es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Reciproco no se cumple:                     es continu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+    )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pero no es uniformemente continu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+     )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Si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entonces   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continuidad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cont. uniforme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.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03280" y="1700280"/>
                <a:ext cx="792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76720" y="1773360"/>
                <a:ext cx="790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380360" y="184464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95640" y="2205000"/>
                <a:ext cx="295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956720" y="2205000"/>
                <a:ext cx="325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58920" y="141300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780000" y="4221000"/>
                <a:ext cx="1296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524720" y="4292640"/>
                <a:ext cx="3603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940360" y="4653000"/>
                <a:ext cx="360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508720" y="5445000"/>
                <a:ext cx="792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DAD DE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Continuidad en un punt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; discontinuidades reparables y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pa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Álgebra de funciones continu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suma, producto, cuociente, compos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Continuidad de las funciones básic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identidad, constante,    modulo, raíz cuadrada, exponencial, logaritmo, seno y co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Teorema del valor intermedi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 aplicación a la resolución de ecuaciones  (método de la bisecció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eorema de Weirtras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existencia de máximo y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Continuidad uniform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cont. + compacidad      cont. uniforme ),   funciones Lipschitziana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227640" y="5084640"/>
                <a:ext cx="43200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ABILIDAD DE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rivabilidad en un punt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y aproximación lineal (ejemp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-derivabil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Álgebra de derivad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suma, producto, cuociente, regla de la cadena, (derivada de la función inversa y derivada implíci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rivabilidad de funciones básic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identidad, constante, modulo, raíz cuadrada, exponencial, logaritmo, seno y cos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Regla de Ferma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( máximos y mínimo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Método de Newto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( resolución de ecuacione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eorema del valor medi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(aplicaciones), regla de L’Hopital, derivada y monotonia, derivada y convexi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VIO: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CESIONES Y SUBSUC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Una función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     IR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una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cesión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(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real) si  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Dom(f )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infinit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Notación: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= f( n),  n    Dom (f )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  {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converge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a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i  dado     &gt; 0,  existe 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n</a:t>
            </a:r>
            <a:r>
              <a:rPr b="1" i="1" lang="es-CL" sz="1800" spc="-1" strike="noStrike" baseline="-25000">
                <a:solidFill>
                  <a:srgbClr val="0099ff"/>
                </a:solidFill>
                <a:latin typeface="Arial"/>
              </a:rPr>
              <a:t>0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IN  tal q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-     &lt;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para todo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,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    Dom({ 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(el numero      es el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limite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de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cotad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i exist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M&gt;0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tal que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  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  M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para todo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    Dom ({ 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-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una sucesión y         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una función creci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la función (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cesió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)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(n)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un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bsucesion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771640" y="2133720"/>
                <a:ext cx="36036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348000" y="2421000"/>
                <a:ext cx="2412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508720" y="2421000"/>
                <a:ext cx="20772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59280" y="2852640"/>
                <a:ext cx="233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211640" y="2924280"/>
                <a:ext cx="262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12000" y="299736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68360" y="3141720"/>
                <a:ext cx="219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771640" y="3141720"/>
                <a:ext cx="216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03640" y="3213000"/>
                <a:ext cx="2570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003640" y="3213000"/>
                <a:ext cx="187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867280" y="3284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19640" y="3429000"/>
                <a:ext cx="253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140360" y="5229360"/>
                <a:ext cx="261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780000" y="5516640"/>
                <a:ext cx="2156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211640" y="5589720"/>
                <a:ext cx="2016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59280" y="5300640"/>
                <a:ext cx="28728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348000" y="5516640"/>
                <a:ext cx="50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651640" y="4005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867280" y="4005360"/>
                <a:ext cx="219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492360" y="436572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084720" y="4076640"/>
                <a:ext cx="187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71640" y="2997360"/>
                <a:ext cx="14292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71640" y="4076640"/>
                <a:ext cx="14292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74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ea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una sucesión. Un punto (numero)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n IR es un </a:t>
            </a:r>
            <a:br>
              <a:rPr sz="2000"/>
            </a:b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punto de acumulación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d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si alguna subsucesion de </a:t>
            </a:r>
            <a:br>
              <a:rPr sz="2000"/>
            </a:b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converge 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 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onvergent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cotada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ff7c80"/>
                </a:solidFill>
                <a:latin typeface="Arial"/>
              </a:rPr>
              <a:t>Reciproco no se cumple: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onvergent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admi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un único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pu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 acumulación (es igual al limite de la suces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ff7c80"/>
                </a:solidFill>
                <a:latin typeface="Arial"/>
              </a:rPr>
              <a:t>Reciproco no se cumple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1/n,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n pa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n,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n imp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in embargo, toda sucesión acotada con un único pu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acumulación, es convergente (converge a dicho pu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(T. de Weirtrass)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acotada admi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l meno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punto de acumulación (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al menos una subsucesion converg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: IR  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una función con domini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un punto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   Se dice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 </a:t>
            </a:r>
            <a:r>
              <a:rPr b="1" lang="es-CL" sz="2400" spc="-1" strike="noStrike">
                <a:solidFill>
                  <a:srgbClr val="ff7c80"/>
                </a:solidFill>
                <a:latin typeface="Arial"/>
              </a:rPr>
              <a:t>continua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si  para toda sucesión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que converge al punt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se cumple que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converge 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507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s continua en cada punto de un conjunt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    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dice que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s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   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y  el limite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x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y es igual 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835280" y="549360"/>
                <a:ext cx="431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700360" y="1341360"/>
                <a:ext cx="2984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667640" y="3068640"/>
                <a:ext cx="289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284720" y="4797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S DE FUNCIONES BASICAS CONTIN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1.    Funciones constantes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k, 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2.    Función identidad: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x, 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modulo: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raíz cuadrada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   x , x    0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exponencial: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e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,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logaritmo: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ln(x), x &gt; 0,  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seno: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sen(x),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8.     Función coseno: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cos(x),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885080" y="765000"/>
                <a:ext cx="2858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148360" y="1989000"/>
                <a:ext cx="2077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32360" y="4581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572000" y="2997360"/>
                <a:ext cx="431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64000" y="3068640"/>
                <a:ext cx="187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48360" y="2349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435640" y="270828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19640" y="342900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651640" y="4149720"/>
                <a:ext cx="21744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51640" y="450864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UNTOS DE DIS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 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función con domini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   IR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 punt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iscontinuidad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si se cumple una de la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     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no esta definida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no existe el limite de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existe el limite de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y es distinto de </a:t>
            </a:r>
            <a:r>
              <a:rPr b="1" i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c).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i se cumpl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a discontinuidad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o-reparable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i se cumpl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a discontinuidad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reparable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 y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repar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definiendo 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c) = lim f(x)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(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79640" y="1700280"/>
                <a:ext cx="30492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96000" y="1628640"/>
                <a:ext cx="2379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2708280"/>
                <a:ext cx="243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GEBRA DE FUNCIONES CONTIN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Sean </a:t>
            </a:r>
            <a:r>
              <a:rPr b="1" i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funciones continuas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 L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funciones son continuas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+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/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co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 (c)    0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 = f( c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Entonces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   f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629400" y="265428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16360" y="3789360"/>
                <a:ext cx="3096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340000" y="50846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42920" y="3357720"/>
                <a:ext cx="25416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PCman</cp:lastModifiedBy>
  <dcterms:modified xsi:type="dcterms:W3CDTF">2007-08-09T02:58:07Z</dcterms:modified>
  <cp:revision>31</cp:revision>
  <dc:subject/>
  <dc:title>TEOREMA DE CAUCHY CAUCHY-GOURSAT</dc:title>
</cp:coreProperties>
</file>