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614-75A8-4EBE-9593-A782C3D1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857-C7C8-4D27-9B8E-720493EE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C12-7998-4FEF-AC59-B848A354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880-D31F-4D9F-ADEE-C23721D0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249-9AB6-48C2-8150-AF3492C9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C0A-0D17-4531-9C73-08BD2494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89C-D164-4ADE-A8A9-2BE3CC85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C9E-CB3C-440C-B8B5-C0FEA262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CC5-8743-40CE-8264-BDFF59A5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2D7-FFBB-4B6C-AA0A-5A294E5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F28-B015-4B7B-BB8D-9C8CA850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F28-3940-406C-B49F-5038885A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4735-845B-4720-8609-A77301334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56480" y="303120"/>
            <a:ext cx="1008000" cy="84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2240" y="237960"/>
            <a:ext cx="144612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87680" y="425520"/>
            <a:ext cx="4322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Facultad de Ciencias Físicas y Matemá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Departamento de Ingeniería Mecá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995480"/>
            <a:ext cx="83833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Programación de Proy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ftware Microsof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57A – Mantención de Maqui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5376960"/>
            <a:ext cx="86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ek Jackson De C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637380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Agosto 2 del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" y="1886040"/>
            <a:ext cx="7605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yectos divididos en etapas con relaciones de precedencia entre 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Construcción de un edificio, instalación de un equipo, proyecto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9760" y="1886040"/>
            <a:ext cx="76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sos reque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detal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Medidas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760" y="1886040"/>
            <a:ext cx="7605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mplimiento de pla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eguntas frec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760" y="1886040"/>
            <a:ext cx="66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demora un proyect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la ruta crític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holguras exis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9040" y="2266920"/>
            <a:ext cx="7745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498680"/>
            <a:ext cx="80899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23:20:57Z</dcterms:created>
  <dc:creator>Casa</dc:creator>
  <dc:description/>
  <dc:language>en-US</dc:language>
  <cp:lastModifiedBy>Ing. Mecánica</cp:lastModifiedBy>
  <dcterms:modified xsi:type="dcterms:W3CDTF">2007-07-31T20:18:23Z</dcterms:modified>
  <cp:revision>127</cp:revision>
  <dc:subject/>
  <dc:title>Diapositiva 1</dc:title>
</cp:coreProperties>
</file>