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50DC-9CF3-428C-BC04-1E803162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9371-ABEB-483F-9596-27408AD6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7357-908E-45D4-B9FC-84A872DD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D056-DEA3-4263-9F77-947730C7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6648-0D17-4508-BF91-3B2A65A5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5D59-565D-4DEE-80C2-95599655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C0B5-9BF5-4A13-ABF1-2BF28583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0C97-9412-45C9-93DA-4F873329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3465-6514-46FD-8B86-C751DBDB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FF20-3DFD-453C-BD9C-23F6A7B9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7894-1090-405B-9AA2-32E45AEC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21CB-CE87-4874-A391-8C936FE6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E705-C8BC-4986-A2C9-7D032BEA0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56480" y="303120"/>
            <a:ext cx="1008000" cy="849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2240" y="237960"/>
            <a:ext cx="1446120" cy="836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87680" y="425520"/>
            <a:ext cx="43225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ff"/>
                </a:solidFill>
                <a:latin typeface="Arial"/>
              </a:rPr>
              <a:t>Universidad de Ch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ff"/>
                </a:solidFill>
                <a:latin typeface="Arial"/>
              </a:rPr>
              <a:t>Facultad de Ciencias Físicas y Matemá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ff"/>
                </a:solidFill>
                <a:latin typeface="Arial"/>
              </a:rPr>
              <a:t>Departamento de Ingeniería Mecán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995480"/>
            <a:ext cx="838332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Programación de Proyec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ftware Microsoft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57A – Mantención de Maquin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5120" y="5376960"/>
            <a:ext cx="863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ek Jackson De Ca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4840" y="637380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Agosto 2 del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Su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9760" y="1886040"/>
            <a:ext cx="7605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yectos divididos en etapas con relaciones de precedencia entre e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Construcción de un edificio, instalación de un equipo, proyecto del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U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9760" y="1886040"/>
            <a:ext cx="76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ursos reque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zos glob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zos detall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específ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Medidas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9760" y="1886040"/>
            <a:ext cx="7605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mplimiento de plaz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o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Preguntas frecu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9760" y="1886040"/>
            <a:ext cx="6624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demora un proyect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la ruta crític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é holguras existe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9040" y="2266920"/>
            <a:ext cx="7745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8360" y="1498680"/>
            <a:ext cx="808992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23:20:57Z</dcterms:created>
  <dc:creator>Casa</dc:creator>
  <dc:description/>
  <dc:language>en-US</dc:language>
  <cp:lastModifiedBy>Ing. Mecánica</cp:lastModifiedBy>
  <dcterms:modified xsi:type="dcterms:W3CDTF">2007-07-31T20:18:23Z</dcterms:modified>
  <cp:revision>127</cp:revision>
  <dc:subject/>
  <dc:title>Diapositiva 1</dc:title>
</cp:coreProperties>
</file>