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39EECD-7510-4490-8F76-95C6DE751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magma containing the minerals for an orebody rises up, it generates stresses in the host rock, rupturing it and caus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ruptures in the rock. Thus most orebodies are related to faulting in the earth’s crust. Faults are typically long linear features so that if a circular pit used to mine an orebody, it is likely to intersect a fault at two points leading to instability in at least two parts of the pit sl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meens, J., 2003 Geologic controls on complex slope displacement at the Pitch reclamation project. Engineering Geology in Colorado, Contributions, Trends, and Case Histories. AEG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left is a landslide that occurred earlier this year following some rain storms. It hindered production for awhile. A berm was created at the base of the slide to protect the main haul 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 is a major instability present since the mine came into production. The likely cause is an underlying fracture or fault. The mine wishes to do a major pushback on this pit wall in order to gain access to more ore. This could be a challenging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9, 200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landslide causing perhaps eight fat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heavy rainfall and accumulation of water in soil layer at top of p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slide in December 2003 blocked access to high grade ore. Freeport declared force majeure and curtailed metal sa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by investo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ine being operated saf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it fulfill its sales contra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labora orebody is an igneous pipe structure containing copper, magnetite (iron oxide), vermiculite (used for insulation), zirconium, titanium, and uranium. The concentration of copper is 1% at the core of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e opened in 1964. It is a full mine-to-smelter complex. Open pit operations ended in 2002. The pit used to be the deepest and steepest in the world. The mine is now an underground block-caving operation with a 20 year mine life. Proven reserves are 225 Mt at 0.7%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0AFD-1708-4280-B6B7-FC2C021DB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CB4C-8E1E-4EB6-A6B0-A2EE5E3A3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CEFB5-6BA3-45B9-B6E5-2AC3E8128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2FBE-E0B7-4B85-B9E4-B849AC40D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EC73-F2A0-40F1-AE32-A8B9ADD5FD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C763E-95DE-48B5-8E57-BE996B357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F0E9-21EB-4369-BE90-A5FF8D2FF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F162-86AA-4FB6-B878-993E18761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8098-8EEE-434B-A70A-1A275EB80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ADFB-9F33-46D2-8283-6A08E190D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4AFF-CE97-448E-BF12-90FB2EDDC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D16D-F4EF-4B55-9166-1D2468A75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6F7FBC3B-2F66-4B5C-86F6-E8E302F621F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I46B</a:t>
            </a:r>
            <a:br>
              <a:rPr sz="4000"/>
            </a:b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eotecnia Miner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Julián Ortiz 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Raúl Cast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Sofía Reboll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partamento de Ingeniería de Min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acizo rocos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rock mass): gran masa de roca componente de la corteza terrestre. Está compuest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Roca intact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el volumen de roca que se encuentra entre las discontinuidades. También se llama matriz rocosa o sustancia rocos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fallas, diaclasas, planos de fractura, de clivaj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21360" y="4226040"/>
            <a:ext cx="3161520" cy="2202840"/>
            <a:chOff x="621360" y="4226040"/>
            <a:chExt cx="3161520" cy="2202840"/>
          </a:xfrm>
        </p:grpSpPr>
        <p:sp>
          <p:nvSpPr>
            <p:cNvPr id="74" name=""/>
            <p:cNvSpPr/>
            <p:nvPr/>
          </p:nvSpPr>
          <p:spPr>
            <a:xfrm>
              <a:off x="657360" y="4226040"/>
              <a:ext cx="3113280" cy="985680"/>
            </a:xfrm>
            <a:custGeom>
              <a:avLst/>
              <a:gdLst/>
              <a:ahLst/>
              <a:rect l="l" t="t" r="r" b="b"/>
              <a:pathLst>
                <a:path w="4902" h="1552">
                  <a:moveTo>
                    <a:pt x="4875" y="1552"/>
                  </a:moveTo>
                  <a:cubicBezTo>
                    <a:pt x="4902" y="1334"/>
                    <a:pt x="4890" y="1386"/>
                    <a:pt x="4890" y="215"/>
                  </a:cubicBezTo>
                  <a:cubicBezTo>
                    <a:pt x="4736" y="0"/>
                    <a:pt x="4215" y="282"/>
                    <a:pt x="3950" y="259"/>
                  </a:cubicBezTo>
                  <a:cubicBezTo>
                    <a:pt x="3755" y="214"/>
                    <a:pt x="3895" y="99"/>
                    <a:pt x="3299" y="79"/>
                  </a:cubicBezTo>
                  <a:cubicBezTo>
                    <a:pt x="2950" y="59"/>
                    <a:pt x="2543" y="289"/>
                    <a:pt x="2263" y="346"/>
                  </a:cubicBezTo>
                  <a:cubicBezTo>
                    <a:pt x="1983" y="403"/>
                    <a:pt x="1843" y="453"/>
                    <a:pt x="1618" y="421"/>
                  </a:cubicBezTo>
                  <a:cubicBezTo>
                    <a:pt x="1393" y="389"/>
                    <a:pt x="1113" y="186"/>
                    <a:pt x="913" y="151"/>
                  </a:cubicBezTo>
                  <a:cubicBezTo>
                    <a:pt x="713" y="116"/>
                    <a:pt x="565" y="203"/>
                    <a:pt x="418" y="211"/>
                  </a:cubicBezTo>
                  <a:cubicBezTo>
                    <a:pt x="286" y="221"/>
                    <a:pt x="37" y="119"/>
                    <a:pt x="29" y="199"/>
                  </a:cubicBezTo>
                  <a:cubicBezTo>
                    <a:pt x="21" y="860"/>
                    <a:pt x="0" y="1522"/>
                    <a:pt x="0" y="1522"/>
                  </a:cubicBezTo>
                  <a:lnTo>
                    <a:pt x="4875" y="155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5480" y="4950720"/>
              <a:ext cx="3125160" cy="717480"/>
            </a:xfrm>
            <a:custGeom>
              <a:avLst/>
              <a:gdLst/>
              <a:ahLst/>
              <a:rect l="l" t="t" r="r" b="b"/>
              <a:pathLst>
                <a:path w="4978" h="1130">
                  <a:moveTo>
                    <a:pt x="4951" y="1130"/>
                  </a:moveTo>
                  <a:cubicBezTo>
                    <a:pt x="4978" y="984"/>
                    <a:pt x="4966" y="1019"/>
                    <a:pt x="4966" y="233"/>
                  </a:cubicBezTo>
                  <a:cubicBezTo>
                    <a:pt x="4809" y="89"/>
                    <a:pt x="4381" y="120"/>
                    <a:pt x="4112" y="105"/>
                  </a:cubicBezTo>
                  <a:cubicBezTo>
                    <a:pt x="3914" y="75"/>
                    <a:pt x="3956" y="155"/>
                    <a:pt x="3350" y="142"/>
                  </a:cubicBezTo>
                  <a:cubicBezTo>
                    <a:pt x="3149" y="126"/>
                    <a:pt x="3000" y="156"/>
                    <a:pt x="2807" y="165"/>
                  </a:cubicBezTo>
                  <a:cubicBezTo>
                    <a:pt x="2632" y="151"/>
                    <a:pt x="2459" y="82"/>
                    <a:pt x="2297" y="60"/>
                  </a:cubicBezTo>
                  <a:cubicBezTo>
                    <a:pt x="2135" y="38"/>
                    <a:pt x="2012" y="0"/>
                    <a:pt x="1832" y="30"/>
                  </a:cubicBezTo>
                  <a:cubicBezTo>
                    <a:pt x="1652" y="60"/>
                    <a:pt x="1447" y="235"/>
                    <a:pt x="1217" y="240"/>
                  </a:cubicBezTo>
                  <a:cubicBezTo>
                    <a:pt x="987" y="245"/>
                    <a:pt x="650" y="63"/>
                    <a:pt x="452" y="60"/>
                  </a:cubicBezTo>
                  <a:cubicBezTo>
                    <a:pt x="318" y="67"/>
                    <a:pt x="38" y="169"/>
                    <a:pt x="29" y="222"/>
                  </a:cubicBezTo>
                  <a:cubicBezTo>
                    <a:pt x="21" y="666"/>
                    <a:pt x="0" y="1110"/>
                    <a:pt x="0" y="1110"/>
                  </a:cubicBezTo>
                  <a:lnTo>
                    <a:pt x="4951" y="113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1360" y="5441760"/>
              <a:ext cx="3161520" cy="987120"/>
            </a:xfrm>
            <a:custGeom>
              <a:avLst/>
              <a:gdLst/>
              <a:ahLst/>
              <a:rect l="l" t="t" r="r" b="b"/>
              <a:pathLst>
                <a:path w="4978" h="1554">
                  <a:moveTo>
                    <a:pt x="4951" y="1554"/>
                  </a:moveTo>
                  <a:cubicBezTo>
                    <a:pt x="4978" y="1336"/>
                    <a:pt x="4966" y="1388"/>
                    <a:pt x="4966" y="215"/>
                  </a:cubicBezTo>
                  <a:cubicBezTo>
                    <a:pt x="4809" y="0"/>
                    <a:pt x="4280" y="282"/>
                    <a:pt x="4011" y="259"/>
                  </a:cubicBezTo>
                  <a:cubicBezTo>
                    <a:pt x="3813" y="214"/>
                    <a:pt x="3956" y="99"/>
                    <a:pt x="3350" y="79"/>
                  </a:cubicBezTo>
                  <a:cubicBezTo>
                    <a:pt x="3138" y="47"/>
                    <a:pt x="2954" y="174"/>
                    <a:pt x="2755" y="187"/>
                  </a:cubicBezTo>
                  <a:cubicBezTo>
                    <a:pt x="2556" y="200"/>
                    <a:pt x="2352" y="169"/>
                    <a:pt x="2155" y="157"/>
                  </a:cubicBezTo>
                  <a:cubicBezTo>
                    <a:pt x="1958" y="145"/>
                    <a:pt x="1745" y="102"/>
                    <a:pt x="1570" y="112"/>
                  </a:cubicBezTo>
                  <a:cubicBezTo>
                    <a:pt x="1395" y="122"/>
                    <a:pt x="1304" y="213"/>
                    <a:pt x="1105" y="217"/>
                  </a:cubicBezTo>
                  <a:cubicBezTo>
                    <a:pt x="906" y="221"/>
                    <a:pt x="553" y="142"/>
                    <a:pt x="374" y="139"/>
                  </a:cubicBezTo>
                  <a:cubicBezTo>
                    <a:pt x="240" y="149"/>
                    <a:pt x="38" y="119"/>
                    <a:pt x="29" y="199"/>
                  </a:cubicBezTo>
                  <a:cubicBezTo>
                    <a:pt x="21" y="861"/>
                    <a:pt x="0" y="1524"/>
                    <a:pt x="0" y="1524"/>
                  </a:cubicBezTo>
                  <a:lnTo>
                    <a:pt x="4951" y="155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000" y="4536360"/>
              <a:ext cx="68760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suel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71120" y="5151960"/>
              <a:ext cx="94104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transició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71120" y="5876280"/>
              <a:ext cx="687600" cy="2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roc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859280" y="4365720"/>
            <a:ext cx="3110040" cy="2074680"/>
            <a:chOff x="4859280" y="4365720"/>
            <a:chExt cx="3110040" cy="2074680"/>
          </a:xfrm>
        </p:grpSpPr>
        <p:sp>
          <p:nvSpPr>
            <p:cNvPr id="81" name=""/>
            <p:cNvSpPr/>
            <p:nvPr/>
          </p:nvSpPr>
          <p:spPr>
            <a:xfrm>
              <a:off x="4859280" y="4365720"/>
              <a:ext cx="3110040" cy="2074680"/>
            </a:xfrm>
            <a:custGeom>
              <a:avLst/>
              <a:gdLst/>
              <a:ahLst/>
              <a:rect l="l" t="t" r="r" b="b"/>
              <a:pathLst>
                <a:path w="7811" h="5084">
                  <a:moveTo>
                    <a:pt x="0" y="5084"/>
                  </a:moveTo>
                  <a:lnTo>
                    <a:pt x="7811" y="5084"/>
                  </a:lnTo>
                  <a:cubicBezTo>
                    <a:pt x="7754" y="3444"/>
                    <a:pt x="7788" y="1798"/>
                    <a:pt x="7641" y="163"/>
                  </a:cubicBezTo>
                  <a:cubicBezTo>
                    <a:pt x="7626" y="0"/>
                    <a:pt x="7198" y="275"/>
                    <a:pt x="7146" y="298"/>
                  </a:cubicBezTo>
                  <a:cubicBezTo>
                    <a:pt x="7117" y="311"/>
                    <a:pt x="7056" y="328"/>
                    <a:pt x="7056" y="328"/>
                  </a:cubicBezTo>
                  <a:cubicBezTo>
                    <a:pt x="6804" y="517"/>
                    <a:pt x="6487" y="513"/>
                    <a:pt x="6186" y="523"/>
                  </a:cubicBezTo>
                  <a:cubicBezTo>
                    <a:pt x="6016" y="528"/>
                    <a:pt x="5846" y="533"/>
                    <a:pt x="5676" y="538"/>
                  </a:cubicBezTo>
                  <a:cubicBezTo>
                    <a:pt x="5608" y="572"/>
                    <a:pt x="5550" y="589"/>
                    <a:pt x="5496" y="643"/>
                  </a:cubicBezTo>
                  <a:cubicBezTo>
                    <a:pt x="5486" y="673"/>
                    <a:pt x="5477" y="712"/>
                    <a:pt x="5451" y="733"/>
                  </a:cubicBezTo>
                  <a:cubicBezTo>
                    <a:pt x="5439" y="743"/>
                    <a:pt x="5420" y="741"/>
                    <a:pt x="5406" y="748"/>
                  </a:cubicBezTo>
                  <a:cubicBezTo>
                    <a:pt x="5264" y="819"/>
                    <a:pt x="5387" y="774"/>
                    <a:pt x="5286" y="808"/>
                  </a:cubicBezTo>
                  <a:cubicBezTo>
                    <a:pt x="5081" y="785"/>
                    <a:pt x="5079" y="779"/>
                    <a:pt x="4836" y="793"/>
                  </a:cubicBezTo>
                  <a:cubicBezTo>
                    <a:pt x="4756" y="809"/>
                    <a:pt x="4674" y="827"/>
                    <a:pt x="4596" y="853"/>
                  </a:cubicBezTo>
                  <a:cubicBezTo>
                    <a:pt x="4497" y="927"/>
                    <a:pt x="4378" y="981"/>
                    <a:pt x="4266" y="1033"/>
                  </a:cubicBezTo>
                  <a:cubicBezTo>
                    <a:pt x="4186" y="1070"/>
                    <a:pt x="4093" y="1133"/>
                    <a:pt x="4011" y="1168"/>
                  </a:cubicBezTo>
                  <a:cubicBezTo>
                    <a:pt x="3992" y="1176"/>
                    <a:pt x="3970" y="1176"/>
                    <a:pt x="3951" y="1183"/>
                  </a:cubicBezTo>
                  <a:cubicBezTo>
                    <a:pt x="3930" y="1191"/>
                    <a:pt x="3912" y="1206"/>
                    <a:pt x="3891" y="1213"/>
                  </a:cubicBezTo>
                  <a:cubicBezTo>
                    <a:pt x="3826" y="1234"/>
                    <a:pt x="3759" y="1242"/>
                    <a:pt x="3694" y="1258"/>
                  </a:cubicBezTo>
                  <a:cubicBezTo>
                    <a:pt x="3674" y="1263"/>
                    <a:pt x="3634" y="1273"/>
                    <a:pt x="3634" y="1273"/>
                  </a:cubicBezTo>
                  <a:cubicBezTo>
                    <a:pt x="3525" y="1599"/>
                    <a:pt x="3238" y="1444"/>
                    <a:pt x="2869" y="1453"/>
                  </a:cubicBezTo>
                  <a:cubicBezTo>
                    <a:pt x="2819" y="1468"/>
                    <a:pt x="2766" y="1475"/>
                    <a:pt x="2719" y="1498"/>
                  </a:cubicBezTo>
                  <a:cubicBezTo>
                    <a:pt x="2684" y="1516"/>
                    <a:pt x="2692" y="1561"/>
                    <a:pt x="2674" y="1588"/>
                  </a:cubicBezTo>
                  <a:cubicBezTo>
                    <a:pt x="2651" y="1623"/>
                    <a:pt x="2617" y="1641"/>
                    <a:pt x="2584" y="1663"/>
                  </a:cubicBezTo>
                  <a:cubicBezTo>
                    <a:pt x="2579" y="1678"/>
                    <a:pt x="2582" y="1699"/>
                    <a:pt x="2569" y="1708"/>
                  </a:cubicBezTo>
                  <a:cubicBezTo>
                    <a:pt x="2543" y="1726"/>
                    <a:pt x="2505" y="1720"/>
                    <a:pt x="2479" y="1738"/>
                  </a:cubicBezTo>
                  <a:cubicBezTo>
                    <a:pt x="2453" y="1755"/>
                    <a:pt x="2393" y="1794"/>
                    <a:pt x="2374" y="1813"/>
                  </a:cubicBezTo>
                  <a:cubicBezTo>
                    <a:pt x="2274" y="1913"/>
                    <a:pt x="2419" y="1808"/>
                    <a:pt x="2299" y="1888"/>
                  </a:cubicBezTo>
                  <a:cubicBezTo>
                    <a:pt x="2230" y="1991"/>
                    <a:pt x="2273" y="1967"/>
                    <a:pt x="2194" y="1993"/>
                  </a:cubicBezTo>
                  <a:cubicBezTo>
                    <a:pt x="1998" y="2140"/>
                    <a:pt x="2236" y="1951"/>
                    <a:pt x="2104" y="2083"/>
                  </a:cubicBezTo>
                  <a:cubicBezTo>
                    <a:pt x="2035" y="2152"/>
                    <a:pt x="1968" y="2199"/>
                    <a:pt x="1909" y="2278"/>
                  </a:cubicBezTo>
                  <a:cubicBezTo>
                    <a:pt x="1904" y="2318"/>
                    <a:pt x="1906" y="2359"/>
                    <a:pt x="1894" y="2398"/>
                  </a:cubicBezTo>
                  <a:cubicBezTo>
                    <a:pt x="1885" y="2426"/>
                    <a:pt x="1862" y="2447"/>
                    <a:pt x="1849" y="2473"/>
                  </a:cubicBezTo>
                  <a:cubicBezTo>
                    <a:pt x="1780" y="2610"/>
                    <a:pt x="1863" y="2490"/>
                    <a:pt x="1774" y="2608"/>
                  </a:cubicBezTo>
                  <a:cubicBezTo>
                    <a:pt x="1769" y="2628"/>
                    <a:pt x="1774" y="2653"/>
                    <a:pt x="1759" y="2668"/>
                  </a:cubicBezTo>
                  <a:cubicBezTo>
                    <a:pt x="1694" y="2733"/>
                    <a:pt x="1503" y="2815"/>
                    <a:pt x="1414" y="2833"/>
                  </a:cubicBezTo>
                  <a:cubicBezTo>
                    <a:pt x="1344" y="2875"/>
                    <a:pt x="1283" y="2903"/>
                    <a:pt x="1204" y="2923"/>
                  </a:cubicBezTo>
                  <a:cubicBezTo>
                    <a:pt x="1022" y="2878"/>
                    <a:pt x="1054" y="2873"/>
                    <a:pt x="799" y="2908"/>
                  </a:cubicBezTo>
                  <a:cubicBezTo>
                    <a:pt x="772" y="2912"/>
                    <a:pt x="668" y="2982"/>
                    <a:pt x="619" y="2998"/>
                  </a:cubicBezTo>
                  <a:cubicBezTo>
                    <a:pt x="580" y="3114"/>
                    <a:pt x="478" y="3100"/>
                    <a:pt x="379" y="3133"/>
                  </a:cubicBezTo>
                  <a:cubicBezTo>
                    <a:pt x="307" y="3205"/>
                    <a:pt x="293" y="3256"/>
                    <a:pt x="184" y="3283"/>
                  </a:cubicBezTo>
                  <a:cubicBezTo>
                    <a:pt x="174" y="3298"/>
                    <a:pt x="169" y="3318"/>
                    <a:pt x="154" y="3328"/>
                  </a:cubicBezTo>
                  <a:cubicBezTo>
                    <a:pt x="109" y="3388"/>
                    <a:pt x="32" y="3365"/>
                    <a:pt x="6" y="3658"/>
                  </a:cubicBezTo>
                  <a:lnTo>
                    <a:pt x="0" y="508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904000" y="5137560"/>
              <a:ext cx="1316160" cy="1139400"/>
              <a:chOff x="5904000" y="5137560"/>
              <a:chExt cx="1316160" cy="1139400"/>
            </a:xfrm>
          </p:grpSpPr>
          <p:sp>
            <p:nvSpPr>
              <p:cNvPr id="83" name=""/>
              <p:cNvSpPr/>
              <p:nvPr/>
            </p:nvSpPr>
            <p:spPr>
              <a:xfrm>
                <a:off x="6281640" y="5497920"/>
                <a:ext cx="430200" cy="453600"/>
              </a:xfrm>
              <a:custGeom>
                <a:avLst/>
                <a:gdLst/>
                <a:ahLst/>
                <a:rect l="l" t="t" r="r" b="b"/>
                <a:pathLst>
                  <a:path w="1081" h="1112">
                    <a:moveTo>
                      <a:pt x="19" y="1112"/>
                    </a:moveTo>
                    <a:lnTo>
                      <a:pt x="1046" y="1112"/>
                    </a:lnTo>
                    <a:lnTo>
                      <a:pt x="1066" y="446"/>
                    </a:lnTo>
                    <a:cubicBezTo>
                      <a:pt x="1003" y="266"/>
                      <a:pt x="1081" y="324"/>
                      <a:pt x="992" y="191"/>
                    </a:cubicBezTo>
                    <a:cubicBezTo>
                      <a:pt x="967" y="154"/>
                      <a:pt x="912" y="151"/>
                      <a:pt x="872" y="131"/>
                    </a:cubicBezTo>
                    <a:cubicBezTo>
                      <a:pt x="791" y="91"/>
                      <a:pt x="706" y="44"/>
                      <a:pt x="617" y="26"/>
                    </a:cubicBezTo>
                    <a:cubicBezTo>
                      <a:pt x="394" y="38"/>
                      <a:pt x="396" y="0"/>
                      <a:pt x="271" y="71"/>
                    </a:cubicBezTo>
                    <a:cubicBezTo>
                      <a:pt x="255" y="80"/>
                      <a:pt x="242" y="93"/>
                      <a:pt x="226" y="101"/>
                    </a:cubicBezTo>
                    <a:cubicBezTo>
                      <a:pt x="212" y="108"/>
                      <a:pt x="195" y="108"/>
                      <a:pt x="181" y="116"/>
                    </a:cubicBezTo>
                    <a:cubicBezTo>
                      <a:pt x="149" y="134"/>
                      <a:pt x="91" y="176"/>
                      <a:pt x="91" y="176"/>
                    </a:cubicBezTo>
                    <a:cubicBezTo>
                      <a:pt x="61" y="241"/>
                      <a:pt x="12" y="350"/>
                      <a:pt x="0" y="506"/>
                    </a:cubicBezTo>
                    <a:lnTo>
                      <a:pt x="19" y="1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6743160" y="5230080"/>
                <a:ext cx="363240" cy="3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788880" y="576540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6584760" y="5137560"/>
                <a:ext cx="9072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6880" y="5183640"/>
                <a:ext cx="136440" cy="2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94720" y="5393160"/>
                <a:ext cx="22680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904000" y="5695560"/>
                <a:ext cx="29484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904000" y="5951520"/>
                <a:ext cx="31752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6198840" y="6044400"/>
                <a:ext cx="9072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494040" y="6044400"/>
                <a:ext cx="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6675480" y="6044400"/>
                <a:ext cx="18144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6788520" y="5951160"/>
                <a:ext cx="36324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99FD-4A1B-46AE-AFF1-BAAA18A1AF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16040" y="1424160"/>
            <a:ext cx="6481800" cy="498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7E67-1849-4352-B2AD-95681B9C7F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Definición f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(US National Committee on Rock Mechanics, 1964, 1974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mecánica de rocas es la ciencia teórica y aplicada del comportamiento mecánico de la roca y de los macizos rocosos. Corresponde a la rama de la mecánica que estudia la respuesta de la roca y del macizo rocoso a los campos de fuerza de su entorno físico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&lt; geomecánica (incluye suelo) = ingeniería geotéc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cavaciones mineras cambian los campos de fuerza de su ento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CCF3-D1C5-4DEA-9617-D5AAC4F85D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Necesario para el Diseñ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197760" y="19080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226200" y="43704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2280" y="551664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D38F-8F65-4C57-9A5E-2D360B12E6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Ingenierí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68280" y="192240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97080" y="43848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42800" y="553068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A063-15E6-422D-928B-A0AEA7E332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s de Segur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factor de segur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depende de la cantidad y calidad de la información utilizada para estimar las cargas y la resistencia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la información es gruesa utilizar un factor de seguridad entre 2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existen ensayos de laboratorio del macizo rocoso utilizar un factor de seguridad en el rango 1.5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n embargo cuando la información es pobre no existe factor de seguridad que garantice el Dis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39840" y="6286680"/>
            <a:ext cx="71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US Bureau of Reclamation Engineering Monograph on Design Criteria for Concrete Arch and Gravity dams,197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4046-9AD5-420E-879A-AA31C02CA4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Incertidumbre en las Diferentes Etapas del Diseño de Ingenierí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68320" y="1300320"/>
            <a:ext cx="4808520" cy="4616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9000" y="5946840"/>
            <a:ext cx="36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Hoek, When is a rock engineering design aceptable, 19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AA3F-8B26-419C-83AB-0322C08B1A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s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mpo de esfuerzos en 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titución del macizo rocoso, dens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rofundidad del pilar min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tectó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fuerzos inducidos producidos por las excavaciones mine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57F5-605D-4D0C-A13F-A5525F35C9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Resistencia d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Mecán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elasticidad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pois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Constitu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h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Ángulo de fricción in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dición estructural d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EEB0-F9DF-4150-9EEA-CB1C128595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ecánica de rocas trata con un material previamente cargado. Al alterar la geometría del macizo rocoso (mediante una excavación en la roca), se redistribuyen los esfuerzos exist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macizo estaba en equilibrio y lo desestabiliza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principal problema de la mecánica de rocas es que se desconocen estas cargas. Es necesario, entonces, medir estos esfuerzos antes de iniciar la obr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propiedades mecánicas de las rocas son desconocidas. Hay que medirlas mediante ensayos de laboratorio o de terren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mbargo se requiere escalar sus resultados a macizo ro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ro la roca no es homogénea, por lo que es difícil de model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0B38-2714-4658-A891-3C9FDFC2CC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ci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gramación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glas del ju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4032-E3CB-4505-B778-DB3D5BCA31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Aplicaciones de la Mecánic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81320" y="2411280"/>
            <a:ext cx="4570560" cy="3140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33554" t="13814" r="16110" b="50058"/>
          <a:stretch/>
        </p:blipFill>
        <p:spPr>
          <a:xfrm>
            <a:off x="304920" y="1593720"/>
            <a:ext cx="3655800" cy="3730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ructuras Planas y Excavación Circular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990720"/>
            <a:ext cx="3733920" cy="69840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392"/>
                </a:moveTo>
                <a:cubicBezTo>
                  <a:pt x="216" y="276"/>
                  <a:pt x="432" y="160"/>
                  <a:pt x="672" y="104"/>
                </a:cubicBezTo>
                <a:cubicBezTo>
                  <a:pt x="912" y="48"/>
                  <a:pt x="1160" y="0"/>
                  <a:pt x="1440" y="56"/>
                </a:cubicBezTo>
                <a:cubicBezTo>
                  <a:pt x="1720" y="112"/>
                  <a:pt x="2036" y="276"/>
                  <a:pt x="2352" y="4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24080" y="5668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North Pit, Homestake Pitch Mine, Sargents Colo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DDCE-7426-46BA-9964-CDABF2E76BE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Tahoma"/>
              </a:rPr>
              <a:t>Estabilidad de Taludes Bagdad Mine, Arizon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654200"/>
            <a:ext cx="4343400" cy="3270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18080" y="3079800"/>
            <a:ext cx="4267080" cy="32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3D494-228B-4EB2-A560-355F78118E6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276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Grasberg Mine, Indonesia Octubre 9, 2003</a:t>
            </a:r>
            <a:br>
              <a:rPr sz="2500"/>
            </a:b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Lo que pasa cuando el agua se acumula y el drenaje falla</a:t>
            </a:r>
            <a:endParaRPr b="0" lang="en-US" sz="2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867200" y="3375000"/>
            <a:ext cx="4276800" cy="3206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37120" y="2411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9 Personas Muer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38040" y="1757520"/>
            <a:ext cx="3602160" cy="48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3064-4D40-4026-8D89-C5F364C781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Subsidenci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7440" y="2379600"/>
            <a:ext cx="4361040" cy="327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8146" t="8396" r="17783" b="45605"/>
          <a:stretch/>
        </p:blipFill>
        <p:spPr>
          <a:xfrm>
            <a:off x="4616280" y="4619520"/>
            <a:ext cx="4329360" cy="2027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1480" y="176832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Newcrest, Queensland, Austra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1880" y="405936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El Teniente,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4535-E6E1-44E1-A47A-4AFA762E42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abilidad de Excavaciones Subterránea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747880"/>
            <a:ext cx="4611600" cy="3459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960" y="2185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ilar sobrecargado (overstress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67200" y="814320"/>
            <a:ext cx="3519720" cy="2640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807080" y="3816360"/>
            <a:ext cx="3767040" cy="2825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44560" y="34225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lapso de un tú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E5CA-73FF-4D2F-9A85-7C63BF88EC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ragment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735440" y="3289320"/>
            <a:ext cx="4059360" cy="2722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7840" y="4545000"/>
            <a:ext cx="27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OZ, Freeport Indones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8640" y="6107040"/>
            <a:ext cx="42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meralda- El Teniente, Codelco,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1263600"/>
            <a:ext cx="433224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EBA5-8670-4FDD-AB83-9DC57BF6B8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alabora, South Afr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-1636" r="0" b="2024"/>
          <a:stretch/>
        </p:blipFill>
        <p:spPr>
          <a:xfrm>
            <a:off x="365040" y="1843200"/>
            <a:ext cx="6399360" cy="4568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39640" y="141120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ansición Rajo- Subterrá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C5F9-3229-4316-BFFD-FC25F3C34A7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Objetivo de la mecánica de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edecir y controlar el movimiento (desplazamientos) de las rocas entorno a las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curren desplazamientos elástic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oca intacta podría fracturar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uede ocurrir deslizamiento a través de una estructura geológica (fall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flexiones excesivas de roca de techo y piso (por ejemplo, al despegarse de capas adyacen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Fallamiento inestable en 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yectos a mayor escala requieren condiciones de seguridad (RRHH y $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9204-0EC9-47A2-9A38-7638E11AD0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Metodología para diseño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imar el campo de esfuerzo y su distribución sobre el pilar a diseñ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terminar propiedades de resistencia y deformación del cuerpo mineralizado y de la roca huésped de manera reproducible y con cierto grado de exactit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r las características estructurales del macizo rocoso: localización, persistencia y propiedades mecánicas de discontinuidades, dentro de la zona de influencia de la actividad mine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blecer la distribución y magnitud de la presión de agua subterránea en el domin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valuar mediante técnicas analíticas los posibles modos de respuesta del macizo rocoso, para ciertas condiciones y geometría de las excavaciones mine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7C4F-FCB6-4E2B-A104-99AB28ED92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220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76640" y="1565280"/>
            <a:ext cx="4835520" cy="4432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Desafíos Relacionados con El Diseño Miner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728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sfuerzo sobre el pilar cambia de acuerdo a la secuencia de excav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del pilar cambia de acuerdo a la secuencia de exca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problema de diseño minero es dinámico, por lo tanto se debe resolver de manera itera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179960" y="2143080"/>
            <a:ext cx="4670280" cy="3500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5859360" y="1860480"/>
            <a:ext cx="387360" cy="992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989680" y="1511280"/>
                <a:ext cx="588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 flipV="1">
            <a:off x="5622840" y="4027320"/>
            <a:ext cx="652680" cy="1146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19720" y="5219640"/>
                <a:ext cx="588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DF2A-2C38-4505-AA1A-2E2E6D91DE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2439"/>
          <a:stretch/>
        </p:blipFill>
        <p:spPr>
          <a:xfrm>
            <a:off x="31284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22880" y="621828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Pakalnis R, 2004. Rock Mechanics Lectures No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20F0-911B-42AC-B754-0A75402A42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racturamiento de la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campo de esfuerzos en minería es compresivo a diferencia de otros materiales en los cuales está relacionado con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compresión en conjunto con microfracturas genera zonas de alto cizall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 es altamente sensible al confin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allamiento por cizalle o cor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s de esc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Naturaleza discontinua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sistencia y propiedades de deformación del macizo dependen de las propiedades de la roca intacta y de las discontinu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foración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 propiedades de roca intact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xcavación de túnel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l comportamiento del sistema de fractu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ilar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comportamiento seudo-continu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icultad para testear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0F2CF-5BBB-4F69-B6F5-49BC4D80E4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istencia a la tra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roca (y el concreto) muestra una muy baja resistencia a la tracción, un orden de magnitud menor a la resistencia a la compresión uniax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scontinuidades prácticamente no tienen resistencia a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Zonas que serán sometidas a tracción al realizarse una excavación generarán inestabilidades para desconfin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 del agua subterrán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gua en discontinuidades reduce resistencia al corte (fric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uede alterar la roca y reducir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teor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lteración física o química de la superficie de la roca en contacto con gas o solu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duce calidad de la roca y coeficiente de fr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A5A9-1CB9-43DC-B544-95B42BAD10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ructur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 profe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5080" y="2139840"/>
          <a:ext cx="8669160" cy="2276640"/>
        </p:xfrm>
        <a:graphic>
          <a:graphicData uri="http://schemas.openxmlformats.org/drawingml/2006/table">
            <a:tbl>
              <a:tblPr/>
              <a:tblGrid>
                <a:gridCol w="3019320"/>
                <a:gridCol w="564984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lián Orti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damentos de Mec. de Roc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fía Rebolle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ología Estruct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úl Cast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ciones al Diseño Mine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2F5FD-8E6E-4002-B3AB-F1C6ECA42D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valuación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areas y laborat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ond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2 controles + 1 Exa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roles y laboratorio deben ser aprobados separada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F2CA8-B31C-460A-B70C-E471DD5EE1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gram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spectos gene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ón de métodos de explo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y deformación infinitesi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eología estructu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ropiedades de la roca intacta y ensayos de laborato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edición de esfuerzos in situ y clasificación de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ormas analíticas de esfuerzos en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de Kirs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para excavación elíp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étodos de diseño geotéc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pila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caser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talu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oporte en minería subterrán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odos de fa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63DD-7FD4-4472-8612-090F261E6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curso consta de 9 UD. 15 Semanas de clases. 135 horas disponibles para actividades relacionadas con 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98560" y="3487680"/>
            <a:ext cx="6696000" cy="2336760"/>
            <a:chOff x="898560" y="3487680"/>
            <a:chExt cx="6696000" cy="2336760"/>
          </a:xfrm>
        </p:grpSpPr>
        <p:sp>
          <p:nvSpPr>
            <p:cNvPr id="65" name=""/>
            <p:cNvSpPr/>
            <p:nvPr/>
          </p:nvSpPr>
          <p:spPr>
            <a:xfrm>
              <a:off x="898560" y="3487680"/>
              <a:ext cx="6696000" cy="23097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920880" y="3487680"/>
              <a:ext cx="6664320" cy="23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E4A6-C14D-4861-9DE8-3C4F30E617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ceptos gener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cualquier diseño estructural se quiere predecir su desempeño al ser sometido a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carga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urante su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vida útil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mecánica de rocas, interesa el desempeño de las excavaciones en roca generadas por la actividad min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mecánica de rocas está asociada a la mecánica clásica y mecánica de continuo, pero hay factores específicos que la distingu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0905-F421-4A13-8E4A-C05D7ECE09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área de la física que estudia el efecto de las fuerzas sobre los cuerp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 de ro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ama de la ingeniería que estudia el efecto de las fuerzas sobre las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Ro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parte sólida de la corteza terrestre formada por bloques sólidos y duros de gran tamaño, encajados y ligados entre sí. Agregado de mine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Suel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acumulación de partículas de pequeño tamaño (hasta 3 o 4”) y sin una ligazón fuerte entre s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joints): cualquier tipo de fractura en la roca. Son planos de fragi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A1E0-6F88-4460-B4E9-E3C31F92F4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Windows Vista</cp:lastModifiedBy>
  <dcterms:modified xsi:type="dcterms:W3CDTF">2007-07-24T13:34:17Z</dcterms:modified>
  <cp:revision>220</cp:revision>
  <dc:subject/>
  <dc:title>Muestreo y Control de Calidad</dc:title>
</cp:coreProperties>
</file>