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3C82-108C-403F-8CF6-C021460F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E2843-2051-41F8-85B0-9578E64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DB2AF-1760-482F-A320-1ED4693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15370-4923-4D83-BE29-A1EFDFF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23C59-1BEF-48C2-8B9E-392D3C9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90A7E-DBDB-448B-93D4-03C4844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1ABA5-8E66-4E05-B47E-914F6F4A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7879A-9BC1-444C-9BB7-4C9B866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979DD-184B-4A99-8C40-089255BD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F45EE-D828-4E28-9006-1507FDC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1439E-395E-48BB-A509-323CEF26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7EFEC-D3BD-44C8-8EB9-59427E6D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534-D29E-4D58-8681-5AF6BD091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83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rientación de los ejes para medir los esfuerzos es arbitr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algunos casos, conviene utilizar alguna dirección, dado el problema que se quiera reso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l paso de un sistema coordenado (x, y, z) a otro (l, m, 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e rotación: filas son los vectores de las componentes (cosenos) de los nuevos ejes relativos a los viejo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pie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5240" y="376884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46640" y="5869080"/>
            <a:ext cx="225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601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cordar qu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. de transf. de esfuerz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97360" y="1430280"/>
            <a:ext cx="15778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96200" y="1415880"/>
            <a:ext cx="1793880" cy="51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21120" y="2066760"/>
            <a:ext cx="18777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485040" y="2070000"/>
            <a:ext cx="193356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575240" y="2846520"/>
            <a:ext cx="2841480" cy="14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362400" y="4481640"/>
            <a:ext cx="2425680" cy="788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235160" y="5689440"/>
            <a:ext cx="2930400" cy="63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4720" y="1514520"/>
            <a:ext cx="987480" cy="361800"/>
          </a:xfrm>
          <a:prstGeom prst="leftRightArrow">
            <a:avLst>
              <a:gd name="adj1" fmla="val 50000"/>
              <a:gd name="adj2" fmla="val 5433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94440" y="2149560"/>
            <a:ext cx="987120" cy="361800"/>
          </a:xfrm>
          <a:prstGeom prst="leftRightArrow">
            <a:avLst>
              <a:gd name="adj1" fmla="val 50000"/>
              <a:gd name="adj2" fmla="val 543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1000" y="2959200"/>
            <a:ext cx="901800" cy="469800"/>
          </a:xfrm>
          <a:prstGeom prst="rightArrow">
            <a:avLst>
              <a:gd name="adj1" fmla="val 50000"/>
              <a:gd name="adj2" fmla="val 4798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720" y="5807160"/>
            <a:ext cx="515880" cy="469800"/>
          </a:xfrm>
          <a:prstGeom prst="rightArrow">
            <a:avLst>
              <a:gd name="adj1" fmla="val 50000"/>
              <a:gd name="adj2" fmla="val 2745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nsformación del tensor de esfuerzos desde sistema x, y, z a sistema l, m, 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olviendo para algunas de las component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314880" y="2425680"/>
            <a:ext cx="252072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3203640"/>
            <a:ext cx="8024760" cy="107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27200" y="5410080"/>
            <a:ext cx="58942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desde sistema xyz a sistema abc, en torno a eje z contra los punteros del reloj,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9320" y="2805120"/>
            <a:ext cx="332424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57760" y="2349360"/>
            <a:ext cx="35337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366920" y="4164120"/>
            <a:ext cx="7503840" cy="2449440"/>
            <a:chOff x="1366920" y="4164120"/>
            <a:chExt cx="7503840" cy="24494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1366920" y="4164120"/>
              <a:ext cx="75038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748640" y="4977360"/>
              <a:ext cx="995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1840" y="4846680"/>
            <a:ext cx="903240" cy="104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43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laca de ancho 50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 fuerza de corte sobre BC, AD para mantener el 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l estado tensional para cualquier punto en el sólido (relativo a x, 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estado tensional para el sistema (l, 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erminar las magnitudes de los esfuerzos principales y orientación del eje de esfuezo principal mayor con respecto al eje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871880" y="2278080"/>
            <a:ext cx="427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fuerzos princip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idea es definir el estado tensional de manera no arbitraria (que no dependa de la dirección que uno elige para el sistema coorden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esfuerzos principales son invariantes ante rotaciones del sistema de refere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Plan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aquel para el cual los esfuerzos de corte son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esfuerzo princip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s el esfuerzo normal a un plano princip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al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recciones principales se determinan a partir de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vectores propi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l tensor de esfuerz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fuerzos principales – rotación de ej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la dirección z es principal, no hay esfuerzos de corte en 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esfuerzos principales en xy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Y la dirección está dada p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a expresión tiene dos soluciones, escoger la que hace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áx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pueden determinar los esfuerzos extremos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7960" y="2759040"/>
            <a:ext cx="633420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92600" y="4127400"/>
            <a:ext cx="3363840" cy="466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541600" y="5972040"/>
            <a:ext cx="4067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Suma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sumar esfuerzos, se debe sumar cada componente del tens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direcciones principales pueden cambiar según el tensor de esfuerzos de variación, por lo que la determinación de estas direcciones debe volver a realizarse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pué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e sumados componente a compon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asa de cambio de esfuerzo también es relevante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cuaciones diferenciales de equilibrio est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79880" y="2297160"/>
            <a:ext cx="279072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898640" y="2997360"/>
            <a:ext cx="53532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98924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je l puede ser definido en términos de sus proyecciones (cosenos) sobre el sistema (x, y, 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l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m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(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n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r otro lado, el estado tensional en un punto, relativo a (l, m, n), se puede expres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66680" y="5108400"/>
            <a:ext cx="3287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expresar los componente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érmin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y de los cosenos de los ejes l, m, n, relativos a x, y,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34920" y="2205000"/>
            <a:ext cx="3287880" cy="13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23760" y="4162320"/>
            <a:ext cx="329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abc es un cuerpo libre tetraédrico generado al cortar un elemento unitario cúbico sobre el cual se definió el tensor de esfuerz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material removido en el corte abc se reemplaza por una fuerza que lo equili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gnitud t por unidad de á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ctúa sobre a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P es normal a la superficie abc y tiene componentes (cosenos)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400" y="1348920"/>
            <a:ext cx="448308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rea de abc es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yecciones de abc sobre planos definidos por ejes x, y,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00720" y="1158840"/>
            <a:ext cx="3743280" cy="538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9240" y="4137120"/>
            <a:ext cx="3340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un tensor t de compon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t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quilibrio en x impl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sí, relacionamos las componentes de tracción con el estado tensional y la orientación de una superficie en el punto de interé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78040" y="2727360"/>
            <a:ext cx="5594400" cy="45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14600" y="3360600"/>
            <a:ext cx="4121280" cy="444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36800" y="5421240"/>
            <a:ext cx="505296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23120" y="5737320"/>
            <a:ext cx="2143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19840" y="3187800"/>
            <a:ext cx="638280" cy="745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02160" y="3801960"/>
            <a:ext cx="601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milarmente, expresando ahora en términos del sistema l, m, n (pero sin cambiar la orientación de la superficie ab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ponentes de tracción actuando sobre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Componentes direccionales (cosenos) de la normal saliente a la superfi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360" y="2935440"/>
            <a:ext cx="4468680" cy="12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3520" y="3343320"/>
            <a:ext cx="2425680" cy="479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20040" y="3209760"/>
            <a:ext cx="638280" cy="746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702040" y="3824280"/>
            <a:ext cx="1901880" cy="157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ransformaci</a:t>
            </a: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ón del tensor de esfuerz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análisis vectorial: queremos rotar un vector de un sistema coordenado x, y, z a otro l, m,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68560" y="2346480"/>
            <a:ext cx="501156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5920" y="3930480"/>
            <a:ext cx="2438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</cp:lastModifiedBy>
  <dcterms:modified xsi:type="dcterms:W3CDTF">2006-03-16T11:51:07Z</dcterms:modified>
  <cp:revision>245</cp:revision>
  <dc:subject/>
  <dc:title>Muestreo y Control de Calidad</dc:title>
</cp:coreProperties>
</file>