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34.png" ContentType="image/png"/>
  <Override PartName="/ppt/media/image4.png" ContentType="image/png"/>
  <Override PartName="/ppt/media/image16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32.png" ContentType="image/png"/>
  <Override PartName="/ppt/media/image2.png" ContentType="image/png"/>
  <Override PartName="/ppt/media/image14.png" ContentType="image/png"/>
  <Override PartName="/ppt/media/image31.png" ContentType="image/png"/>
  <Override PartName="/ppt/media/image66.png" ContentType="image/png"/>
  <Override PartName="/ppt/media/image28.png" ContentType="image/png"/>
  <Override PartName="/ppt/media/image65.png" ContentType="image/png"/>
  <Override PartName="/ppt/media/image27.png" ContentType="image/png"/>
  <Override PartName="/ppt/media/image64.png" ContentType="image/png"/>
  <Override PartName="/ppt/media/image26.png" ContentType="image/png"/>
  <Override PartName="/ppt/media/image63.png" ContentType="image/png"/>
  <Override PartName="/ppt/media/image25.png" ContentType="image/png"/>
  <Override PartName="/ppt/media/image62.png" ContentType="image/png"/>
  <Override PartName="/ppt/media/image24.png" ContentType="image/png"/>
  <Override PartName="/ppt/media/image61.png" ContentType="image/png"/>
  <Override PartName="/ppt/media/image59.png" ContentType="image/png"/>
  <Override PartName="/ppt/media/image22.png" ContentType="image/png"/>
  <Override PartName="/ppt/media/image57.png" ContentType="image/png"/>
  <Override PartName="/ppt/media/image20.png" ContentType="image/png"/>
  <Override PartName="/ppt/media/image60.png" ContentType="image/png"/>
  <Override PartName="/ppt/media/image23.png" ContentType="image/png"/>
  <Override PartName="/ppt/media/image58.png" ContentType="image/png"/>
  <Override PartName="/ppt/media/image21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11861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74760" y="4073040"/>
            <a:ext cx="839304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5680" y="134928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74760" y="407304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5680" y="407304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270216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12280" y="1349280"/>
            <a:ext cx="270216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50160" y="1349280"/>
            <a:ext cx="270216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74760" y="4073040"/>
            <a:ext cx="270216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12280" y="4073040"/>
            <a:ext cx="270216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50160" y="4073040"/>
            <a:ext cx="270216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002888-7032-4D4B-ADF6-A829246E7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831538-C4A0-41AB-859D-2CDACA0E8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101248-189A-4A45-9B08-82E5B884D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409572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5680" y="1349280"/>
            <a:ext cx="409572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07DC66-8332-4D23-BCBF-B0B0B0CC6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3F0F5A-2247-4EA2-9FAC-95E64A532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135B4B-A602-44FF-AB5E-4D646F955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5680" y="1349280"/>
            <a:ext cx="409572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74760" y="407304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0F33EF-D2B3-4352-BE12-7884A14EF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409572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5680" y="134928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5680" y="407304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D2CDC6-57B0-4300-857D-E7FE020E2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5680" y="134928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74760" y="4073040"/>
            <a:ext cx="839304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8DD27C-BF58-4E70-897E-AE11111A7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4760" y="4073040"/>
            <a:ext cx="839304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B8536F-E330-47B8-9D71-50A4175A1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5680" y="134928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74760" y="407304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5680" y="407304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7937E7-8B03-4B5A-8FAB-2C86D2F1E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270216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12280" y="1349280"/>
            <a:ext cx="270216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50160" y="1349280"/>
            <a:ext cx="270216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74760" y="4073040"/>
            <a:ext cx="270216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12280" y="4073040"/>
            <a:ext cx="270216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50160" y="4073040"/>
            <a:ext cx="270216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4D753F-3F86-4DCE-B945-25F99A219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409572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5680" y="1349280"/>
            <a:ext cx="409572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5680" y="1349280"/>
            <a:ext cx="409572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74760" y="407304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409572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5680" y="134928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5680" y="407304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5680" y="134928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74760" y="4073040"/>
            <a:ext cx="839304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73200" y="6679800"/>
            <a:ext cx="7797600" cy="23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CL" sz="900" spc="-1" strike="noStrike">
                <a:solidFill>
                  <a:srgbClr val="99cc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99ccff"/>
                </a:solidFill>
                <a:latin typeface="Tahoma"/>
              </a:rPr>
              <a:t>GEOTECNIA MINERA – UNIVERSIDAD DE CHIL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228600" cy="11556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8570880" y="49320"/>
            <a:ext cx="484200" cy="9954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935920" y="3809880"/>
            <a:ext cx="208080" cy="30481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720800"/>
            <a:ext cx="7467480" cy="1555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B9874-8551-46BF-8F0C-66B919E768F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8570880" y="49320"/>
            <a:ext cx="484200" cy="995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24.png"/><Relationship Id="rId8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image" Target="../media/image35.png"/><Relationship Id="rId7" Type="http://schemas.openxmlformats.org/officeDocument/2006/relationships/image" Target="../media/image36.png"/><Relationship Id="rId8" Type="http://schemas.openxmlformats.org/officeDocument/2006/relationships/image" Target="../media/image28.png"/><Relationship Id="rId9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1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image" Target="../media/image47.pn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png"/><Relationship Id="rId3" Type="http://schemas.openxmlformats.org/officeDocument/2006/relationships/image" Target="../media/image51.pn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3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9.png"/><Relationship Id="rId3" Type="http://schemas.openxmlformats.org/officeDocument/2006/relationships/image" Target="../media/image60.pn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image" Target="../media/image62.png"/><Relationship Id="rId3" Type="http://schemas.openxmlformats.org/officeDocument/2006/relationships/image" Target="../media/image63.png"/><Relationship Id="rId4" Type="http://schemas.openxmlformats.org/officeDocument/2006/relationships/image" Target="../media/image64.png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image" Target="../media/image66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Invariantes de esfuerzo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55656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nsideremos un esfuerzo normal a abc de magnitud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ahoma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as componentes de </a:t>
            </a: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tracción en abc quedan definidas por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Pero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Por lo tanto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6012000" y="1332000"/>
            <a:ext cx="3132000" cy="45003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3827520" y="2784600"/>
            <a:ext cx="1789200" cy="9604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1793880" y="4049640"/>
            <a:ext cx="3851280" cy="10954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4"/>
          <a:stretch/>
        </p:blipFill>
        <p:spPr>
          <a:xfrm>
            <a:off x="465120" y="5573880"/>
            <a:ext cx="5205600" cy="110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ccffff"/>
                </a:solidFill>
                <a:latin typeface="Tahoma"/>
              </a:rPr>
              <a:t>Desplazamientos y Deformación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4673520" cy="406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Rotación de </a:t>
            </a:r>
            <a:r>
              <a:rPr b="1" lang="es-CL" sz="2000" spc="-1" strike="noStrike">
                <a:solidFill>
                  <a:srgbClr val="ffff00"/>
                </a:solidFill>
                <a:latin typeface="Tahoma"/>
              </a:rPr>
              <a:t>cuerpo rígido</a:t>
            </a: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 en torno a eje 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Similarmente, rotaciones en torno a ejes y y z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Desplazamiento total por varias rotaciones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5346720" y="1211400"/>
            <a:ext cx="3797280" cy="378288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1913040" y="1763640"/>
            <a:ext cx="1965240" cy="9525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rcRect l="0" t="0" r="0" b="4127"/>
          <a:stretch/>
        </p:blipFill>
        <p:spPr>
          <a:xfrm>
            <a:off x="809640" y="3608280"/>
            <a:ext cx="1628640" cy="86832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4"/>
          <a:stretch/>
        </p:blipFill>
        <p:spPr>
          <a:xfrm>
            <a:off x="2684520" y="3608280"/>
            <a:ext cx="1884240" cy="8496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5"/>
          <a:stretch/>
        </p:blipFill>
        <p:spPr>
          <a:xfrm>
            <a:off x="158760" y="5270400"/>
            <a:ext cx="2511360" cy="109224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6"/>
          <a:stretch/>
        </p:blipFill>
        <p:spPr>
          <a:xfrm>
            <a:off x="2843280" y="5261040"/>
            <a:ext cx="4411440" cy="109836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7"/>
          <a:stretch/>
        </p:blipFill>
        <p:spPr>
          <a:xfrm>
            <a:off x="7407360" y="5678640"/>
            <a:ext cx="1492200" cy="31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ccffff"/>
                </a:solidFill>
                <a:latin typeface="Tahoma"/>
              </a:rPr>
              <a:t>Desplazamientos y Deformación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4673520" cy="454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Elongación en dirección x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Similarmente, elongaciones en  y y z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Distorsión en el plano xy (considerando ángulo </a:t>
            </a:r>
            <a:r>
              <a:rPr b="0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 pequeño)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6054840" y="1330200"/>
            <a:ext cx="3089160" cy="225288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1903320" y="1730520"/>
            <a:ext cx="1617840" cy="82044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1766880" y="3259080"/>
            <a:ext cx="1832040" cy="119880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4"/>
          <a:stretch/>
        </p:blipFill>
        <p:spPr>
          <a:xfrm>
            <a:off x="6019920" y="3962520"/>
            <a:ext cx="3124080" cy="289548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5"/>
          <a:stretch/>
        </p:blipFill>
        <p:spPr>
          <a:xfrm>
            <a:off x="1844640" y="5618160"/>
            <a:ext cx="1641600" cy="9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ccffff"/>
                </a:solidFill>
                <a:latin typeface="Tahoma"/>
              </a:rPr>
              <a:t>Desplazamientos y Deformación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74760" y="1348920"/>
            <a:ext cx="8393040" cy="337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Magnitud de la deformación de corte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Similarmente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Considerando elongación (deformación lineal pura) y distorsión (deformación de corte pura) en todas las direccione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836640" y="1782720"/>
            <a:ext cx="1977840" cy="61128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3440160" y="1865160"/>
            <a:ext cx="1014480" cy="403200"/>
          </a:xfrm>
          <a:prstGeom prst="rightArrow">
            <a:avLst>
              <a:gd name="adj1" fmla="val 50000"/>
              <a:gd name="adj2" fmla="val 62902"/>
            </a:avLst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4857840" y="1692360"/>
            <a:ext cx="1535040" cy="82872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2943360" y="2671920"/>
            <a:ext cx="1631880" cy="80640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4"/>
          <a:stretch/>
        </p:blipFill>
        <p:spPr>
          <a:xfrm>
            <a:off x="4834080" y="2662200"/>
            <a:ext cx="1560240" cy="81936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5"/>
          <a:stretch/>
        </p:blipFill>
        <p:spPr>
          <a:xfrm>
            <a:off x="184320" y="4495680"/>
            <a:ext cx="3670200" cy="136368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6"/>
          <a:stretch/>
        </p:blipFill>
        <p:spPr>
          <a:xfrm>
            <a:off x="4008600" y="4486320"/>
            <a:ext cx="4809960" cy="13809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7"/>
          <a:stretch/>
        </p:blipFill>
        <p:spPr>
          <a:xfrm>
            <a:off x="2217600" y="6113520"/>
            <a:ext cx="2357640" cy="54756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787320" y="6107040"/>
            <a:ext cx="1094040" cy="444600"/>
          </a:xfrm>
          <a:prstGeom prst="rightArrow">
            <a:avLst>
              <a:gd name="adj1" fmla="val 50000"/>
              <a:gd name="adj2" fmla="val 61518"/>
            </a:avLst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743360" y="6175440"/>
            <a:ext cx="343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Times New Roman"/>
              </a:rPr>
              <a:t>Matriz de deformacion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487680" y="6208560"/>
            <a:ext cx="469800" cy="37332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8"/>
          <a:stretch/>
        </p:blipFill>
        <p:spPr>
          <a:xfrm>
            <a:off x="6634080" y="1239840"/>
            <a:ext cx="2509920" cy="23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ffff"/>
                </a:solidFill>
                <a:latin typeface="Tahoma"/>
              </a:rPr>
              <a:t>Deformació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Debemos sumar el movimiento de cuerpo rígido con la deformación por elongación y distorsió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2843280" y="3110040"/>
            <a:ext cx="3457440" cy="63792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270000" y="4044960"/>
            <a:ext cx="8609040" cy="242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ffff"/>
                </a:solidFill>
                <a:latin typeface="Tahoma"/>
              </a:rPr>
              <a:t>Deformació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059680" cy="195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Componentes de deformación normal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Componentes de deformación de corte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2430360" y="1909800"/>
            <a:ext cx="4287960" cy="72540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1069920" y="3218040"/>
            <a:ext cx="1755720" cy="1347480"/>
          </a:xfrm>
          <a:prstGeom prst="rect">
            <a:avLst/>
          </a:prstGeom>
          <a:ln w="0">
            <a:noFill/>
          </a:ln>
        </p:spPr>
      </p:pic>
      <p:grpSp>
        <p:nvGrpSpPr>
          <p:cNvPr id="197" name=""/>
          <p:cNvGrpSpPr/>
          <p:nvPr/>
        </p:nvGrpSpPr>
        <p:grpSpPr>
          <a:xfrm>
            <a:off x="4575240" y="3489480"/>
            <a:ext cx="4568760" cy="2462040"/>
            <a:chOff x="4575240" y="3489480"/>
            <a:chExt cx="4568760" cy="2462040"/>
          </a:xfrm>
        </p:grpSpPr>
        <p:pic>
          <p:nvPicPr>
            <p:cNvPr id="198" name="" descr=""/>
            <p:cNvPicPr/>
            <p:nvPr/>
          </p:nvPicPr>
          <p:blipFill>
            <a:blip r:embed="rId3"/>
            <a:srcRect l="0" t="38899" r="0" b="0"/>
            <a:stretch/>
          </p:blipFill>
          <p:spPr>
            <a:xfrm>
              <a:off x="4575240" y="4156200"/>
              <a:ext cx="4568760" cy="179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9" name="" descr=""/>
            <p:cNvPicPr/>
            <p:nvPr/>
          </p:nvPicPr>
          <p:blipFill>
            <a:blip r:embed="rId4"/>
            <a:srcRect l="0" t="0" r="0" b="68778"/>
            <a:stretch/>
          </p:blipFill>
          <p:spPr>
            <a:xfrm>
              <a:off x="4575240" y="3489480"/>
              <a:ext cx="4568760" cy="917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0" name=""/>
          <p:cNvSpPr/>
          <p:nvPr/>
        </p:nvSpPr>
        <p:spPr>
          <a:xfrm>
            <a:off x="2840040" y="3903840"/>
            <a:ext cx="173520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89080" y="4653000"/>
            <a:ext cx="428616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Completamente definido por 6 componentes independientes, relacionadas con los gradientes de desplazamien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ccffff"/>
                </a:solidFill>
                <a:latin typeface="Tahoma"/>
              </a:rPr>
              <a:t>Desplazamientos y Deformación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En general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1755720" y="1955880"/>
            <a:ext cx="5638680" cy="2000160"/>
            <a:chOff x="1755720" y="1955880"/>
            <a:chExt cx="5638680" cy="2000160"/>
          </a:xfrm>
        </p:grpSpPr>
        <p:pic>
          <p:nvPicPr>
            <p:cNvPr id="205" name="" descr=""/>
            <p:cNvPicPr/>
            <p:nvPr/>
          </p:nvPicPr>
          <p:blipFill>
            <a:blip r:embed="rId1"/>
            <a:stretch/>
          </p:blipFill>
          <p:spPr>
            <a:xfrm>
              <a:off x="1755720" y="1955880"/>
              <a:ext cx="5638680" cy="200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"/>
            <p:cNvSpPr/>
            <p:nvPr/>
          </p:nvSpPr>
          <p:spPr>
            <a:xfrm>
              <a:off x="6907320" y="2841480"/>
              <a:ext cx="463320" cy="816120"/>
            </a:xfrm>
            <a:prstGeom prst="rect">
              <a:avLst/>
            </a:prstGeom>
            <a:solidFill>
              <a:srgbClr val="ffffff"/>
            </a:solidFill>
            <a:ln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ccffff"/>
                </a:solidFill>
                <a:latin typeface="Tahoma"/>
              </a:rPr>
              <a:t>Desplazamientos y Deformación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En general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1755720" y="1955880"/>
            <a:ext cx="5638680" cy="2000160"/>
            <a:chOff x="1755720" y="1955880"/>
            <a:chExt cx="5638680" cy="2000160"/>
          </a:xfrm>
        </p:grpSpPr>
        <p:pic>
          <p:nvPicPr>
            <p:cNvPr id="210" name="" descr=""/>
            <p:cNvPicPr/>
            <p:nvPr/>
          </p:nvPicPr>
          <p:blipFill>
            <a:blip r:embed="rId1"/>
            <a:stretch/>
          </p:blipFill>
          <p:spPr>
            <a:xfrm>
              <a:off x="1755720" y="1955880"/>
              <a:ext cx="5638680" cy="200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>
              <a:off x="6907320" y="2841480"/>
              <a:ext cx="463320" cy="816120"/>
            </a:xfrm>
            <a:prstGeom prst="rect">
              <a:avLst/>
            </a:prstGeom>
            <a:solidFill>
              <a:srgbClr val="ffffff"/>
            </a:solidFill>
            <a:ln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2157480" y="2544840"/>
            <a:ext cx="506520" cy="49536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47840" y="3030480"/>
            <a:ext cx="330120" cy="1795680"/>
          </a:xfrm>
          <a:prstGeom prst="downArrow">
            <a:avLst>
              <a:gd name="adj1" fmla="val 50000"/>
              <a:gd name="adj2" fmla="val 135987"/>
            </a:avLst>
          </a:prstGeom>
          <a:solidFill>
            <a:srgbClr val="ffffff"/>
          </a:solidFill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4880" y="2522520"/>
            <a:ext cx="506160" cy="49536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475240" y="3008160"/>
            <a:ext cx="330120" cy="1795680"/>
          </a:xfrm>
          <a:prstGeom prst="downArrow">
            <a:avLst>
              <a:gd name="adj1" fmla="val 50000"/>
              <a:gd name="adj2" fmla="val 135987"/>
            </a:avLst>
          </a:prstGeom>
          <a:solidFill>
            <a:srgbClr val="ffffff"/>
          </a:solidFill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185840" y="5091120"/>
            <a:ext cx="289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Deformación de corte de ingenierí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75240" y="5110200"/>
            <a:ext cx="289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Deformación de corte tensor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ccffff"/>
                </a:solidFill>
                <a:latin typeface="Tahoma"/>
              </a:rPr>
              <a:t>Desplazamientos y Deformación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Rotación: se deben usar los valores tensorial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Ejemplo: rotación a nuevo sistema abc a partir de una rotación en torno a z con ángulo </a:t>
            </a:r>
            <a:r>
              <a:rPr b="0" lang="es-MX" sz="2800" spc="-1" strike="noStrike">
                <a:solidFill>
                  <a:srgbClr val="ffffff"/>
                </a:solidFill>
                <a:latin typeface="Symbol"/>
                <a:ea typeface="Symbol"/>
              </a:rPr>
              <a:t>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1235160" y="3794040"/>
            <a:ext cx="7051680" cy="2870280"/>
            <a:chOff x="1235160" y="3794040"/>
            <a:chExt cx="7051680" cy="2870280"/>
          </a:xfrm>
        </p:grpSpPr>
        <p:pic>
          <p:nvPicPr>
            <p:cNvPr id="221" name="" descr=""/>
            <p:cNvPicPr/>
            <p:nvPr/>
          </p:nvPicPr>
          <p:blipFill>
            <a:blip r:embed="rId1"/>
            <a:stretch/>
          </p:blipFill>
          <p:spPr>
            <a:xfrm>
              <a:off x="1238400" y="3794040"/>
              <a:ext cx="7048440" cy="158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2" name="" descr=""/>
            <p:cNvPicPr/>
            <p:nvPr/>
          </p:nvPicPr>
          <p:blipFill>
            <a:blip r:embed="rId2"/>
            <a:srcRect l="-5169" t="0" r="-78852" b="0"/>
            <a:stretch/>
          </p:blipFill>
          <p:spPr>
            <a:xfrm>
              <a:off x="1235160" y="5246640"/>
              <a:ext cx="7047000" cy="14176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ccffff"/>
                </a:solidFill>
                <a:latin typeface="Tahoma"/>
              </a:rPr>
              <a:t>Desplazamientos y Deformación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Estado de deformación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Tensor se trata igual que el de esfuerzo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Donde se tiene deformaciones deviatóricas normale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Las deformaciones deviatóricas de corte son simplemente las deformaciones de corte tensoria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3346560" y="1779480"/>
            <a:ext cx="2457360" cy="129564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2560680" y="3516480"/>
            <a:ext cx="4029120" cy="14284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rcRect l="0" t="0" r="0" b="2656"/>
          <a:stretch/>
        </p:blipFill>
        <p:spPr>
          <a:xfrm>
            <a:off x="1936800" y="5346720"/>
            <a:ext cx="5276880" cy="34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ccffff"/>
                </a:solidFill>
                <a:latin typeface="Tahoma"/>
              </a:rPr>
              <a:t>Desplazamientos y Deformación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Deformación isótropa o volumétrica se relaciona con la dilatación D o cambio en el volumen por unidad de volumen original de material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Deformación deviatórica se relaciona con un cambio en la form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770280" y="2936880"/>
            <a:ext cx="1608120" cy="6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Invariantes de esfuerzo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Se resuelve poniendo el determinante de la matriz igual a 0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ecuación de tercer grado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Los coeficientes son los llamados invariantes de esfuerzo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Soluciones corresponden a los esfuerzos principales (valores propios). Direcciones se calculan con los vectores propio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124080" y="2158920"/>
            <a:ext cx="2900520" cy="4431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1171440" y="3328920"/>
            <a:ext cx="7126560" cy="143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ccffff"/>
                </a:solidFill>
                <a:latin typeface="Tahoma"/>
              </a:rPr>
              <a:t>Relaciones esfuerzo-deformación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Todo problema en mecánica de sólidos debe satisfacer ecuaciones diferenciales de equilibrio estático y ecuaciones de compatibilidad de deformacione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536400" y="3583080"/>
            <a:ext cx="4038840" cy="264636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2"/>
          <a:stretch/>
        </p:blipFill>
        <p:spPr>
          <a:xfrm>
            <a:off x="5603760" y="3583080"/>
            <a:ext cx="3036960" cy="8586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3"/>
          <a:stretch/>
        </p:blipFill>
        <p:spPr>
          <a:xfrm>
            <a:off x="4979880" y="4772160"/>
            <a:ext cx="416412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ccffff"/>
                </a:solidFill>
                <a:latin typeface="Tahoma"/>
              </a:rPr>
              <a:t>Relaciones esfuerzo-deformación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La idea ahora es relacionar la descripción de los esfuerzos a los que está sometido un cuerpo con las deformaciones que sufrirá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Para ello, es necesario conocer el </a:t>
            </a:r>
            <a:r>
              <a:rPr b="1" lang="es-CL" sz="2400" spc="-1" strike="noStrike">
                <a:solidFill>
                  <a:srgbClr val="ffff00"/>
                </a:solidFill>
                <a:latin typeface="Tahoma"/>
              </a:rPr>
              <a:t>comportamiento constitutivo </a:t>
            </a: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del material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Existen varios modelo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Elasticida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Plasticida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Viscosida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Deslizamient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Combinaciones de estos comportamiento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Esfuerzos y deformaciones se relacionan por medio de </a:t>
            </a:r>
            <a:r>
              <a:rPr b="1" lang="es-CL" sz="2400" spc="-1" strike="noStrike">
                <a:solidFill>
                  <a:srgbClr val="ffff00"/>
                </a:solidFill>
                <a:latin typeface="Tahoma"/>
              </a:rPr>
              <a:t>ecuaciones constitutivas </a:t>
            </a: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en cualquiera de estos modelo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ccffff"/>
                </a:solidFill>
                <a:latin typeface="Tahoma"/>
              </a:rPr>
              <a:t>Relaciones esfuerzo-deformación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27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00"/>
                </a:solidFill>
                <a:latin typeface="Tahoma"/>
              </a:rPr>
              <a:t>Elasticidad</a:t>
            </a: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 es un modelo frecuente en mecánica, incluyendo mecánica de rocas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 constituye una buena base para describir comportamientos más complej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Consideremos esfuerzos y deformaciones en forma de vectores de seis componentes independiente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1846440" y="4205160"/>
            <a:ext cx="5457600" cy="2652840"/>
            <a:chOff x="1846440" y="4205160"/>
            <a:chExt cx="5457600" cy="2652840"/>
          </a:xfrm>
        </p:grpSpPr>
        <p:pic>
          <p:nvPicPr>
            <p:cNvPr id="241" name="" descr=""/>
            <p:cNvPicPr/>
            <p:nvPr/>
          </p:nvPicPr>
          <p:blipFill>
            <a:blip r:embed="rId1"/>
            <a:stretch/>
          </p:blipFill>
          <p:spPr>
            <a:xfrm>
              <a:off x="1846440" y="4205160"/>
              <a:ext cx="5457600" cy="265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2" name="" descr=""/>
            <p:cNvPicPr/>
            <p:nvPr/>
          </p:nvPicPr>
          <p:blipFill>
            <a:blip r:embed="rId2"/>
            <a:stretch/>
          </p:blipFill>
          <p:spPr>
            <a:xfrm>
              <a:off x="4079880" y="5033880"/>
              <a:ext cx="990720" cy="905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ccffff"/>
                </a:solidFill>
                <a:latin typeface="Tahoma"/>
              </a:rPr>
              <a:t>Relaciones esfuerzo-deformación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Forma general de la relación esfuerzo-deformació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Cada elemento  de S se denomina </a:t>
            </a:r>
            <a:r>
              <a:rPr b="1" lang="es-CL" sz="3200" spc="-1" strike="noStrike">
                <a:solidFill>
                  <a:srgbClr val="ffff00"/>
                </a:solidFill>
                <a:latin typeface="Tahoma"/>
              </a:rPr>
              <a:t>módulo elástic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36 elementos independientes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Matriz es simétrica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 21 elementos indep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677880" y="2379600"/>
            <a:ext cx="4840200" cy="171468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6054840" y="3071880"/>
            <a:ext cx="225720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ccffff"/>
                </a:solidFill>
                <a:latin typeface="Tahoma"/>
              </a:rPr>
              <a:t>Relaciones esfuerzo-deformación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74760" y="1348920"/>
            <a:ext cx="8393040" cy="340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Forma invers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Matriz D es la </a:t>
            </a:r>
            <a:r>
              <a:rPr b="0" lang="es-CL" sz="2800" spc="-1" strike="noStrike">
                <a:solidFill>
                  <a:srgbClr val="ffff00"/>
                </a:solidFill>
                <a:latin typeface="Tahoma"/>
              </a:rPr>
              <a:t>matriz de elasticidad</a:t>
            </a: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 o de rigidez elástic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En el caso general de anisotropía hay 21 elementos independient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Caso de </a:t>
            </a:r>
            <a:r>
              <a:rPr b="1" lang="es-CL" sz="2800" spc="-1" strike="noStrike">
                <a:solidFill>
                  <a:srgbClr val="ffff00"/>
                </a:solidFill>
                <a:latin typeface="Tahoma"/>
              </a:rPr>
              <a:t>elasticidad isótropa</a:t>
            </a: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, se reduce a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3997440" y="1366920"/>
            <a:ext cx="2352600" cy="51444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380880" y="4329000"/>
            <a:ext cx="8388360" cy="21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ccffff"/>
                </a:solidFill>
                <a:latin typeface="Tahoma"/>
              </a:rPr>
              <a:t>Relaciones esfuerzo-deformación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Ley de Hooke para elasticidad isótropa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co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donde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E: módulo de You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G: módulo de rigidez (o de corte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</a:t>
            </a: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: razón de Poiss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1000080" y="2108160"/>
            <a:ext cx="4714920" cy="102888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2"/>
          <a:stretch/>
        </p:blipFill>
        <p:spPr>
          <a:xfrm>
            <a:off x="6202440" y="2109960"/>
            <a:ext cx="2104920" cy="102852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3"/>
          <a:stretch/>
        </p:blipFill>
        <p:spPr>
          <a:xfrm>
            <a:off x="2325600" y="3384720"/>
            <a:ext cx="2638440" cy="126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ccffff"/>
                </a:solidFill>
                <a:latin typeface="Tahoma"/>
              </a:rPr>
              <a:t>Relaciones esfuerzo-deformación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Bastan dos constantes para definir el sistem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En forma inversa, se tiene (ecuaciones de Lamé)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Constante de Lamé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3240" y="2305080"/>
            <a:ext cx="9144000" cy="250992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2122560" y="5183280"/>
            <a:ext cx="1941480" cy="42696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"/>
          <p:cNvPicPr/>
          <p:nvPr/>
        </p:nvPicPr>
        <p:blipFill>
          <a:blip r:embed="rId3"/>
          <a:stretch/>
        </p:blipFill>
        <p:spPr>
          <a:xfrm>
            <a:off x="4264200" y="5183280"/>
            <a:ext cx="1215720" cy="39672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/>
          <p:nvPr/>
        </p:nvSpPr>
        <p:spPr>
          <a:xfrm>
            <a:off x="625320" y="5149800"/>
            <a:ext cx="1239840" cy="349200"/>
          </a:xfrm>
          <a:prstGeom prst="leftRightArrow">
            <a:avLst>
              <a:gd name="adj1" fmla="val 50000"/>
              <a:gd name="adj2" fmla="val 70681"/>
            </a:avLst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4"/>
          <a:stretch/>
        </p:blipFill>
        <p:spPr>
          <a:xfrm>
            <a:off x="3754440" y="5791320"/>
            <a:ext cx="3848040" cy="85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ccffff"/>
                </a:solidFill>
                <a:latin typeface="Tahoma"/>
              </a:rPr>
              <a:t>Relaciones esfuerzo-deformación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74760" y="1348920"/>
            <a:ext cx="6013440" cy="360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Otro caso (un poco más complejo): isotropía elástica transvers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Cuerpos con simetría en cualquier dirección de planos y simetría respecto a la dirección normal a los plano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Ocurre en material laminado, roca estratificada…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Ecuaciones constitutivas elásticas para este caso (existen algunas restricciones adicionales para hacer válidas estas ecuaciones </a:t>
            </a:r>
            <a:r>
              <a:rPr b="0" lang="es-MX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 continuidad)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6465960" y="1581120"/>
            <a:ext cx="2678040" cy="247176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2"/>
          <a:stretch/>
        </p:blipFill>
        <p:spPr>
          <a:xfrm>
            <a:off x="608040" y="4727520"/>
            <a:ext cx="7932600" cy="21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ffff"/>
                </a:solidFill>
                <a:latin typeface="Tahoma"/>
              </a:rPr>
              <a:t>Cinemátic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74760" y="1348920"/>
            <a:ext cx="8393040" cy="397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Al aplicar una fuerza o cambiar la temperatura de un cuerpo, ocurren </a:t>
            </a:r>
            <a:r>
              <a:rPr b="0" lang="es-MX" sz="2400" spc="-1" strike="noStrike">
                <a:solidFill>
                  <a:srgbClr val="ffff00"/>
                </a:solidFill>
                <a:latin typeface="Tahoma"/>
              </a:rPr>
              <a:t>cambios en las posiciones relativas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 de los puntos dentro del cuerp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La cinemática estudia la geometría del movimient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Movimiento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El movimiento descrito corresponde a una </a:t>
            </a:r>
            <a:r>
              <a:rPr b="1" lang="es-MX" sz="2400" spc="-1" strike="noStrike">
                <a:solidFill>
                  <a:srgbClr val="ffff00"/>
                </a:solidFill>
                <a:latin typeface="Tahoma"/>
              </a:rPr>
              <a:t>deformación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 desde el estado inicial al final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Gradientes de desplazamiento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2550960" y="2771640"/>
            <a:ext cx="4048200" cy="781200"/>
          </a:xfrm>
          <a:prstGeom prst="rect">
            <a:avLst/>
          </a:prstGeom>
          <a:ln w="0">
            <a:noFill/>
          </a:ln>
        </p:spPr>
      </p:pic>
      <p:grpSp>
        <p:nvGrpSpPr>
          <p:cNvPr id="98" name=""/>
          <p:cNvGrpSpPr/>
          <p:nvPr/>
        </p:nvGrpSpPr>
        <p:grpSpPr>
          <a:xfrm>
            <a:off x="1649520" y="3738600"/>
            <a:ext cx="5850000" cy="342720"/>
            <a:chOff x="1649520" y="3738600"/>
            <a:chExt cx="5850000" cy="342720"/>
          </a:xfrm>
        </p:grpSpPr>
        <p:pic>
          <p:nvPicPr>
            <p:cNvPr id="99" name="" descr=""/>
            <p:cNvPicPr/>
            <p:nvPr/>
          </p:nvPicPr>
          <p:blipFill>
            <a:blip r:embed="rId2"/>
            <a:stretch/>
          </p:blipFill>
          <p:spPr>
            <a:xfrm>
              <a:off x="1649520" y="3738600"/>
              <a:ext cx="3838680" cy="342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" name="" descr=""/>
            <p:cNvPicPr/>
            <p:nvPr/>
          </p:nvPicPr>
          <p:blipFill>
            <a:blip r:embed="rId3"/>
            <a:srcRect l="604" t="0" r="-9527" b="-2781"/>
            <a:stretch/>
          </p:blipFill>
          <p:spPr>
            <a:xfrm>
              <a:off x="5486760" y="3747960"/>
              <a:ext cx="2012760" cy="3333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1" name="" descr=""/>
          <p:cNvPicPr/>
          <p:nvPr/>
        </p:nvPicPr>
        <p:blipFill>
          <a:blip r:embed="rId4"/>
          <a:stretch/>
        </p:blipFill>
        <p:spPr>
          <a:xfrm>
            <a:off x="2022480" y="5332320"/>
            <a:ext cx="5105520" cy="8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ffff"/>
                </a:solidFill>
                <a:latin typeface="Tahoma"/>
              </a:rPr>
              <a:t>Cinemátic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Mov. instantáneo = Mov. Rígido + Deformació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Movimiento rígido: longitud del segmento no camb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t</a:t>
            </a:r>
            <a:r>
              <a:rPr b="0" lang="es-MX" sz="2800" spc="-1" strike="noStrike" baseline="-25000">
                <a:solidFill>
                  <a:srgbClr val="ffffff"/>
                </a:solidFill>
                <a:latin typeface="Tahoma"/>
              </a:rPr>
              <a:t>i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t</a:t>
            </a:r>
            <a:r>
              <a:rPr b="0" lang="es-MX" sz="2800" spc="-1" strike="noStrike" baseline="-25000">
                <a:solidFill>
                  <a:srgbClr val="ffffff"/>
                </a:solidFill>
                <a:latin typeface="Tahoma"/>
              </a:rPr>
              <a:t>f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689200" y="2444760"/>
            <a:ext cx="3772080" cy="514440"/>
          </a:xfrm>
          <a:prstGeom prst="rect">
            <a:avLst/>
          </a:prstGeom>
          <a:ln w="0">
            <a:noFill/>
          </a:ln>
        </p:spPr>
      </p:pic>
      <p:grpSp>
        <p:nvGrpSpPr>
          <p:cNvPr id="105" name=""/>
          <p:cNvGrpSpPr/>
          <p:nvPr/>
        </p:nvGrpSpPr>
        <p:grpSpPr>
          <a:xfrm>
            <a:off x="1971720" y="5689440"/>
            <a:ext cx="1244520" cy="671400"/>
            <a:chOff x="1971720" y="5689440"/>
            <a:chExt cx="1244520" cy="671400"/>
          </a:xfrm>
        </p:grpSpPr>
        <p:sp>
          <p:nvSpPr>
            <p:cNvPr id="106" name=""/>
            <p:cNvSpPr/>
            <p:nvPr/>
          </p:nvSpPr>
          <p:spPr>
            <a:xfrm>
              <a:off x="1971720" y="5689440"/>
              <a:ext cx="1244520" cy="671400"/>
            </a:xfrm>
            <a:prstGeom prst="rect">
              <a:avLst/>
            </a:prstGeom>
            <a:solidFill>
              <a:srgbClr val="ffffff"/>
            </a:solidFill>
            <a:ln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flipV="1">
              <a:off x="2158920" y="5898600"/>
              <a:ext cx="363600" cy="27468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5519160" y="5653440"/>
            <a:ext cx="1379160" cy="981360"/>
            <a:chOff x="5519160" y="5653440"/>
            <a:chExt cx="1379160" cy="981360"/>
          </a:xfrm>
        </p:grpSpPr>
        <p:sp>
          <p:nvSpPr>
            <p:cNvPr id="109" name=""/>
            <p:cNvSpPr/>
            <p:nvPr/>
          </p:nvSpPr>
          <p:spPr>
            <a:xfrm rot="936600">
              <a:off x="5586480" y="5808240"/>
              <a:ext cx="1244520" cy="671400"/>
            </a:xfrm>
            <a:prstGeom prst="rect">
              <a:avLst/>
            </a:prstGeom>
            <a:solidFill>
              <a:srgbClr val="ffffff"/>
            </a:solidFill>
            <a:ln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 flipV="1">
              <a:off x="5749920" y="6003360"/>
              <a:ext cx="424080" cy="16668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662040" y="3392640"/>
            <a:ext cx="196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Posición actu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Coord x, y, 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16600" y="366552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Trasla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732920" y="3686040"/>
            <a:ext cx="122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Rota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442920" y="3413160"/>
            <a:ext cx="1924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Posición inici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Coord x, y, 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8625200">
            <a:off x="2389680" y="3063240"/>
            <a:ext cx="781200" cy="220680"/>
          </a:xfrm>
          <a:prstGeom prst="rightArrow">
            <a:avLst>
              <a:gd name="adj1" fmla="val 50000"/>
              <a:gd name="adj2" fmla="val 88499"/>
            </a:avLst>
          </a:prstGeom>
          <a:solidFill>
            <a:srgbClr val="ffffff"/>
          </a:solidFill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rot="16200000">
            <a:off x="3776040" y="3161160"/>
            <a:ext cx="780840" cy="220680"/>
          </a:xfrm>
          <a:prstGeom prst="rightArrow">
            <a:avLst>
              <a:gd name="adj1" fmla="val 50000"/>
              <a:gd name="adj2" fmla="val 88458"/>
            </a:avLst>
          </a:prstGeom>
          <a:solidFill>
            <a:srgbClr val="ffffff"/>
          </a:solidFill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6200000">
            <a:off x="4885560" y="3157920"/>
            <a:ext cx="780840" cy="220680"/>
          </a:xfrm>
          <a:prstGeom prst="rightArrow">
            <a:avLst>
              <a:gd name="adj1" fmla="val 50000"/>
              <a:gd name="adj2" fmla="val 88458"/>
            </a:avLst>
          </a:prstGeom>
          <a:solidFill>
            <a:srgbClr val="ffffff"/>
          </a:solidFill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rot="13175400">
            <a:off x="6010200" y="3044160"/>
            <a:ext cx="781200" cy="220680"/>
          </a:xfrm>
          <a:prstGeom prst="rightArrow">
            <a:avLst>
              <a:gd name="adj1" fmla="val 50000"/>
              <a:gd name="adj2" fmla="val 88499"/>
            </a:avLst>
          </a:prstGeom>
          <a:solidFill>
            <a:srgbClr val="ffffff"/>
          </a:solidFill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959520" y="2284560"/>
            <a:ext cx="183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Movimiento rígi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ccffff"/>
                </a:solidFill>
                <a:latin typeface="Tahoma"/>
              </a:rPr>
              <a:t>Desplazamientos y Deformación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15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Dos puntos P y Q, se desplazan a P* y Q*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Si u</a:t>
            </a:r>
            <a:r>
              <a:rPr b="0" lang="es-CL" sz="2800" spc="-1" strike="noStrike" baseline="-25000">
                <a:solidFill>
                  <a:srgbClr val="ffffff"/>
                </a:solidFill>
                <a:latin typeface="Tahoma"/>
              </a:rPr>
              <a:t>x</a:t>
            </a: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= u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ahoma"/>
              </a:rPr>
              <a:t>x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*, </a:t>
            </a: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u</a:t>
            </a:r>
            <a:r>
              <a:rPr b="0" lang="es-CL" sz="2800" spc="-1" strike="noStrike" baseline="-25000">
                <a:solidFill>
                  <a:srgbClr val="ffffff"/>
                </a:solidFill>
                <a:latin typeface="Tahoma"/>
              </a:rPr>
              <a:t>y</a:t>
            </a: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= u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ahoma"/>
              </a:rPr>
              <a:t>y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*, </a:t>
            </a: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u</a:t>
            </a:r>
            <a:r>
              <a:rPr b="0" lang="es-CL" sz="2800" spc="-1" strike="noStrike" baseline="-25000">
                <a:solidFill>
                  <a:srgbClr val="ffffff"/>
                </a:solidFill>
                <a:latin typeface="Tahoma"/>
              </a:rPr>
              <a:t>z</a:t>
            </a: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= u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ahoma"/>
              </a:rPr>
              <a:t>z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*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v. </a:t>
            </a: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rí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id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Sino, el cuerpo está sometido a deformac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3102120"/>
            <a:ext cx="4630680" cy="3240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875120" y="3583080"/>
            <a:ext cx="3975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Times New Roman"/>
              </a:rPr>
              <a:t>Deformación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: cambio de forma del cuerpo al desplazarse sus punt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ccffff"/>
                </a:solidFill>
                <a:latin typeface="Tahoma"/>
              </a:rPr>
              <a:t>Desplazamientos y Deformación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51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Queremos definir el </a:t>
            </a:r>
            <a:r>
              <a:rPr b="1" lang="es-CL" sz="2000" spc="-1" strike="noStrike">
                <a:solidFill>
                  <a:srgbClr val="ffff00"/>
                </a:solidFill>
                <a:latin typeface="Tahoma"/>
              </a:rPr>
              <a:t>estado de deformación</a:t>
            </a: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 de un cuerpo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definir cambios en tamaño y forma de un elemento infinitesimal sometido a carg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Desplazamiento incremental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Dado que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c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958680" y="2914560"/>
            <a:ext cx="4183200" cy="221796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6291360" y="3838680"/>
            <a:ext cx="1733400" cy="43164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3"/>
          <a:srcRect l="0" t="0" r="6696" b="0"/>
          <a:stretch/>
        </p:blipFill>
        <p:spPr>
          <a:xfrm>
            <a:off x="1133640" y="5735520"/>
            <a:ext cx="1657080" cy="5400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4"/>
          <a:stretch/>
        </p:blipFill>
        <p:spPr>
          <a:xfrm>
            <a:off x="3862440" y="5541840"/>
            <a:ext cx="4211640" cy="100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ccffff"/>
                </a:solidFill>
                <a:latin typeface="Tahoma"/>
              </a:rPr>
              <a:t>Desplazamientos y Deformación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51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Queremos definir el estado de deformación de un cuerpo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definir cambios en tamaño y forma de un elemento infinitesimal sometido a carg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Desplazamiento incremental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Dado que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c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958680" y="2914560"/>
            <a:ext cx="4183200" cy="221796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6291360" y="3838680"/>
            <a:ext cx="1733400" cy="43164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3"/>
          <a:srcRect l="0" t="0" r="6696" b="0"/>
          <a:stretch/>
        </p:blipFill>
        <p:spPr>
          <a:xfrm>
            <a:off x="1133640" y="5735520"/>
            <a:ext cx="1657080" cy="54000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3862440" y="5541840"/>
            <a:ext cx="4211640" cy="100332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7507440" y="3873600"/>
            <a:ext cx="469800" cy="37296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7736040" y="3404880"/>
            <a:ext cx="0" cy="468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634080" y="2600280"/>
            <a:ext cx="2509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Largo original del segmento P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324480" y="3865680"/>
            <a:ext cx="470160" cy="37296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540480" y="4211640"/>
            <a:ext cx="111240" cy="3715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415200" y="4457880"/>
            <a:ext cx="2509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Desplazamiento relativ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697200" y="2957400"/>
            <a:ext cx="470160" cy="71136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4132440" y="2717280"/>
            <a:ext cx="312480" cy="405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417920" y="2205000"/>
            <a:ext cx="171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Gradientes de desplazamient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ccffff"/>
                </a:solidFill>
                <a:latin typeface="Tahoma"/>
              </a:rPr>
              <a:t>Desplazamientos y Deformación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539640" y="2900520"/>
            <a:ext cx="1733760" cy="43164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1755720" y="2935440"/>
            <a:ext cx="469800" cy="37296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984320" y="2466720"/>
            <a:ext cx="0" cy="468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882720" y="1662120"/>
            <a:ext cx="2509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Largo original del segmento P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73120" y="2927520"/>
            <a:ext cx="469800" cy="37296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89120" y="3273480"/>
            <a:ext cx="110880" cy="3715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63480" y="3519360"/>
            <a:ext cx="2509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Desplazamiento relativ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9811400">
            <a:off x="2914560" y="3043080"/>
            <a:ext cx="1660680" cy="349560"/>
          </a:xfrm>
          <a:prstGeom prst="rightArrow">
            <a:avLst>
              <a:gd name="adj1" fmla="val 50000"/>
              <a:gd name="adj2" fmla="val 118769"/>
            </a:avLst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V="1" rot="1788600">
            <a:off x="2914200" y="4254480"/>
            <a:ext cx="1660680" cy="348840"/>
          </a:xfrm>
          <a:prstGeom prst="rightArrow">
            <a:avLst>
              <a:gd name="adj1" fmla="val 50000"/>
              <a:gd name="adj2" fmla="val 119014"/>
            </a:avLst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681440" y="2174760"/>
            <a:ext cx="390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Deformación del elemento P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24360" y="4552920"/>
            <a:ext cx="3801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Rotación de cuerpo rígido del elemen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ccffff"/>
                </a:solidFill>
                <a:latin typeface="Tahoma"/>
              </a:rPr>
              <a:t>Desplazamientos y Deformación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00"/>
                </a:solidFill>
                <a:latin typeface="Tahoma"/>
              </a:rPr>
              <a:t>Deformación normal</a:t>
            </a: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 en x: acortamiento de una línea (unitaria) paralela a x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00"/>
                </a:solidFill>
                <a:latin typeface="Tahoma"/>
              </a:rPr>
              <a:t>Deformación de corte</a:t>
            </a: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: es la pérdida en perpendicularidad de un par de ejes originalmente ortogona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Positivo: ángulo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gt;</a:t>
            </a: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 90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Negativo: ángulo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 90</a:t>
            </a: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Conociendo el estado de deformación en x, y, z y las deformaciones de corte, se puede calcular el estado de deformación para cualquier sistema coordenado (igual al caso de los esfuerzo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8T19:42:01Z</dcterms:created>
  <dc:creator>Julian Ortiz C.</dc:creator>
  <dc:description/>
  <dc:language>en-US</dc:language>
  <cp:lastModifiedBy>user</cp:lastModifiedBy>
  <dcterms:modified xsi:type="dcterms:W3CDTF">2006-03-21T12:08:09Z</dcterms:modified>
  <cp:revision>268</cp:revision>
  <dc:subject/>
  <dc:title>Muestreo y Control de Calidad</dc:title>
</cp:coreProperties>
</file>