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0.wmf" ContentType="image/x-wmf"/>
  <Override PartName="/ppt/media/image2.png" ContentType="image/png"/>
  <Override PartName="/ppt/media/image11.wmf" ContentType="image/x-wmf"/>
  <Override PartName="/ppt/media/image7.png" ContentType="image/png"/>
  <Override PartName="/ppt/media/image6.wmf" ContentType="image/x-wmf"/>
  <Override PartName="/ppt/media/image5.jpeg" ContentType="image/jpe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9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F168162-8564-4554-B30C-3EBD9E864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DE51-7FD5-4763-8594-A15A1E4EF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D490-B2E5-41F2-AD1B-108B59B12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604DE-FF7C-47BC-99D2-91C7FCC34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6BAA-BAE1-4BB1-8EB1-70F076C0AB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8749-B15F-42A0-9F23-85FAC85926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DD38-EC73-4321-A4CB-FEAEF1961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82F4-108C-48EE-83DB-7A4BDFDF2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3672F-3F2A-4D19-A1C3-A1D16B61F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BE28-4F31-46DF-8818-3E8D6E4FD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E0F6-40D3-4515-855F-5F8001E98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4D01-F166-434A-B81E-B7D603451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62EE-B524-440E-A4BF-634CC476B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507025B6-EC50-466D-BFCB-56DDCFEFEE9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3320" y="1787400"/>
            <a:ext cx="773424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Introducción a la Geomecánica aplic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4160" y="527328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f. Raúl Cast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8120" y="129852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9407-0857-4928-98FA-735E16A2E2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Determinación de constantes de Mohr Coulomb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106800" y="1749600"/>
                <a:ext cx="21333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5" name=""/>
          <p:cNvGraphicFramePr/>
          <p:nvPr/>
        </p:nvGraphicFramePr>
        <p:xfrm>
          <a:off x="3103560" y="3144960"/>
          <a:ext cx="20876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3560" y="3144960"/>
                    <a:ext cx="20876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6280" y="148608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lmer (195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963880" y="4334040"/>
                <a:ext cx="2627280" cy="18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838840" y="1971720"/>
            <a:ext cx="24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fuerzo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52960" y="318132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fuerzo de c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0120" y="477216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rivando H-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29480" y="442908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GSI &gt; 25, a=0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48200" y="537228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GSI &lt; 25, s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0279-127B-4288-A4E0-0BDDE4ACBD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Determinación de constantes de Mohr Coulomb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351160" y="2500200"/>
                <a:ext cx="319068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828720" y="1638360"/>
            <a:ext cx="65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esistencia compresión uniaxial del maci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28880" y="4876920"/>
            <a:ext cx="56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alores de c,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on sensible a elección de </a:t>
            </a: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B02A-C968-4AD0-8FD7-52F85E8718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6120" y="4640400"/>
          <a:ext cx="6630840" cy="163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640400"/>
                    <a:ext cx="663084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00200" y="1787400"/>
                <a:ext cx="2187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781440" y="1409760"/>
                <a:ext cx="360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191120" y="1992240"/>
                <a:ext cx="19810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505320" y="3086280"/>
                <a:ext cx="12571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638680" y="3174840"/>
                <a:ext cx="952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629880" y="27050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6920" y="270504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409760"/>
            <a:ext cx="316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6440" y="3371760"/>
            <a:ext cx="1581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GSI= 6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mi= 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ci= 10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58CE-5BEA-4A3E-8AF0-9C4D612A32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 de calcu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51040" y="1392120"/>
            <a:ext cx="5919480" cy="330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71760" y="4952880"/>
            <a:ext cx="2544840" cy="482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09680" y="5762520"/>
            <a:ext cx="71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jercicio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: calcule las ctes de M-C con parámetros GSI 50, mi=19, sci= 60 MP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9F71-105A-4B2D-9A8E-E8974A2F3A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Algunas Relaciones de Interé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1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ahoma"/>
              </a:rPr>
              <a:t>Módulo de elasticidad del macizo rocoso en función de los índice de calidad de macizo rocos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5400720" cy="38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89FB-1191-4F46-BA53-DFD13FC292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ngulo de Fracturamiento y Esfuerzo Princip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lación entre la magnitud del esfuerzo principal y el ángulo de fractur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a relación permite entender el modo de fa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Angulo de mayor debilidad se produce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486480" y="1230480"/>
            <a:ext cx="2024280" cy="5002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851120" y="5931000"/>
                <a:ext cx="11383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5286240" y="3984480"/>
            <a:ext cx="766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alla en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07040" y="4308480"/>
            <a:ext cx="804960" cy="16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0E8C-5A9D-4FD4-A16F-F869B1D1A2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lanos de fracturamiento vs Esfuerzo Deviator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esfuerzo deviatorico como factor causal de la falla para diferentes niveles de confi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onath, 197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cLamore and Gray, 19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69000" y="1469880"/>
            <a:ext cx="3286080" cy="4581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6314-CC48-482B-9F64-6CE3E16657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Esfuerzos in-situ &amp; inducid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2280" y="1977840"/>
            <a:ext cx="839304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fuerzos in situ existen antes de las excava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fuerzos inducidos son los que resultan por la existencia de la excavación (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7D211-52DD-4541-8339-25F4FFAA4B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596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1. Excavaciones subterráneas: métodos de diseño Geomecán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923760" y="2486160"/>
            <a:ext cx="74487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enid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roducción a criterios geomecánicos en el diseño de excav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istencia macizo rocoso (repa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fuerzos in-si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fuerzos inducidos por excav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luciones ana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Expresiones analític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97440" y="1925640"/>
            <a:ext cx="4060800" cy="232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3800" y="1836720"/>
            <a:ext cx="390060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4576-E33D-45C9-AF2B-2782BCE0AB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ción de Kirsch en el contorno de la excavació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4400" y="2171520"/>
            <a:ext cx="4119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38840" y="1522440"/>
            <a:ext cx="3620880" cy="3444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12400" y="229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90120" y="295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31760" y="4408560"/>
                <a:ext cx="1351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39680" y="2905200"/>
                <a:ext cx="14288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800440" y="2838600"/>
            <a:ext cx="169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presion en las pare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5040" y="4324320"/>
            <a:ext cx="169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ensión en el tec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6B44-6F62-4BFF-A28E-F8C1A62806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Ejemplo de Kirsch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4400" y="2279520"/>
            <a:ext cx="41194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la condición de resistencia 16 MPa a la compresión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-26, 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condición de resistencia a la tracción to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79, 1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784760" y="1905120"/>
            <a:ext cx="3695760" cy="36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943760" y="3600360"/>
            <a:ext cx="4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,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3486240"/>
            <a:ext cx="8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2,5 M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B002-4151-4B36-87E8-518EDD5461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Zonas de falla y dañ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17600" y="1795320"/>
            <a:ext cx="4324320" cy="3865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657520" y="591516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f: Martin (1997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A9428-73E5-4618-A8E2-3E44A2F009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Efecto de varias excavaciones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6880" y="1724040"/>
            <a:ext cx="8393400" cy="3225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9480" y="524844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 suman los esfuerzos inducidos de cada exca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1253-1E94-4CFD-AF93-DEB8BEFA9A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</a:t>
            </a: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ño y sismic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utiliza un modelo numérico para estimar contorno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grafica el esfuerzo deviator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compara con una envolvente de falla del sistema minero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 último se obtiene con microsis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789520" y="3875040"/>
            <a:ext cx="2909880" cy="2600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102360" y="1120680"/>
            <a:ext cx="2500200" cy="25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9AE9-C892-4E1E-9B0F-8BA706A477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tapas diseño geomecán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4181400" y="97164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acter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mecá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62320" y="188604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elo m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3240" y="2838600"/>
            <a:ext cx="224820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33880" y="3733920"/>
            <a:ext cx="224784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19600" y="4724280"/>
            <a:ext cx="3276360" cy="7239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 maci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itor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57720" y="5705640"/>
            <a:ext cx="224784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ck análi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152800" y="1200240"/>
            <a:ext cx="1552320" cy="5086440"/>
            <a:chOff x="2152800" y="1200240"/>
            <a:chExt cx="1552320" cy="5086440"/>
          </a:xfrm>
        </p:grpSpPr>
        <p:sp>
          <p:nvSpPr>
            <p:cNvPr id="62" name=""/>
            <p:cNvSpPr/>
            <p:nvPr/>
          </p:nvSpPr>
          <p:spPr>
            <a:xfrm>
              <a:off x="2162160" y="1200240"/>
              <a:ext cx="9720" cy="50864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71880" y="120996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81240" y="228636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1240" y="321012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2160" y="4019760"/>
              <a:ext cx="152424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71880" y="504864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52800" y="6267600"/>
              <a:ext cx="15238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rot="16200000">
            <a:off x="5992920" y="624960"/>
            <a:ext cx="5490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676080" y="3466800"/>
            <a:ext cx="3886200" cy="7236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ceso de análisis en ingeniería de ro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704B-97BC-4BA1-BD33-AA76D4DC7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Tahoma"/>
              </a:rPr>
              <a:t>Criterios de diseño subterráneo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143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fuerz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uantificar el daño y diseñar so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47840" y="1231920"/>
            <a:ext cx="5996160" cy="421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F733-CB85-4453-9089-0154C780B4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Resistencia maciz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roceso de Escalamien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2133720" cy="1343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flipH="1" rot="16200000">
            <a:off x="468360" y="1626480"/>
            <a:ext cx="2128680" cy="222876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505320" y="4343400"/>
            <a:ext cx="1014840" cy="1600200"/>
            <a:chOff x="3505320" y="4343400"/>
            <a:chExt cx="1014840" cy="1600200"/>
          </a:xfrm>
        </p:grpSpPr>
        <p:sp>
          <p:nvSpPr>
            <p:cNvPr id="79" name=""/>
            <p:cNvSpPr/>
            <p:nvPr/>
          </p:nvSpPr>
          <p:spPr>
            <a:xfrm>
              <a:off x="3505320" y="4800600"/>
              <a:ext cx="228600" cy="6858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19440" y="4343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638520" y="5486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4680" y="49528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UC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a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15040" y="1676520"/>
            <a:ext cx="3163680" cy="2373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69200" y="5029200"/>
            <a:ext cx="2652480" cy="764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aracterización de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Macizo Roco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9080" y="16765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istencia 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cizo Rocos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905120"/>
            <a:ext cx="1524240" cy="83808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7" idx="1"/>
            <a:endCxn id="76" idx="0"/>
          </p:cNvCxnSpPr>
          <p:nvPr/>
        </p:nvCxnSpPr>
        <p:spPr>
          <a:xfrm rot="5400000">
            <a:off x="1182600" y="4145400"/>
            <a:ext cx="691200" cy="10440"/>
          </a:xfrm>
          <a:prstGeom prst="bentConnector3">
            <a:avLst>
              <a:gd name="adj1" fmla="val 4986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88" name=""/>
          <p:cNvCxnSpPr>
            <a:stCxn id="76" idx="3"/>
            <a:endCxn id="79" idx="1"/>
          </p:cNvCxnSpPr>
          <p:nvPr/>
        </p:nvCxnSpPr>
        <p:spPr>
          <a:xfrm flipV="1">
            <a:off x="2590920" y="5143320"/>
            <a:ext cx="915120" cy="24480"/>
          </a:xfrm>
          <a:prstGeom prst="straightConnector1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89" name=""/>
          <p:cNvCxnSpPr>
            <a:stCxn id="81" idx="0"/>
            <a:endCxn id="84" idx="2"/>
          </p:cNvCxnSpPr>
          <p:nvPr/>
        </p:nvCxnSpPr>
        <p:spPr>
          <a:xfrm flipH="1" flipV="1" rot="5400000">
            <a:off x="5194800" y="4242600"/>
            <a:ext cx="143640" cy="3258360"/>
          </a:xfrm>
          <a:prstGeom prst="bentConnector3">
            <a:avLst>
              <a:gd name="adj1" fmla="val -59798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90" name=""/>
          <p:cNvCxnSpPr>
            <a:stCxn id="84" idx="0"/>
            <a:endCxn id="83" idx="2"/>
          </p:cNvCxnSpPr>
          <p:nvPr/>
        </p:nvCxnSpPr>
        <p:spPr>
          <a:xfrm flipH="1" flipV="1" rot="5400000">
            <a:off x="6406920" y="4538160"/>
            <a:ext cx="980280" cy="2160"/>
          </a:xfrm>
          <a:prstGeom prst="bentConnector3">
            <a:avLst>
              <a:gd name="adj1" fmla="val 4988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58E0-6133-4506-BA95-7C05765660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92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 </a:t>
            </a:r>
            <a:br>
              <a:rPr sz="4000"/>
            </a:b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(Hoek and Brown, 1980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31880" y="1800360"/>
            <a:ext cx="4768920" cy="42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B2AD-442E-419A-8496-22E64932C2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Modelos Constitutivos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 mayor confinami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máxima aum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frágil a dúctil, comportamiento plás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residual aumenta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11520" y="1981080"/>
            <a:ext cx="4632480" cy="317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618160" y="560376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Ensayos triaxiales en Marble Tenesse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Wawersik and Fairhurst, 19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F1FA-CE42-4481-A7D8-7CBA329195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5736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78DE-7E87-46D2-9A83-587A8C3F5D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Raul Castro</cp:lastModifiedBy>
  <dcterms:modified xsi:type="dcterms:W3CDTF">2007-09-11T15:47:56Z</dcterms:modified>
  <cp:revision>243</cp:revision>
  <dc:subject/>
  <dc:title>Muestreo y Control de Calidad</dc:title>
</cp:coreProperties>
</file>