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3.wmf" ContentType="image/x-wmf"/>
  <Override PartName="/ppt/media/image26.png" ContentType="image/png"/>
  <Override PartName="/ppt/media/image32.jpeg" ContentType="image/jpeg"/>
  <Override PartName="/ppt/media/image11.wmf" ContentType="image/x-wmf"/>
  <Override PartName="/ppt/media/image5.jpeg" ContentType="image/jpeg"/>
  <Override PartName="/ppt/media/image12.jpeg" ContentType="image/jpeg"/>
  <Override PartName="/ppt/media/image34.wmf" ContentType="image/x-wmf"/>
  <Override PartName="/ppt/media/image35.wmf" ContentType="image/x-wmf"/>
  <Override PartName="/ppt/media/image24.jpeg" ContentType="image/jpeg"/>
  <Override PartName="/ppt/media/image36.wmf" ContentType="image/x-wmf"/>
  <Override PartName="/ppt/media/image7.jpeg" ContentType="image/jpeg"/>
  <Override PartName="/ppt/media/image6.jpeg" ContentType="image/jpeg"/>
  <Override PartName="/ppt/media/image30.png" ContentType="image/png"/>
  <Override PartName="/ppt/media/image3.jpeg" ContentType="image/jpeg"/>
  <Override PartName="/ppt/media/image28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D3A43E-2CE7-48F8-B26E-F900CED1E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E469-F0B1-42AE-B4C7-11F9C049C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FC43-784A-4CAA-BDC2-3C9C605EF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0A8E-F9B2-48A6-BEAB-CD6644430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3E77-1EEC-4BEE-8D4D-547A3E153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E43E-DC77-45F6-AEB9-583CF5375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9F75-DF6E-4629-A0D4-C91692140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DA02-726C-453A-96A7-E2B75F8E8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93C4-C7C2-4596-8120-98867E63B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B5AE-6EB4-4007-A346-7318ABE60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8F44-E1A5-4BB7-AD4C-CC058BADC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CFC9-A3B2-4834-932D-2EEB6F232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4D60-D163-4627-BE27-12162F4FA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B9F58077-F531-4137-BE5E-98DF23D0A23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840" y="208260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 Raúl Cas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63720" y="3765600"/>
          <a:ext cx="210168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3720" y="3765600"/>
                    <a:ext cx="210168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947880" y="5410080"/>
          <a:ext cx="267480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7880" y="5410080"/>
                    <a:ext cx="26748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9FCD-320B-4F7A-AA55-1B9618A046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DA8E-1D6C-4065-85B5-24A6A6B21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3FFA-BAE0-4036-926C-666063E7DE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ED46-F532-4D59-8F8E-E487EF3B36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4160" y="2773440"/>
            <a:ext cx="320652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30760" y="1039680"/>
            <a:ext cx="5029200" cy="2354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 flipV="1">
            <a:off x="4362480" y="1447560"/>
            <a:ext cx="350640" cy="8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91520" y="1418760"/>
            <a:ext cx="411120" cy="5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8160" y="1523880"/>
                <a:ext cx="4604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699080" y="2433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52960" y="2514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99040" y="1457280"/>
            <a:ext cx="97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173640" y="111276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384120" y="2874960"/>
          <a:ext cx="1382760" cy="94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874960"/>
                    <a:ext cx="1382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74680" y="3809880"/>
          <a:ext cx="1581120" cy="98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680" y="3809880"/>
                    <a:ext cx="15811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4897440"/>
          <a:ext cx="1143000" cy="8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897440"/>
                    <a:ext cx="11430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692520"/>
            <a:ext cx="5105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 formula se puede usar solo como aproximación inic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 asume que los estratos se separ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720" y="2265480"/>
            <a:ext cx="26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eoría de vigas caso empot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9FF8-03E8-4DF7-9AC4-188C71BC23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39680" y="1984320"/>
                <a:ext cx="2133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0" name=""/>
          <p:cNvGraphicFramePr/>
          <p:nvPr/>
        </p:nvGraphicFramePr>
        <p:xfrm>
          <a:off x="1077840" y="5334120"/>
          <a:ext cx="157788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5334120"/>
                    <a:ext cx="15778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302C-78B2-453B-8784-616725EF05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A920-590F-472D-A95D-9DD549F2CF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39BD-DDBD-4E4A-A5F3-2DE4BE5DC0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69E3-69FD-44F9-8D7B-C933126B47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029200" y="551664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8CF7-07AD-45A0-AD32-8C1938E092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1C5E-3615-4E84-BCEF-A77F6D3A4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146480" y="2133720"/>
          <a:ext cx="49975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6480" y="2133720"/>
                    <a:ext cx="49975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2B61-03BD-40C0-984C-2F36E86CDF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barr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517680" y="1138320"/>
            <a:ext cx="705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or lo general estos pilares tienen grandes dimensiones y protegen al panel de collapsos tipo cas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formulas empiricas de resistencia de pilares son validas para W/H &lt;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ara el caso de pilares barrera (minas de carbo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85840" y="3463920"/>
          <a:ext cx="60958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3463920"/>
                    <a:ext cx="60958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609480" y="5853240"/>
            <a:ext cx="78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ara casos de minas metálicas se requiere usar Hoek and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0C34-22DD-4152-9048-FD69167AAA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85A0-89C4-4AF6-9432-504EAE310D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9B79-2F19-4DB8-AC3F-EFC038094B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stallido de roca en mineria profun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320920" y="1413000"/>
          <a:ext cx="56516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13000"/>
                    <a:ext cx="56516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863800" y="4087800"/>
          <a:ext cx="47926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3800" y="4087800"/>
                    <a:ext cx="47926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90680" y="1184400"/>
            <a:ext cx="33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0960" y="4340160"/>
            <a:ext cx="280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quina 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quina st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D48F-6B6E-4108-9FEF-6A156E12AA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stable/inestable falla de pilares en mina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519360" y="1760400"/>
          <a:ext cx="17956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1760400"/>
                    <a:ext cx="17956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26880" y="181944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Ocurre falla e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1600" y="327816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Ocurre falla repenti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6600" y="3262320"/>
          <a:ext cx="169560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6600" y="3262320"/>
                    <a:ext cx="16956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89120" y="467820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 rigidez local de la mina depende del modulo de la roca (piso/techo/pilar) y el diseño (ubicación de pilares/pilares barrera/casero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34BA-E9F9-4E97-BAA6-B21E08187F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igidez loc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30200" y="1579680"/>
          <a:ext cx="534348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579680"/>
                    <a:ext cx="534348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3097-A836-4992-BA3C-5964D98E69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Collapsos de pilates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6CB0-BFCA-4A22-B19C-8EA5D9F04E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collapso de pilares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954B-3BF5-4061-9170-521A1719E0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87D9-93F9-42B0-8070-257A47DD7B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5212-9D29-458E-91D0-3B8F2BB43C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75F9-9279-47E7-A12E-F1AB72072B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585D-0CDD-4435-9DCA-5CAF98BB6A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0" r="29081" b="53520"/>
          <a:stretch/>
        </p:blipFill>
        <p:spPr>
          <a:xfrm>
            <a:off x="609480" y="1676520"/>
            <a:ext cx="389124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FA42-63AD-4973-9AB9-3F0BE89EC5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1B2D-7939-4DBC-BBC5-17F0B35A1B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782720"/>
            <a:ext cx="760572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0" t="0" r="16813" b="0"/>
          <a:stretch/>
        </p:blipFill>
        <p:spPr>
          <a:xfrm>
            <a:off x="76320" y="1905120"/>
            <a:ext cx="728964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3528-7222-4FAD-82D2-03C2DD8B1E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68C3-AAFD-49D0-81E6-E2E9BDA272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CFE2-A8A5-462A-971C-F50DDE90AE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635F-6F30-45E9-B372-9A7553B809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51EC-38D7-4DB1-95F8-8CB856256B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BB74-DB10-4016-808E-D6E41DDC5C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FBF6-C000-4015-B63A-BCB2D6D6E4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B563-4494-4D96-A80E-07F74BB7B8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Raul Castro</cp:lastModifiedBy>
  <dcterms:modified xsi:type="dcterms:W3CDTF">2007-09-27T15:47:54Z</dcterms:modified>
  <cp:revision>247</cp:revision>
  <dc:subject/>
  <dc:title>Muestreo y Control de Calidad</dc:title>
</cp:coreProperties>
</file>