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ADC-882D-4A19-ACFB-B89822DF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7CA-44E0-46A8-A395-7332B0D4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782-275B-4D75-BF57-2A33404B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111-DA2E-4904-BD34-657BD80C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518-501E-48A3-9863-8C75C288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E2B-507B-48AB-8E60-E841901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9E8-96A1-41CA-B355-43F319B1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A78-1B6C-4DB3-9951-A8B19341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332-624E-45F0-BAB1-351908FE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0B9-1BAB-464D-A9EE-DE10A9C1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9F2-DE6D-41F1-A24A-4C1071E9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F7D-540E-4A9C-B5D4-F501D9C5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9F5B-C0A2-4D73-B7DF-FB620E40C740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ase Auxiliar Nº 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P. Auxiliar: Ricardo Olivares Q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Semestre Otoño 2007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43" name="logo2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325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8800" y="260280"/>
            <a:ext cx="78249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5560" y="274680"/>
            <a:ext cx="7824960" cy="5846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8800" y="274680"/>
            <a:ext cx="7826400" cy="58514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f8"/>
                </a:solidFill>
                <a:latin typeface="Arial"/>
              </a:rPr>
              <a:t>Principios de construcción de balances de masa y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y de Conservación de la Materi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y de Conservación de la Energí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76867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Los balances de materiales pueden ser descritos en términos de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tota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totale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una especie en particular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de una especie en particular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una especie atómic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de especies atómica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ra un proceso en estado – estable continuo la acumulación = 0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ENTRADA = SALID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8f8f8"/>
                </a:solidFill>
                <a:uFillTx/>
                <a:latin typeface="Arial"/>
              </a:rPr>
              <a:t>Definición de “SISTEMA” – Principio de “CAJA NEGRA”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8192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Temario Clase Nº 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Datos estadísticos de fundiciones en Chi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Flowsheets de fundiciones chilena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Balances de Mas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Balances de Energí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8f8f8"/>
                </a:solidFill>
                <a:uFillTx/>
                <a:latin typeface="Arial"/>
              </a:rPr>
              <a:t>Definición de “SISTEMA” – Principio de “CAJA NEGRA”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8f8f8"/>
                </a:solidFill>
                <a:uFillTx/>
                <a:latin typeface="Arial"/>
              </a:rPr>
              <a:t>Balance de Masa Total: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fund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aire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oxigen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ga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A causa que el proceso no es continuo, no hay estado estacionario de entrada y salida de materiales y debe estar referido a la unidad de tiempo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,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: acumulación de escoria y mata en el Reactor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76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8f8f8"/>
                </a:solidFill>
                <a:uFillTx/>
                <a:latin typeface="Arial"/>
              </a:rPr>
              <a:t>Balance de masa de Cobre: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incipios de construcción de balance de masa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esentación Gráfica – Diagrama de Sanke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78000" y="1600200"/>
            <a:ext cx="4786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alance de materiales para una masa desconocida de producto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Suposiciones y procedimient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masa de polvos es conocida como un porcentaje de la alimentación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composición química de los productos es conocida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masa de la escoria y mata de cobre es calculada por la comparación del balance de fierro y cobr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cobre se verifica por balance de sílic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ra saber la utilización de oxígeno, la masa de gases de salida se calcula basado en los balances de azufre y oxígeno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acumulación de mata de cobre y escoria es conocida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álculo de masa de escoria y mat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8f8f8"/>
                </a:solidFill>
                <a:uFillTx/>
                <a:latin typeface="Arial"/>
              </a:rPr>
              <a:t>Balance de Cobre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escoria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8f8f8"/>
                </a:solidFill>
                <a:uFillTx/>
                <a:latin typeface="Arial"/>
              </a:rPr>
              <a:t>Balance de Fierr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escoria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Con dos ecuaciones y dos incógnitas es posible resolver el sistema y obtener las masas buscadas.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Un concentrado húmedo que contiene 8% H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O, 89,2% CuFeS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y 2,8% SiO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, se funde en un horno de reverbero, obteniéndose un eje compuesto de Cu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S y FeS (42 % Cu) y una escoria con 65% FeO y 35% SiO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. El calor y oxígeno necesario para producir estos productos, es suministrado por un quemador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Arial"/>
              </a:rPr>
              <a:t>Calcule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Peso del metal blanco, de la escoria y fundente necesario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Volumen de oxígeno requerido y de SO</a:t>
            </a:r>
            <a:r>
              <a:rPr b="0" lang="es-MX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 producido. (no considere nitrógeno)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alance de Energía de la Capacidad Calórica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romedio del valor de la capacidad calorífica en el rango de temperatura T</a:t>
            </a:r>
            <a:r>
              <a:rPr b="0" lang="en-US" sz="2000" spc="-1" strike="noStrike" baseline="-25000">
                <a:solidFill>
                  <a:srgbClr val="f8f8f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" y="3212640"/>
            <a:ext cx="8218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El calor necesario para calentar una masa de 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de una especie i desde la temperatura T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a T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q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calor, J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masa de la especie i, kg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p(i)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promedio de la capacidad calorífica de la especie i, J Kg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-1 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K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 u="sng">
                <a:solidFill>
                  <a:srgbClr val="f8f8f8"/>
                </a:solidFill>
                <a:uFillTx/>
                <a:latin typeface="Arial"/>
              </a:rPr>
              <a:t>Nota: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Cp también se puede trabajar en unidades de </a:t>
            </a:r>
            <a:r>
              <a:rPr b="0" i="1" lang="es-CL" sz="1800" spc="-1" strike="noStrike">
                <a:solidFill>
                  <a:srgbClr val="f8f8f8"/>
                </a:solidFill>
                <a:latin typeface="Arial"/>
              </a:rPr>
              <a:t>capacidad calorífica molar, con unidades de J mol</a:t>
            </a:r>
            <a:r>
              <a:rPr b="0" i="1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r>
              <a:rPr b="0" i="1" lang="es-CL" sz="1800" spc="-1" strike="noStrike">
                <a:solidFill>
                  <a:srgbClr val="f8f8f8"/>
                </a:solidFill>
                <a:latin typeface="Arial"/>
              </a:rPr>
              <a:t> K</a:t>
            </a:r>
            <a:r>
              <a:rPr b="0" i="1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En este último caso deberemos trabajar 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con unidades de mol 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92360" y="3645000"/>
                <a:ext cx="2671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580000" y="1628640"/>
                <a:ext cx="17146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alance de Energía de la Capacidad Calórica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8f8f8"/>
                </a:solidFill>
                <a:uFillTx/>
                <a:latin typeface="Arial"/>
              </a:rPr>
              <a:t>Ejempl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Encuentre el calor necesario para calentar y fundir 1 kg. de cobre desde 500 K a 1500 K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fusión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3.14 kJ/mol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T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fusión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357 K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p(Cu s)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7.3 kJ/mol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p(Cu l)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45.2 J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PM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Cu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63.55 gr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8f8f8"/>
                </a:solidFill>
                <a:latin typeface="Arial"/>
              </a:rPr>
              <a:t>q</a:t>
            </a:r>
            <a:r>
              <a:rPr b="0" i="1" lang="es-CL" sz="2000" spc="-1" strike="noStrike" baseline="-25000">
                <a:solidFill>
                  <a:srgbClr val="f8f8f8"/>
                </a:solidFill>
                <a:latin typeface="Arial"/>
              </a:rPr>
              <a:t>Cu</a:t>
            </a:r>
            <a:r>
              <a:rPr b="0" i="1" lang="es-CL" sz="2000" spc="-1" strike="noStrike">
                <a:solidFill>
                  <a:srgbClr val="f8f8f8"/>
                </a:solidFill>
                <a:latin typeface="Arial"/>
              </a:rPr>
              <a:t> = 1330 MJ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0760" y="4365720"/>
                <a:ext cx="6256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usió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Principios de construcción de balances de energí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Calor de Reacción: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3 FeS + 5 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= Fe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+ 3 S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00000" y="2637000"/>
                <a:ext cx="3311640" cy="19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18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S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55640" y="5013360"/>
                <a:ext cx="7704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cción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03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Ley de Conservación de Energí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410160" cy="253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71640" y="4581360"/>
                <a:ext cx="71625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uctos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actantes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umulad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érdid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Ley de Conservación de Energí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El balance de energía puede ser descrito en términos de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ntalpía de todas las especies (fases) en la entrada y salida de materiale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ambios relativos de entalpía de todas las especies con su masa y temperatura.</a:t>
            </a: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1. Calcular el calor estándar  de formación de PbO desde sus componentes Pb y O2 a 227 ºC (500 K), considerando los siguientes datos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H0 298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PbO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=  - 52,4  kcal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p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PbO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= 10,6 + 4,0 * 10 </a:t>
            </a:r>
            <a:r>
              <a:rPr b="0" lang="en-GB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al/K 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p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Pb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=  5,63 + 2,33 * 10 </a:t>
            </a:r>
            <a:r>
              <a:rPr b="0" lang="en-GB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al/K mol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Cp (O2)          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=  7,16 + 1,00 * 10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 T - 0,4 * 10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5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-2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cal/K mol</a:t>
            </a:r>
            <a:br>
              <a:rPr sz="2000"/>
            </a:b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siendo,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sólido, ( ) ga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8f8f8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Pérdidas de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s pérdidas de calor de reactores metalúrgicos pueden ser determinadas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Desde el balance de energí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Flujo de calor a través de las paredes del horn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alor transferido desde la carcaza del horno o del agente refrigerant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Pérdidas de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448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01028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5560" y="274680"/>
            <a:ext cx="7831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8800" y="274680"/>
            <a:ext cx="7826400" cy="58514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20:22:29Z</dcterms:created>
  <dc:creator>rolivares</dc:creator>
  <dc:description/>
  <dc:language>en-US</dc:language>
  <cp:lastModifiedBy>Catedra de Pirometalurgia</cp:lastModifiedBy>
  <dcterms:modified xsi:type="dcterms:W3CDTF">2007-03-26T19:19:19Z</dcterms:modified>
  <cp:revision>82</cp:revision>
  <dc:subject/>
  <dc:title>Clases Auxiliares MI 51A - Pirometalurgia</dc:title>
</cp:coreProperties>
</file>