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0A01-DD18-4BC1-803C-3DB14CFD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A781-678E-4427-A12E-7F971F73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11C5-27BE-45F3-A046-31680087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7026-EF1A-4D76-BA78-D27890A5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079C-2316-44FD-A6DA-4AD6979B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7467-C11E-4286-A1B4-6F2460FD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E91C-ADD5-4002-B64A-8E922292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C2BD-6CE7-499A-96B2-9027C05C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3639-A666-48D3-BCED-D4149EFE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1381-281B-4939-8821-1D3D1E18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DD06-1B59-48EA-AF86-F9F7CD92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E39D-BF59-44DE-A5CB-6F4BD87D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C13-CB1E-4E9B-BD24-16A76BBC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CA30-862E-4AFA-BD9D-D48646F4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F8A6-215E-4D95-8119-2B4F97A6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78CB-9417-471D-A989-3410342D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5D15-B63C-4935-94E8-57B1E33B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C1C7-BB2A-413C-BCE4-37758AF1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7D56-B02D-4881-8C47-0105DBE3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18C9-FE2F-4173-BADC-6C908377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28FA-65FD-4736-A9C8-E80BD699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4715-E4AD-4D1E-8332-4FDB3C41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B738-C945-41BA-BCCB-6BC79BBF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1BDB-FD24-423D-AB34-7DCB1610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ECF4-0621-4DFD-8BD4-89924DBDD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9157-2E86-4D80-8640-57194172D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3640" y="1844640"/>
            <a:ext cx="4824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Índices operaciona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57G Manejo de minerales y ventilación de m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11280" y="321264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Disponibilidad=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oras Operacionales + Horas reserv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H – Hmantenc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Horas hábile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                                    H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 Título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115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4653000"/>
            <a:ext cx="72741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H= Horas hábiles u horas programadas de trabaj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jemplo: Una mina opera 2 turnos de 10 horas Lunes a Viernes y 1 turno de 10 horas los Sabados. HH= 110 Horas (168 totales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0028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sponibilidad se define como el % del tiempo durante el cual un equipo es capaz de realizar sus funciones especificas dividido por el numero total de horas en un periodo dad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ctores que afectan la disponibil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971640" y="292428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 u="sng">
                <a:solidFill>
                  <a:srgbClr val="ff0000"/>
                </a:solidFill>
                <a:uFillTx/>
                <a:latin typeface="Lucida Sans Unicode"/>
              </a:rPr>
              <a:t>Indices de manten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1. Índice de mantenimiento=          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manten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2. Tiempo medio de reparación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: duración media de mantención efectiva (horas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3. Tiempo de mantención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= mantención efectiva + retraso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4. 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Record de retrasos a la mantención por categori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5. Eficiencia de la mantención= </a:t>
            </a:r>
            <a:r>
              <a:rPr b="0" lang="es-MX" sz="1700" spc="-1" strike="noStrike" u="sng">
                <a:solidFill>
                  <a:srgbClr val="9999cc"/>
                </a:solidFill>
                <a:uFillTx/>
                <a:latin typeface="Lucida Sans Unicode"/>
              </a:rPr>
              <a:t>mantención programadas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                                                     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mantención tot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981000"/>
            <a:ext cx="756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mportante calcular horas de reparación via indices de mantención asociado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tención se cuenta desde que el equipo será reparado o inspeccionado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tiempo de mantención no necesariamente es igual al tiempo efectivo de mantención para reparar la maquinaria , pues hay perdidas por retrasos por ejemplo en logistica (repuestos, falta de cuadrilla de mantención, tiempo de reacción desde la panne, 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 Título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899640" y="4457520"/>
            <a:ext cx="53578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Aprovechamiento =</a:t>
            </a: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oras Oper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Horas Habi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Marcador de contenido"/>
          <p:cNvSpPr/>
          <p:nvPr/>
        </p:nvSpPr>
        <p:spPr>
          <a:xfrm>
            <a:off x="971640" y="5445000"/>
            <a:ext cx="63579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Factor operacional =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 Efectivas de Opera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684360" y="32846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Índice de utilización=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+ Horas Reserv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12536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equipo que esta preparado rara vez es totalmente totalment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ejemplo una unidad puede ser usado como reserva, esperando a que termine otra operación en un ciclo productivo o no hay operad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utilización o uso de disponibilidad se calcula como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42960" y="3654360"/>
            <a:ext cx="78580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endimiento =        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unidades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Efectivo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2 Marcador de contenido"/>
          <p:cNvSpPr/>
          <p:nvPr/>
        </p:nvSpPr>
        <p:spPr>
          <a:xfrm>
            <a:off x="500040" y="1714680"/>
            <a:ext cx="7572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Lucida Sans Unicode"/>
              </a:rPr>
              <a:t>Rendimiento</a:t>
            </a:r>
            <a:r>
              <a:rPr b="0" lang="es-MX" sz="2300" spc="-1" strike="noStrike">
                <a:solidFill>
                  <a:srgbClr val="ff0000"/>
                </a:solidFill>
                <a:latin typeface="Lucida Sans Unicode"/>
              </a:rPr>
              <a:t> efectivo = </a:t>
            </a:r>
            <a:r>
              <a:rPr b="0" lang="es-MX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tiempo operacio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5 CuadroTexto"/>
          <p:cNvSpPr/>
          <p:nvPr/>
        </p:nvSpPr>
        <p:spPr>
          <a:xfrm>
            <a:off x="571680" y="5000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ndimiento efectivo &gt; rendimiento operacion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Índices de eficiencia en la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 Marcador de contenido"/>
          <p:cNvSpPr/>
          <p:nvPr/>
        </p:nvSpPr>
        <p:spPr>
          <a:xfrm>
            <a:off x="468360" y="3284640"/>
            <a:ext cx="84646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Eficiencia en la producción =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 x 100%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     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HH- tiempo mantención-tiempo en reserva) x rendimiento efectiv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91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nte la operación es importante saber si el equipo esta generando las ganancias esperada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4005360"/>
            <a:ext cx="7488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unidades de producción deben considerar el carácter de la operación o el proceso ejecutado y las condiciones de trabajo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: numero de pernos instalados por un apernador no es bueno si existe una variedad de lar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mina profundiza importa calcular las ton-k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dice de eficiencia del equ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EE: disponibilidad x utilización x eficiencia en la produ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1700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EE: overall equipment performa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95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cular el rendimiento de un equipo LHD (ton/hr) sabiendo que el tiempo de ciclo de carga-descarga es de 2,6 minutos y que su capacidad es de 5,5 ton. Medidas de mantención indican que los equipos tienen una disponibilidad física de 90%. Perdidas operacionales (cambio turno, demoras en transporte de un sector a otro, etc.) llega a 8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ías año (300 días) – horas hábi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trabaja en la mina en 3 turnos de 8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Hábiles/añ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300 x 24 hr = 7.200 hr hábile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90%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d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mantención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0,1 x 7200 = 720 Hora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erdidas operacionale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80%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d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rovechamient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(24 x 0.8 x 300)/(7.200) = 8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efectivo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(5,5/2,6)*60=127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efectivo (Ton/hr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127 x 0,9 x 0,8 = 91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 (Ton/hr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91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anual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657.969 Ton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upongamos que la capacidad requerida del sistema es de 600.000 ton 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requeridas sistema (Horas hábiles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  6566 hora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reserv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7200 – 6566 = 634 hr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szczak, J, 2005. Understanding and assessment of mining equipment effectiveness. Trans Inst. Min Metall. A. vol 114. p 1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ones- í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empos en la operación mi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Índices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1571760"/>
            <a:ext cx="822960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índices (u indicadores) en minería nos ayudan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r la efectividad de procesos ya exist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el estado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r diseño/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ptimizar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geniería de 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terminar la flota de equ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mecánic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rendimiento de equipos e instalaciones en 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miner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ropor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producto final (ley y tonelaje) a través de los distintos procesos mi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de insum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onsum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elementos por unidades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de resultad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resultados por period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 Título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67560" cy="1341360"/>
          </a:xfrm>
          <a:prstGeom prst="rect">
            <a:avLst/>
          </a:prstGeom>
          <a:ln w="0">
            <a:noFill/>
          </a:ln>
        </p:spPr>
      </p:pic>
      <p:sp>
        <p:nvSpPr>
          <p:cNvPr id="115" name="4 Rectángulo"/>
          <p:cNvSpPr/>
          <p:nvPr/>
        </p:nvSpPr>
        <p:spPr>
          <a:xfrm>
            <a:off x="857160" y="2500200"/>
            <a:ext cx="5072040" cy="928800"/>
          </a:xfrm>
          <a:prstGeom prst="rect">
            <a:avLst/>
          </a:prstGeom>
          <a:solidFill>
            <a:srgbClr val="ec767c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5 Rectángulo"/>
          <p:cNvSpPr/>
          <p:nvPr/>
        </p:nvSpPr>
        <p:spPr>
          <a:xfrm>
            <a:off x="5929200" y="2500200"/>
            <a:ext cx="2071800" cy="928800"/>
          </a:xfrm>
          <a:prstGeom prst="rect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Horas in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6 Rectángulo"/>
          <p:cNvSpPr/>
          <p:nvPr/>
        </p:nvSpPr>
        <p:spPr>
          <a:xfrm>
            <a:off x="857160" y="3429000"/>
            <a:ext cx="257184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Opera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7 Rectángulo"/>
          <p:cNvSpPr/>
          <p:nvPr/>
        </p:nvSpPr>
        <p:spPr>
          <a:xfrm>
            <a:off x="3429000" y="3429000"/>
            <a:ext cx="157176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manten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8 Rectángulo"/>
          <p:cNvSpPr/>
          <p:nvPr/>
        </p:nvSpPr>
        <p:spPr>
          <a:xfrm>
            <a:off x="857160" y="4357800"/>
            <a:ext cx="1500120" cy="92844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 efectivas Opera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9 Rectángulo"/>
          <p:cNvSpPr/>
          <p:nvPr/>
        </p:nvSpPr>
        <p:spPr>
          <a:xfrm>
            <a:off x="2357280" y="4357800"/>
            <a:ext cx="1071720" cy="92844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Horas perdidas Operacional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10 Rectángulo"/>
          <p:cNvSpPr/>
          <p:nvPr/>
        </p:nvSpPr>
        <p:spPr>
          <a:xfrm>
            <a:off x="5000760" y="3429000"/>
            <a:ext cx="92844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reserv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oras Hábiles (HH): Horas programada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: Faena opera de Lunes a Viernes en tres turnos de 8 horas, y Sábado 1 turno. Cierra 2 semanas al año por condiciones cli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H=(24 x 5 + 1 x 8) horas/semana x 50 (semanas/año)= 6400 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operación: horas en que el equipo esta funcion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: horas equipo en mantención (se cuenta desde que se para por razones previstas o imprevis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en reserva: equipo esta listo para operar pero no tiene operador/o frente donde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efectivas de operación: Horas en que el equipo esta cumpliendo su objetivo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s operacionales: Perdidas originadas en la coordinación de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 el equip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funcionan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 el equip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disponibl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to es el tiempo medio que el equipo estará fuera de uso por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repar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rápi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uede operar en comparación a lo diseñ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recis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ta funcionan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4:38:12Z</dcterms:created>
  <dc:creator>Raul Castro</dc:creator>
  <dc:description/>
  <dc:language>en-US</dc:language>
  <cp:lastModifiedBy>Raul Castro</cp:lastModifiedBy>
  <dcterms:modified xsi:type="dcterms:W3CDTF">2007-09-03T14:05:39Z</dcterms:modified>
  <cp:revision>12</cp:revision>
  <dc:subject/>
  <dc:title>Índices de Operación</dc:title>
</cp:coreProperties>
</file>