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066000"/>
            <a:ext cx="320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Semestre Primavera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324480" y="6019920"/>
            <a:ext cx="2514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Profesor: </a:t>
            </a: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</a:rPr>
              <a:t>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Prof. Auxs:     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</a:rPr>
              <a:t>Camilo Morales 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808080"/>
                </a:solidFill>
                <a:latin typeface="Arial"/>
              </a:rPr>
              <a:t>Víctor Rivero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lase Auxiliar de 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eño de Pilares Min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uz Máxima y Di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3160" y="1403280"/>
            <a:ext cx="2765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1 Estimación de Luz máxi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07360" y="193032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82960" y="205416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88800" y="1952640"/>
            <a:ext cx="648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(MP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9720" y="2238480"/>
            <a:ext cx="122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66400" y="2262240"/>
            <a:ext cx="864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(KN/m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84320" y="2535120"/>
            <a:ext cx="442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t (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61000" y="2535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82880" y="2801880"/>
            <a:ext cx="503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 (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59200" y="28018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64520" y="3336840"/>
            <a:ext cx="2335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2 Estimación de dilu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6040" y="387180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82880" y="4140360"/>
            <a:ext cx="503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 (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83240" y="4406760"/>
            <a:ext cx="540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H (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83600" y="4675320"/>
            <a:ext cx="44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n(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59200" y="4675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3520" y="4941720"/>
            <a:ext cx="41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%di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61000" y="49417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486400" y="1673280"/>
                <a:ext cx="175248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γ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562720" y="3732120"/>
                <a:ext cx="18288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L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0" name="" descr=""/>
          <p:cNvPicPr/>
          <p:nvPr/>
        </p:nvPicPr>
        <p:blipFill>
          <a:blip r:embed="rId1"/>
          <a:srcRect l="45000" t="28126" r="4375" b="38281"/>
          <a:stretch/>
        </p:blipFill>
        <p:spPr>
          <a:xfrm>
            <a:off x="3352680" y="5181480"/>
            <a:ext cx="27813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sistencia del Pilar Uni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4880" y="1523880"/>
            <a:ext cx="439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3 Resistencia del pilar (criterio Hoek and Brow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120" y="1981080"/>
            <a:ext cx="1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1760" y="2133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7000" y="1981080"/>
            <a:ext cx="573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(MP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06960" y="1981080"/>
            <a:ext cx="65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= 0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ilares no confinados artificialmente, peor caso estimación conservado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2514600"/>
            <a:ext cx="97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UCS (MP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4920" y="2971800"/>
            <a:ext cx="22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5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86400" y="2971800"/>
            <a:ext cx="1409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de la tabla roc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7720" y="5791320"/>
            <a:ext cx="1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5240" y="5791320"/>
            <a:ext cx="68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(MPa)</a:t>
            </a: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62120" y="3733920"/>
                <a:ext cx="160020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124080" y="3809880"/>
                <a:ext cx="1143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09480" y="34290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2640" y="342900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762120" y="4648320"/>
                <a:ext cx="28191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114800" y="5257800"/>
                <a:ext cx="335268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839520" y="586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stante mi para Distintos Tipos de Roca Intacta (m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867280" cy="5246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91120" y="5181120"/>
            <a:ext cx="761760" cy="2286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c1a02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eño de Pi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8600" y="1295280"/>
          <a:ext cx="876312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76312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fuerzos Pres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un Ambiente tectónico se ti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fuerzo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fuerz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2577960"/>
            <a:ext cx="4038840" cy="495360"/>
          </a:xfrm>
          <a:custGeom>
            <a:avLst/>
            <a:gdLst/>
            <a:ahLst/>
            <a:rect l="l" t="t" r="r" b="b"/>
            <a:pathLst>
              <a:path w="2544" h="312">
                <a:moveTo>
                  <a:pt x="0" y="152"/>
                </a:moveTo>
                <a:cubicBezTo>
                  <a:pt x="124" y="128"/>
                  <a:pt x="248" y="104"/>
                  <a:pt x="384" y="104"/>
                </a:cubicBezTo>
                <a:cubicBezTo>
                  <a:pt x="520" y="104"/>
                  <a:pt x="680" y="120"/>
                  <a:pt x="816" y="152"/>
                </a:cubicBezTo>
                <a:cubicBezTo>
                  <a:pt x="952" y="184"/>
                  <a:pt x="1080" y="280"/>
                  <a:pt x="1200" y="296"/>
                </a:cubicBezTo>
                <a:cubicBezTo>
                  <a:pt x="1320" y="312"/>
                  <a:pt x="1432" y="256"/>
                  <a:pt x="1536" y="248"/>
                </a:cubicBezTo>
                <a:cubicBezTo>
                  <a:pt x="1640" y="240"/>
                  <a:pt x="1720" y="280"/>
                  <a:pt x="1824" y="248"/>
                </a:cubicBezTo>
                <a:cubicBezTo>
                  <a:pt x="1928" y="216"/>
                  <a:pt x="2064" y="96"/>
                  <a:pt x="2160" y="56"/>
                </a:cubicBezTo>
                <a:cubicBezTo>
                  <a:pt x="2256" y="16"/>
                  <a:pt x="2336" y="16"/>
                  <a:pt x="2400" y="8"/>
                </a:cubicBezTo>
                <a:cubicBezTo>
                  <a:pt x="2464" y="0"/>
                  <a:pt x="2520" y="8"/>
                  <a:pt x="2544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4388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5" idx="0"/>
            <a:endCxn id="46" idx="0"/>
          </p:cNvCxnSpPr>
          <p:nvPr/>
        </p:nvCxnSpPr>
        <p:spPr>
          <a:xfrm>
            <a:off x="6857640" y="3047760"/>
            <a:ext cx="108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8077320" y="54100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endCxn id="48" idx="0"/>
          </p:cNvCxnSpPr>
          <p:nvPr/>
        </p:nvCxnSpPr>
        <p:spPr>
          <a:xfrm>
            <a:off x="8343720" y="5105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8" idx="1"/>
          </p:cNvCxnSpPr>
          <p:nvPr/>
        </p:nvCxnSpPr>
        <p:spPr>
          <a:xfrm>
            <a:off x="7810200" y="563832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endCxn id="48" idx="2"/>
          </p:cNvCxnSpPr>
          <p:nvPr/>
        </p:nvCxnSpPr>
        <p:spPr>
          <a:xfrm flipV="1">
            <a:off x="8343720" y="5866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endCxn id="48" idx="3"/>
          </p:cNvCxnSpPr>
          <p:nvPr/>
        </p:nvCxnSpPr>
        <p:spPr>
          <a:xfrm flipH="1">
            <a:off x="8610120" y="5638320"/>
            <a:ext cx="19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8149680" y="482436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35800" y="5483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48680" y="373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4640" y="3124080"/>
            <a:ext cx="4475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v = (Densidad Roca x H) / 100 [Mp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47080" y="4419720"/>
            <a:ext cx="1474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 = k x 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1960" y="5105520"/>
            <a:ext cx="190584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tectonic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hile = 2,5 –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nada = 2 –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stralia = 1,5 – 2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donesia =  0,5 – 1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pos de Pi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45686" r="0" b="0"/>
          <a:stretch/>
        </p:blipFill>
        <p:spPr>
          <a:xfrm>
            <a:off x="1828800" y="1447920"/>
            <a:ext cx="60958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x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3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vez de usar GSI directamente, estimar el  RMR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uerpo mineralizado posee 8  de potencia, 100m de ancho y 150 m de largo, su profundidad varia entre 200 a 300 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tilizar el método de Hoek and Brown para estimar la resistencia de un pilar u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eñar pilares rectangulares y m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alizar el diseño de la mina pensar en cuanto pilares se pueden introducir en el ancho del cuerpo mineralizado y en la cor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2590920"/>
            <a:ext cx="30481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terminar RMR 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sayo de compresion uniaxial valores de 230 MPa y un RQD promedio de 8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continuidades están espaciadas a 50 cm. Altamente rugosas  y sin sepa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nticipa la presencia de agua durante la construcción del tú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orientación del rumbo y manteo son favo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ca clasificada por geología como Granodior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MR: Rock Mass Rating (Bieniawski, 197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2133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8077320" cy="4156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81280" y="2895480"/>
            <a:ext cx="1219320" cy="2286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c1a02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3733920"/>
            <a:ext cx="1219320" cy="2286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c1a02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314880"/>
            <a:ext cx="1219320" cy="2286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c1a02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4724280"/>
            <a:ext cx="1218960" cy="2286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c1a02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5715000"/>
            <a:ext cx="1219320" cy="2286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c1a02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MR: Rock Mass Rating (Bieniawski, 197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1258" r="0" b="38748"/>
          <a:stretch/>
        </p:blipFill>
        <p:spPr>
          <a:xfrm>
            <a:off x="457200" y="1600200"/>
            <a:ext cx="8370720" cy="301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3733920" y="1981080"/>
            <a:ext cx="1218960" cy="2286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c1a02"/>
                </a:solidFill>
                <a:latin typeface="Arial"/>
              </a:rPr>
              <a:t>-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371600" y="1523880"/>
          <a:ext cx="6870600" cy="4222800"/>
        </p:xfrm>
        <a:graphic>
          <a:graphicData uri="http://schemas.openxmlformats.org/drawingml/2006/table">
            <a:tbl>
              <a:tblPr/>
              <a:tblGrid>
                <a:gridCol w="1619280"/>
                <a:gridCol w="250812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 Ca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 M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o (KN/m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CS (M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(M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c ang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ia alte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odior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uctu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urado en bloques, calidad de estructuras re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urado en bloques, calidad de estructuras bu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G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oom and Pi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29280" y="3429000"/>
            <a:ext cx="4190760" cy="482760"/>
          </a:xfrm>
          <a:custGeom>
            <a:avLst/>
            <a:gdLst/>
            <a:ahLst/>
            <a:rect l="l" t="t" r="r" b="b"/>
            <a:pathLst>
              <a:path w="2640" h="304">
                <a:moveTo>
                  <a:pt x="0" y="48"/>
                </a:moveTo>
                <a:cubicBezTo>
                  <a:pt x="240" y="64"/>
                  <a:pt x="480" y="80"/>
                  <a:pt x="624" y="96"/>
                </a:cubicBezTo>
                <a:cubicBezTo>
                  <a:pt x="768" y="112"/>
                  <a:pt x="808" y="112"/>
                  <a:pt x="864" y="144"/>
                </a:cubicBezTo>
                <a:cubicBezTo>
                  <a:pt x="920" y="176"/>
                  <a:pt x="920" y="272"/>
                  <a:pt x="960" y="288"/>
                </a:cubicBezTo>
                <a:cubicBezTo>
                  <a:pt x="1000" y="304"/>
                  <a:pt x="1032" y="248"/>
                  <a:pt x="1104" y="240"/>
                </a:cubicBezTo>
                <a:cubicBezTo>
                  <a:pt x="1176" y="232"/>
                  <a:pt x="1280" y="256"/>
                  <a:pt x="1392" y="240"/>
                </a:cubicBezTo>
                <a:cubicBezTo>
                  <a:pt x="1504" y="224"/>
                  <a:pt x="1696" y="168"/>
                  <a:pt x="1776" y="144"/>
                </a:cubicBezTo>
                <a:cubicBezTo>
                  <a:pt x="1856" y="120"/>
                  <a:pt x="1784" y="104"/>
                  <a:pt x="1872" y="96"/>
                </a:cubicBezTo>
                <a:cubicBezTo>
                  <a:pt x="1960" y="88"/>
                  <a:pt x="2192" y="112"/>
                  <a:pt x="2304" y="96"/>
                </a:cubicBezTo>
                <a:cubicBezTo>
                  <a:pt x="2416" y="80"/>
                  <a:pt x="2488" y="0"/>
                  <a:pt x="2544" y="0"/>
                </a:cubicBezTo>
                <a:cubicBezTo>
                  <a:pt x="2600" y="0"/>
                  <a:pt x="2616" y="72"/>
                  <a:pt x="2640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790200">
            <a:off x="4529160" y="5257800"/>
            <a:ext cx="37908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5776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75776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91840" y="44956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27440" y="38098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29600" y="34290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89800" y="46483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5105520"/>
            <a:ext cx="365760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7120" y="5334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5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534520" y="5715000"/>
            <a:ext cx="152280" cy="152280"/>
            <a:chOff x="8534520" y="5715000"/>
            <a:chExt cx="152280" cy="152280"/>
          </a:xfrm>
        </p:grpSpPr>
        <p:sp>
          <p:nvSpPr>
            <p:cNvPr id="94" name=""/>
            <p:cNvSpPr/>
            <p:nvPr/>
          </p:nvSpPr>
          <p:spPr>
            <a:xfrm>
              <a:off x="8534520" y="57150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" name=""/>
            <p:cNvCxnSpPr>
              <a:stCxn id="94" idx="1"/>
              <a:endCxn id="94" idx="5"/>
            </p:cNvCxnSpPr>
            <p:nvPr/>
          </p:nvCxnSpPr>
          <p:spPr>
            <a:xfrm>
              <a:off x="8556120" y="5737320"/>
              <a:ext cx="108360" cy="10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" name=""/>
            <p:cNvCxnSpPr>
              <a:stCxn id="94" idx="3"/>
              <a:endCxn id="94" idx="7"/>
            </p:cNvCxnSpPr>
            <p:nvPr/>
          </p:nvCxnSpPr>
          <p:spPr>
            <a:xfrm flipV="1">
              <a:off x="8556120" y="5736960"/>
              <a:ext cx="108360" cy="10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97" name=""/>
          <p:cNvSpPr/>
          <p:nvPr/>
        </p:nvSpPr>
        <p:spPr>
          <a:xfrm>
            <a:off x="8306640" y="586728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0040" y="1371600"/>
            <a:ext cx="43419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5:41:55Z</dcterms:created>
  <dc:creator>Enrique Rubio</dc:creator>
  <dc:description/>
  <dc:language>en-US</dc:language>
  <cp:lastModifiedBy>victor rivero</cp:lastModifiedBy>
  <dcterms:modified xsi:type="dcterms:W3CDTF">2007-08-09T07:10:34Z</dcterms:modified>
  <cp:revision>71</cp:revision>
  <dc:subject/>
  <dc:title>Diseño de Minas Subterráneas</dc:title>
</cp:coreProperties>
</file>