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111-49E7-4B89-951F-12C4A9BC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A63-E057-4491-AA92-4FFA891B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34D-8D9F-422E-93CA-05ED8BC0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0F8-C7B0-4798-AAA6-65F5A26B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73F-A58D-4F98-B374-045D0924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780-B58D-40CE-AE6C-E11094BF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936-C375-4C4D-9922-96A17CE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238-1FB1-49DE-BE94-7AB6CAEA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5F5-1AA1-4D30-A20A-FB70FA54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169-D89A-4127-9367-D25D7A8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502-113B-47EF-92DE-6A073573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E2C-4B16-4B2A-97BC-D17C4B40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45C8-7A8F-42EB-A3C8-E876096F3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517680"/>
          <a:ext cx="7724880" cy="62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724880" cy="62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1000"/>
            <a:ext cx="86421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gregar al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new Nodo(x, pri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x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 y |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23920"/>
            <a:ext cx="8785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Objec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StackEmp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xcepción si lista está vac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primero==null) throw new StackEmpt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recupera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bject aux=primero.valor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x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limin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=primero.sgte; ;//1º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y|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volver primer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class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517680"/>
          <a:ext cx="860256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17680"/>
                    <a:ext cx="860256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54040"/>
          <a:ext cx="8469360" cy="60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54040"/>
                    <a:ext cx="846936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44600"/>
          <a:ext cx="8506080" cy="764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506080" cy="76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0960" y="396720"/>
          <a:ext cx="8458200" cy="690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6720"/>
                    <a:ext cx="8458200" cy="690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5200" y="480960"/>
          <a:ext cx="8205840" cy="646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480960"/>
                    <a:ext cx="8205840" cy="64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1560" y="433440"/>
          <a:ext cx="8048880" cy="71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33440"/>
                    <a:ext cx="8048880" cy="71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614520"/>
          <a:ext cx="8132760" cy="66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4520"/>
                    <a:ext cx="813276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63600" y="425520"/>
          <a:ext cx="8555040" cy="62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5520"/>
                    <a:ext cx="8555040" cy="62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4600" y="187200"/>
          <a:ext cx="855648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7200"/>
                    <a:ext cx="855648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7960" y="457200"/>
          <a:ext cx="8394840" cy="66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394840" cy="66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01560" y="649440"/>
          <a:ext cx="8229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649440"/>
                    <a:ext cx="8229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691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691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180280" cy="60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180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08-06-11T15:05:41Z</dcterms:modified>
  <cp:revision>18</cp:revision>
  <dc:subject/>
  <dc:title>Sin título de diapositiva</dc:title>
</cp:coreProperties>
</file>