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AD8-D99B-48C5-813D-64830124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FF6-7665-465B-8024-B12DE305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949-3EE0-4044-B87B-673BC91C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774-8CB1-440F-B787-FA50219D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D53-E0C4-4E6C-A314-FDFC1A9F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E66-C54E-4EC8-90D8-08B1627B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1D3-0DF0-4BF5-B07C-E5BAC364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520-BFF0-48FA-BC64-3087AA6C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5C3-9137-4054-8F23-6055A087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25B-5CC8-4A33-BD84-DEBE62E7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9E5-32BB-4A3D-BB30-7C5EB3F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92E-7534-4C51-B5E2-1EACB353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81FD-7BAE-4B0F-A41C-EB35AE563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2920" y="351000"/>
          <a:ext cx="858024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51000"/>
                    <a:ext cx="858024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6720" y="480960"/>
          <a:ext cx="839808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39808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565200"/>
          <a:ext cx="845820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65200"/>
                    <a:ext cx="84582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88800" y="399960"/>
          <a:ext cx="780264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780264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03480" y="1668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200" y="1262160"/>
            <a:ext cx="51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9920" y="1262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38280" y="11901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17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961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operación borrar de TDA di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1405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-93600"/>
            <a:ext cx="28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550880"/>
          <a:ext cx="8208720" cy="1217880"/>
        </p:xfrm>
        <a:graphic>
          <a:graphicData uri="http://schemas.openxmlformats.org/drawingml/2006/table">
            <a:tbl>
              <a:tblPr/>
              <a:tblGrid>
                <a:gridCol w="517320"/>
                <a:gridCol w="490680"/>
                <a:gridCol w="1349280"/>
                <a:gridCol w="1427040"/>
                <a:gridCol w="711360"/>
                <a:gridCol w="358920"/>
                <a:gridCol w="1099800"/>
                <a:gridCol w="1517760"/>
                <a:gridCol w="73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93560" y="2629440"/>
            <a:ext cx="39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nod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2951280"/>
          <a:ext cx="8326440" cy="2611440"/>
        </p:xfrm>
        <a:graphic>
          <a:graphicData uri="http://schemas.openxmlformats.org/drawingml/2006/table">
            <a:tbl>
              <a:tblPr/>
              <a:tblGrid>
                <a:gridCol w="216000"/>
                <a:gridCol w="519480"/>
                <a:gridCol w="1059480"/>
                <a:gridCol w="1813680"/>
                <a:gridCol w="885240"/>
                <a:gridCol w="294480"/>
                <a:gridCol w="1165320"/>
                <a:gridCol w="1596240"/>
                <a:gridCol w="7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553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7848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mpara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5920" y="183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1844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479736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4797360"/>
            <a:ext cx="79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589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76280" y="450720"/>
          <a:ext cx="8104320" cy="59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10432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3680" y="438120"/>
          <a:ext cx="8454960" cy="65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38120"/>
                    <a:ext cx="845496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01640" y="476280"/>
          <a:ext cx="841680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76280"/>
                    <a:ext cx="84168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50960" y="514440"/>
          <a:ext cx="811692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514440"/>
                    <a:ext cx="811692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88880" y="501480"/>
          <a:ext cx="835524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01480"/>
                    <a:ext cx="83552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2920" y="225360"/>
          <a:ext cx="876924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25360"/>
                    <a:ext cx="876924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50720"/>
          <a:ext cx="8643600" cy="729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50720"/>
                    <a:ext cx="8643600" cy="729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3680" y="351000"/>
          <a:ext cx="8592840" cy="69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51000"/>
                    <a:ext cx="8592840" cy="69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3680" y="363600"/>
          <a:ext cx="8329320" cy="71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63600"/>
                    <a:ext cx="8329320" cy="71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33440"/>
          <a:ext cx="8494920" cy="72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494920" cy="72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565200"/>
          <a:ext cx="850716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65200"/>
                    <a:ext cx="850716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9-05T13:00:13Z</cp:lastPrinted>
  <dcterms:modified xsi:type="dcterms:W3CDTF">2008-06-17T12:33:46Z</dcterms:modified>
  <cp:revision>35</cp:revision>
  <dc:subject/>
  <dc:title>Sin título de diapositiva</dc:title>
</cp:coreProperties>
</file>