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D06-4B96-4D6E-8484-540CAC9F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875-CD04-4008-B357-D3E1C845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C15-3720-472D-8893-01D254A3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9F4-CBB6-4ADD-BEDD-0E59E702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7AA-D448-401D-8706-A578D464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007-7230-44CE-B3CF-B234BE04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7A8-7D9B-4280-886E-934BFEC8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76D-CF94-4610-8EBE-E8C8B060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B89-31EF-4F1D-8860-54141974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21C-55F1-4C13-9660-85585818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F2F-B6E2-4245-8113-420381B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DD6-F848-42CD-9AB2-A75B7204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E370-65BD-4074-A447-BF3AA330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2160" y="493560"/>
          <a:ext cx="8025120" cy="60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493560"/>
                    <a:ext cx="8025120" cy="60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88880" y="438120"/>
          <a:ext cx="8379000" cy="680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379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88880" y="438120"/>
          <a:ext cx="8604360" cy="67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60436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6200" y="388800"/>
          <a:ext cx="8680320" cy="622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88800"/>
                    <a:ext cx="868032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6200" y="399960"/>
          <a:ext cx="872964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9960"/>
                    <a:ext cx="872964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12920" y="399960"/>
          <a:ext cx="873108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99960"/>
                    <a:ext cx="873108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81040" y="519120"/>
          <a:ext cx="81900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19120"/>
                    <a:ext cx="8190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38120" y="525600"/>
          <a:ext cx="850572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525600"/>
                    <a:ext cx="850572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50880" y="525600"/>
          <a:ext cx="8016840" cy="625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525600"/>
                    <a:ext cx="8016840" cy="62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0720" y="450720"/>
          <a:ext cx="852984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450720"/>
                    <a:ext cx="852984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0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91" idx="0"/>
            <a:endCxn id="77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399960"/>
          <a:ext cx="819144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99960"/>
                    <a:ext cx="819144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916280"/>
            <a:ext cx="8569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 clases “obligatorio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335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ju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19 mej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19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12920"/>
          <a:ext cx="8467560" cy="71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12920"/>
                    <a:ext cx="8467560" cy="71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327240"/>
            <a:ext cx="89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Leer desde (posición del cursor de)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un máximo de N lí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ntregar también nº de líneas leí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er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ufferedReader archivo, String[]lineas, 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(linea=archivo.readLine())!=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n&gt;=N) U.abortar(“max de lineas =“+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s[n++] =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9960" y="399960"/>
          <a:ext cx="860580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60580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9960" y="399960"/>
          <a:ext cx="85060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5060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82640" y="601560"/>
          <a:ext cx="790416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01560"/>
                    <a:ext cx="79041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14440" y="450720"/>
          <a:ext cx="829152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50720"/>
                    <a:ext cx="829152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76280" y="450720"/>
          <a:ext cx="829152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29152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06-20T14:58:23Z</cp:lastPrinted>
  <dcterms:modified xsi:type="dcterms:W3CDTF">2008-06-25T16:15:37Z</dcterms:modified>
  <cp:revision>31</cp:revision>
  <dc:subject/>
  <dc:title>Sin título de diapositiva</dc:title>
</cp:coreProperties>
</file>