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9244-FF23-4F0D-BA22-9ADD20F4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3EB5-1806-4450-B2A0-B1536D2A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2346-98C6-490F-AB44-58BA7977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0EA8-E479-413A-A849-AEC5572A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67E7-FB4F-436A-BF04-235C8A51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E2C9-8D97-49F7-8FD8-0AB0FE07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9204-CAA0-49B4-8C07-F8D43F56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E65F-9C86-4E57-B19B-5676EB09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0912-5BA7-4055-B7BF-F5B71F05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1CA5-FDAF-4B55-9FC4-D91489F9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372D-F09E-4BD0-BC7E-9483EFF4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7FA3-94B9-4135-A5F3-0C394695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20AD-D41B-4E07-8079-DA602030080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511280"/>
          <a:ext cx="8713800" cy="3670200"/>
        </p:xfrm>
        <a:graphic>
          <a:graphicData uri="http://schemas.openxmlformats.org/drawingml/2006/table">
            <a:tbl>
              <a:tblPr/>
              <a:tblGrid>
                <a:gridCol w="1001520"/>
                <a:gridCol w="77122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ir y analizar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eño I: Generar alternativ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eño II: Evaluar alternativ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cción 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cción II y Prueb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ació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332000" y="1127160"/>
          <a:ext cx="7489800" cy="5038560"/>
        </p:xfrm>
        <a:graphic>
          <a:graphicData uri="http://schemas.openxmlformats.org/drawingml/2006/table">
            <a:tbl>
              <a:tblPr/>
              <a:tblGrid>
                <a:gridCol w="7489800"/>
              </a:tblGrid>
              <a:tr h="66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 Nota Individual: puntualidad, participación, cumplimiento de ro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Prototipo: cumplimiento de especificaciones, evaluar prototipo, estimación de tiempo de construcció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Dise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Construcció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Infor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50920" y="1341360"/>
          <a:ext cx="8642160" cy="431964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8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6373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rototipo debe ser capaz de soportar una balde con 500gr a una altura de 30 cm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6373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estructura se construirá con alambre de Cu y soldadura de estañ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508720" y="3859200"/>
            <a:ext cx="3311280" cy="1656720"/>
            <a:chOff x="5508720" y="3859200"/>
            <a:chExt cx="3311280" cy="1656720"/>
          </a:xfrm>
        </p:grpSpPr>
        <p:sp>
          <p:nvSpPr>
            <p:cNvPr id="71" name=""/>
            <p:cNvSpPr/>
            <p:nvPr/>
          </p:nvSpPr>
          <p:spPr>
            <a:xfrm>
              <a:off x="7236000" y="4292640"/>
              <a:ext cx="15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0,5 Kg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5508720" y="3859200"/>
              <a:ext cx="2016000" cy="1656720"/>
              <a:chOff x="5508720" y="3859200"/>
              <a:chExt cx="2016000" cy="1656720"/>
            </a:xfrm>
          </p:grpSpPr>
          <p:sp>
            <p:nvSpPr>
              <p:cNvPr id="73" name=""/>
              <p:cNvSpPr/>
              <p:nvPr/>
            </p:nvSpPr>
            <p:spPr>
              <a:xfrm>
                <a:off x="6516720" y="3859200"/>
                <a:ext cx="577800" cy="574560"/>
              </a:xfrm>
              <a:custGeom>
                <a:avLst/>
                <a:gdLst>
                  <a:gd name="textAreaLeft" fmla="*/ 116280 w 577800"/>
                  <a:gd name="textAreaRight" fmla="*/ 461520 w 577800"/>
                  <a:gd name="textAreaTop" fmla="*/ 115560 h 574560"/>
                  <a:gd name="textAreaBottom" fmla="*/ 459000 h 57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925" y="21600"/>
                    </a:lnTo>
                    <a:lnTo>
                      <a:pt x="4675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" name=""/>
              <p:cNvGrpSpPr/>
              <p:nvPr/>
            </p:nvGrpSpPr>
            <p:grpSpPr>
              <a:xfrm>
                <a:off x="6516720" y="4435200"/>
                <a:ext cx="577440" cy="936360"/>
                <a:chOff x="6516720" y="4435200"/>
                <a:chExt cx="577440" cy="93636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6516720" y="4545360"/>
                  <a:ext cx="246960" cy="826200"/>
                </a:xfrm>
                <a:custGeom>
                  <a:avLst/>
                  <a:gdLst>
                    <a:gd name="textAreaLeft" fmla="*/ 84600 w 246960"/>
                    <a:gd name="textAreaRight" fmla="*/ 162360 w 246960"/>
                    <a:gd name="textAreaTop" fmla="*/ 283320 h 826200"/>
                    <a:gd name="textAreaBottom" fmla="*/ 542880 h 826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1419" y="21600"/>
                      </a:lnTo>
                      <a:lnTo>
                        <a:pt x="10181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6847200" y="4545360"/>
                  <a:ext cx="246960" cy="826200"/>
                </a:xfrm>
                <a:custGeom>
                  <a:avLst/>
                  <a:gdLst>
                    <a:gd name="textAreaLeft" fmla="*/ 84600 w 246960"/>
                    <a:gd name="textAreaRight" fmla="*/ 162360 w 246960"/>
                    <a:gd name="textAreaTop" fmla="*/ 283320 h 826200"/>
                    <a:gd name="textAreaBottom" fmla="*/ 542880 h 826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1419" y="21600"/>
                      </a:lnTo>
                      <a:lnTo>
                        <a:pt x="10181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516720" y="4435200"/>
                  <a:ext cx="577440" cy="110160"/>
                </a:xfrm>
                <a:prstGeom prst="rect">
                  <a:avLst/>
                </a:prstGeom>
                <a:noFill/>
                <a:ln w="93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6805800" y="4290840"/>
                <a:ext cx="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300720" y="4435200"/>
                <a:ext cx="0" cy="9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508720" y="4724280"/>
                <a:ext cx="158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30 c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300720" y="5371920"/>
                <a:ext cx="12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630072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651672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673272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6948720" y="5371560"/>
                <a:ext cx="72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716436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738036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250920" y="1341360"/>
          <a:ext cx="8642160" cy="427032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5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ISIS DEL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Resiste la solicitació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uál fue el margen de seguridad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Fueron claros los requerimiento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Se puede optimizar el diseño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uál es el peso de la estructura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mpo promedio por soldadu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ómo influye la organización del equipo en el trabajo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826920" y="1052640"/>
          <a:ext cx="7344000" cy="400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1052640"/>
                    <a:ext cx="73440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979640" y="5084640"/>
            <a:ext cx="68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vitar sobrecalentamiento: usar disipador de calor y desenchu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76360" y="1916280"/>
            <a:ext cx="2879640" cy="86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1077840"/>
            <a:ext cx="849600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usar alambre desnudo completo o desnudo hasta un par de centímetros de la soldadura porque el forro se quema al sol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calentar con el cautín por un costado de la un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esperar que alcance temperatura de fu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plicar soldadura por el lado contrario al del cautí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soldadura debe penetrar en el espacio interior y producir aleación Cu-P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ambre debe estar totalmente limp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052640"/>
            <a:ext cx="849636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evitar absolutamente la grasa de las manos en el punto de soldad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si el alambre se ensucia, se debe lijar antes de soldar (grasa, aire de varios días, et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cautín debe reposar en disipador cuando no se está solda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desenchufar cautín si va a pasar un rato largo sin us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para determinar si cautín alcanzó la temperatura, tocar la punta del cautín con la soldad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1092240"/>
            <a:ext cx="84960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 cortar le alambre, usar antiparr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si se corta un trozo pequeño de alambre, dirigirlo hacia el suelo o la mesa porque va a salt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 soldar usar gua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para afirmar la estructura al soldar, usar alicate o prensa porque alambre se calien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 afirmar con alicate o prensa, hacerlo alejado varios centímetros del punto de soldadura porque el alicate o prensa disipará el calor y enfriará el punto de contac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588000" y="1700280"/>
          <a:ext cx="2089440" cy="174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88000" y="1700280"/>
                    <a:ext cx="2089440" cy="17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484360" y="3645000"/>
          <a:ext cx="3311640" cy="263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4360" y="3645000"/>
                    <a:ext cx="331164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50920" y="1773360"/>
            <a:ext cx="62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tener unidos hasta que la soldadura solidif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08000" y="765000"/>
            <a:ext cx="9001080" cy="52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ormación de Grup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álisis de cas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seño y Construcción de una Estructur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8446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les en los Grup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0920" y="2638440"/>
            <a:ext cx="6801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ordin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3357720"/>
            <a:ext cx="6801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ret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0920" y="4078440"/>
            <a:ext cx="6801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ncargado de Mater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0920" y="4797360"/>
            <a:ext cx="6801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al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0920" y="5518080"/>
            <a:ext cx="6801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rol de Proy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95280" y="1495440"/>
          <a:ext cx="8569440" cy="150192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 GEN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4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r la carrera de ingeniería a los procesos diseñar y implementar proyect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95280" y="1197000"/>
          <a:ext cx="8569440" cy="464652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S ESPECÍF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0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der los fundamentos del proceso de diseño y sus formas de aplicación en diferentes áreas de la ingenierí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r la estrategia de trabajo colaborativo en la resolución de los problemas que se le presenten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r técnicas de redacción de informes y efectuar presentaciones orales de acuerdo a estándares de calidad establecid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er  los aspectos éticos de un proyecto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979640" y="2060640"/>
          <a:ext cx="5904000" cy="2808360"/>
        </p:xfrm>
        <a:graphic>
          <a:graphicData uri="http://schemas.openxmlformats.org/drawingml/2006/table">
            <a:tbl>
              <a:tblPr/>
              <a:tblGrid>
                <a:gridCol w="5904000"/>
              </a:tblGrid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02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Construcción y prueb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3-17T02:56:19Z</dcterms:modified>
  <cp:revision>37</cp:revision>
  <dc:subject/>
  <dc:title>EL63A-Taller de Proyecto en Control II</dc:title>
</cp:coreProperties>
</file>