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wmf" ContentType="image/x-wmf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9309100" cy="7023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3BAB-6E43-4A5B-A462-17A56EF1F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4002-F25E-4CB8-94B4-0ED3A4D4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5D65-B173-4C2E-97D2-936645CD0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3AA0-0EAC-407A-9AEF-ABD23A532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B556-B2A8-4551-807D-B541E647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F6B6-7FF7-4E4C-9456-65FCB9E1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2444-FE5D-462E-BC49-912BF768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D5EE-7FE9-4458-82C9-85A8E5EF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2AF0-CF5D-4999-8E86-DF0C632D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5C59-E6A0-4A1B-B0B4-2EBACDB0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B889-95C4-4987-9049-32DBE830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232C-EA1E-4E0C-A949-0E85B39B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F797-AD36-40C6-9FA0-ED196A417D6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2997360"/>
            <a:ext cx="8964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El Proceso de Diseñ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252360" y="404640"/>
            <a:ext cx="8424720" cy="10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Curva 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187280" y="1989000"/>
            <a:ext cx="684072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Actividades se representan en HH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Se muestra HH programas acumuladas y HH reales (avance) acumuladas, usualmente en % respecto del to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4.- Obtener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Más información = me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Aporta ideas nue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Ojo con Normas legales, Pat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5.- Generar Conceptos alterna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i="1" lang="es-ES" sz="3200" spc="-1" strike="noStrike">
                <a:solidFill>
                  <a:srgbClr val="0033cc"/>
                </a:solidFill>
                <a:latin typeface="Times New Roman"/>
              </a:rPr>
              <a:t>BrainStorm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Modificaciones, Analogías (inspira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ustituir, combinar, modificar, adaptar, nuevos usos, eliminar, reorden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3635280" y="1125360"/>
            <a:ext cx="525780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Tomar nota de todas la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Criticas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Se buscan mejoras y combinaciones de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Más ideas mej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Estimulas ideas nuevas y “loca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6.- Evaluar Altern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atisfacer Requerimientos de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finir parámetros de evaluación: constructivos, funcionales, de manten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7.- Seleccionar Mejor Altern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Listado de Crite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Asignar valores a los distintos criterios (matriz de Interac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Analizar y comparar altern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Matriz de Inte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250920" y="1639800"/>
            <a:ext cx="8497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Comparar alternativas con varios criter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e definen crite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e ponen nota (importancia) relativa entre crite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e totaliza y normaliza, dando un ponderador por crite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Matriz de Inte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0" y="1630440"/>
            <a:ext cx="91440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8.- Comunicar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n forma escrita (manuales, repor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n forma oral (presentaci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9.- Implementar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Modelos (Físicos, Conceptuales, CAD , Diagramas de cuerpo libre, Matemático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Hojas de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imu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abricación  de Maqueta y/o Proto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Preocuparse de Aspectos esté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Concep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250920" y="1628640"/>
            <a:ext cx="3673440" cy="1079640"/>
          </a:xfrm>
          <a:prstGeom prst="cloudCallout">
            <a:avLst>
              <a:gd name="adj1" fmla="val 45333"/>
              <a:gd name="adj2" fmla="val 80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Simpl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4572000" y="4292640"/>
            <a:ext cx="4105440" cy="1369800"/>
          </a:xfrm>
          <a:prstGeom prst="cloudCallout">
            <a:avLst>
              <a:gd name="adj1" fmla="val -33254"/>
              <a:gd name="adj2" fmla="val -824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Salir del pa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859280" y="1413000"/>
            <a:ext cx="3673440" cy="1368360"/>
          </a:xfrm>
          <a:prstGeom prst="cloudCallout">
            <a:avLst>
              <a:gd name="adj1" fmla="val -57000"/>
              <a:gd name="adj2" fmla="val 697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Mente Abie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324000" y="4365720"/>
            <a:ext cx="3673440" cy="1368360"/>
          </a:xfrm>
          <a:prstGeom prst="cloudCallout">
            <a:avLst>
              <a:gd name="adj1" fmla="val 34356"/>
              <a:gd name="adj2" fmla="val -849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Experimento-Prue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1619280" y="2781360"/>
            <a:ext cx="5832360" cy="136836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Times New Roman"/>
              </a:rPr>
              <a:t>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0" y="642960"/>
            <a:ext cx="8929800" cy="2698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3"/>
          <a:stretch/>
        </p:blipFill>
        <p:spPr>
          <a:xfrm>
            <a:off x="3143160" y="3429000"/>
            <a:ext cx="41688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28760" y="71388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 de diseño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kirk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13840" y="150012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nal Forth y Clyde fue construido en 177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nal Union entre Falkirk y Edinburgh fue finalizado en 182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asta 1963 estuvieron unidos por 11 exclus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2002 entró en servicio un transportador rotacional de b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falkirk"/>
          <p:cNvPicPr/>
          <p:nvPr/>
        </p:nvPicPr>
        <p:blipFill>
          <a:blip r:embed="rId2"/>
          <a:stretch/>
        </p:blipFill>
        <p:spPr>
          <a:xfrm>
            <a:off x="4643280" y="642960"/>
            <a:ext cx="4260960" cy="5580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Graphic1"/>
          <p:cNvPicPr/>
          <p:nvPr/>
        </p:nvPicPr>
        <p:blipFill>
          <a:blip r:embed="rId3"/>
          <a:stretch/>
        </p:blipFill>
        <p:spPr>
          <a:xfrm>
            <a:off x="4643280" y="2500200"/>
            <a:ext cx="4214880" cy="20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28760" y="71388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 de diseño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kirk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13840" y="150012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 entrar un bote en el compartimiento, el sistema gira permitiendo que el bote baje al nivel del canal inferi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Imgp16022"/>
          <p:cNvPicPr/>
          <p:nvPr/>
        </p:nvPicPr>
        <p:blipFill>
          <a:blip r:embed="rId2"/>
          <a:stretch/>
        </p:blipFill>
        <p:spPr>
          <a:xfrm>
            <a:off x="1571760" y="3541680"/>
            <a:ext cx="2698560" cy="3030480"/>
          </a:xfrm>
          <a:prstGeom prst="rect">
            <a:avLst/>
          </a:prstGeom>
          <a:ln w="0">
            <a:noFill/>
          </a:ln>
        </p:spPr>
      </p:pic>
      <p:sp>
        <p:nvSpPr>
          <p:cNvPr id="98" name="Line 9"/>
          <p:cNvSpPr/>
          <p:nvPr/>
        </p:nvSpPr>
        <p:spPr>
          <a:xfrm>
            <a:off x="3597120" y="3643200"/>
            <a:ext cx="46080" cy="26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3500280" y="4714920"/>
            <a:ext cx="785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66"/>
                </a:solidFill>
                <a:latin typeface="Comic Sans MS"/>
              </a:rPr>
              <a:t>3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falkirkwheel1"/>
          <p:cNvPicPr/>
          <p:nvPr/>
        </p:nvPicPr>
        <p:blipFill>
          <a:blip r:embed="rId3"/>
          <a:stretch/>
        </p:blipFill>
        <p:spPr>
          <a:xfrm>
            <a:off x="4357800" y="714240"/>
            <a:ext cx="46162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28760" y="71388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 de diseño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kirk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13840" y="1500120"/>
            <a:ext cx="30718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Proceso completo toma sólo 15 minu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da “tubo” pesa cerca de 300 toneladas, considerando estructura, agua y bo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Imgp16024"/>
          <p:cNvPicPr/>
          <p:nvPr/>
        </p:nvPicPr>
        <p:blipFill>
          <a:blip r:embed="rId2"/>
          <a:srcRect l="3667" t="0" r="4022" b="1932"/>
          <a:stretch/>
        </p:blipFill>
        <p:spPr>
          <a:xfrm>
            <a:off x="3186000" y="1571760"/>
            <a:ext cx="588672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28760" y="71388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 de diseño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kirk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13840" y="1500120"/>
            <a:ext cx="30718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sistema está balance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a una máquina de 22 K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sume sólo 1,5 KW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Imgp16038"/>
          <p:cNvPicPr/>
          <p:nvPr/>
        </p:nvPicPr>
        <p:blipFill>
          <a:blip r:embed="rId2"/>
          <a:srcRect l="0" t="0" r="6961" b="0"/>
          <a:stretch/>
        </p:blipFill>
        <p:spPr>
          <a:xfrm>
            <a:off x="3257640" y="1285920"/>
            <a:ext cx="58150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Proceso de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395280" y="1557360"/>
            <a:ext cx="853272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1.- Reconocer Necesidad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2.- Definir el Problema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3.- Planificar y Administrar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4.- Obtener Información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5.- Generar Conceptos Alternativos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Proceso de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6.- Evaluar Alternativas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7.- Seleccionar Concepto más Prometedor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8.- Comunicar Diseño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9.- Implementar Diseñ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1.- Reconocer Neces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finir “Consumidores”-”Clientes” (no solo usuar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Identificar que necesi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2.- Definir Probl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67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claración del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Requerimientos de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5867280" y="1557360"/>
            <a:ext cx="29163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General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No a ideas preconceb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Expresar en términos fun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796000" y="4076640"/>
            <a:ext cx="29163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Ser Prec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Validar con “clientes” (en lo pos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Expresar en términos fun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3.- Planificar y Administr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Uso de cartas Gantt, Curvas de A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059280" y="292428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No perder el control de plazos ni recursos invert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132000" y="3789360"/>
            <a:ext cx="345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Dependenc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Ruta Cr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252360" y="-10044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Carta Gant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324000" y="907920"/>
            <a:ext cx="8820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4680" indent="-274680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Ventaj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Identifica actividades al nivel de agregación  deseado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Dimensiona actividades en términos de unidades de tiempo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Señala los recursos necesario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Controla el avance del progr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60360" y="3213000"/>
            <a:ext cx="88200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4680" indent="-274680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sventaj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Manejo de un número limitado de actividade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No permite trabajar fácilmente las interrelaciones de secuencia entre diferentes actividade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La trayectoria crítica no se muestra claramente, ni presenta ventajas para su análi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gantt"/>
          <p:cNvPicPr/>
          <p:nvPr/>
        </p:nvPicPr>
        <p:blipFill>
          <a:blip r:embed="rId2"/>
          <a:stretch/>
        </p:blipFill>
        <p:spPr>
          <a:xfrm>
            <a:off x="642960" y="428760"/>
            <a:ext cx="825012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3-25T16:59:02Z</dcterms:modified>
  <cp:revision>53</cp:revision>
  <dc:subject/>
  <dc:title>EL63A-Taller de Proyecto en Control II</dc:title>
</cp:coreProperties>
</file>