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7A6-3CB3-4221-A413-BAAFA0AE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6A3-D1BF-4621-BB5E-75095D7A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A5A-4360-48AC-8300-025A7A0D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715-59F0-4278-A8AC-4233DFDD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16D2-25FB-4B79-A8FC-46F56D5C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4A94-CD54-40F8-96F1-DC42B5E6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13C-9797-443D-A730-931BC12E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7DC-DE63-41BF-BAA5-C8134222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799-F087-455B-92C7-203C2926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83F-B9BC-4305-A5FC-B35232C9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E42-C4FA-4835-8172-A439F6BA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037E-B79D-41B2-AA3F-E6D4A3AB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F36F-4B2A-46BF-A9C4-941426EB485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álisis Proyecto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28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332000" y="1127160"/>
          <a:ext cx="7489800" cy="503568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Nota Individual: puntualidad, participación, cumplimiento de ro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Trebuchet MS"/>
              </a:rPr>
              <a:t>Proyecto de Ingenierí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457200" y="1557360"/>
            <a:ext cx="73548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fue lo más relev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les gust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cc"/>
                </a:solidFill>
                <a:latin typeface="Trebuchet MS"/>
              </a:rPr>
              <a:t>Proyecto de Ingenierí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1197000"/>
          <a:ext cx="8569440" cy="464508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Aclarar los reque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57000"/>
            <a:ext cx="7354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Fueron claros los requerimien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faltó por preguntar o aclar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balde vibraba: ¿De quién es la responsabil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Protot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prender a sol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ender uso d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quirir elementos para diseño (resistencia de materiales, dificultades práctic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mitió planificación: ¿Se puede diseñar sin experie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Diseño y Constr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rices de Interacción y D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mbios en el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justarse a los plaz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so de elementos de 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ingenieria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                      EL69F- Trabajo de Títu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Estruc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1628640"/>
            <a:ext cx="1224000" cy="216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62864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1700280"/>
            <a:ext cx="1657080" cy="2089080"/>
          </a:xfrm>
          <a:prstGeom prst="parallelogram">
            <a:avLst>
              <a:gd name="adj" fmla="val 25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1628640"/>
            <a:ext cx="1224000" cy="2087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148428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56000" y="1773360"/>
            <a:ext cx="576360" cy="1942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4000" y="1773360"/>
            <a:ext cx="216000" cy="71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7164360" y="2924280"/>
            <a:ext cx="216000" cy="79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364500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364500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1628640"/>
            <a:ext cx="21600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1628640"/>
            <a:ext cx="21564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414972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60200">
            <a:off x="4140000" y="436536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rot="19639800">
            <a:off x="2556000" y="436536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4165800">
            <a:off x="4662000" y="4998960"/>
            <a:ext cx="938160" cy="46836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600 h 468360"/>
              <a:gd name="textAreaBottom" fmla="*/ 39276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rot="17434200">
            <a:off x="2070000" y="5007240"/>
            <a:ext cx="938160" cy="46836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600 h 468360"/>
              <a:gd name="textAreaBottom" fmla="*/ 39276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7440" y="5614920"/>
            <a:ext cx="496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8 Marcador de contenido"/>
          <p:cNvSpPr/>
          <p:nvPr/>
        </p:nvSpPr>
        <p:spPr>
          <a:xfrm>
            <a:off x="6443640" y="4365720"/>
            <a:ext cx="270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b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3526920" y="4545000"/>
            <a:ext cx="576360" cy="360360"/>
          </a:xfrm>
          <a:prstGeom prst="rightArrow">
            <a:avLst>
              <a:gd name="adj1" fmla="val 41852"/>
              <a:gd name="adj2" fmla="val 64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760800">
            <a:off x="4210920" y="4365360"/>
            <a:ext cx="576360" cy="360360"/>
          </a:xfrm>
          <a:prstGeom prst="rightArrow">
            <a:avLst>
              <a:gd name="adj1" fmla="val 41852"/>
              <a:gd name="adj2" fmla="val 64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rot="8839200">
            <a:off x="2841840" y="4365000"/>
            <a:ext cx="576360" cy="360720"/>
          </a:xfrm>
          <a:prstGeom prst="rightArrow">
            <a:avLst>
              <a:gd name="adj1" fmla="val 41852"/>
              <a:gd name="adj2" fmla="val 6470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Presentacion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14241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cer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pectos formales: texto, imágenes, fon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sentador (preparar a la audiencia y mantener la atención, vocabulario técnico y f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sayar presentaciones: tiempo, coordinación entre presentadores, probar diaposi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Uchile</cp:lastModifiedBy>
  <dcterms:modified xsi:type="dcterms:W3CDTF">2008-05-09T18:12:56Z</dcterms:modified>
  <cp:revision>2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75446294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