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2822-F987-461B-A513-3E65EB5A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CDDB-C7A0-45CA-8AED-AB4E7AEF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90D0-D54D-483B-991D-63C0B620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4C54-64D0-484E-B673-86D6F74C0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0B8A-08E1-41BF-95CD-2A4D432D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1528-7CF2-49AA-B30A-D9743E13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A110-F79B-4A69-8038-E6526832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831A-7636-4D51-9E73-E7137F90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71CD-8E85-4899-A9A2-6B3AECC9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31C0-0147-4DA5-B099-D1B25920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EEEC-BBA5-4B70-90CE-6C5A6D8B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0533-760B-4A02-9126-64BA889E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C662-E4D4-4D3A-A089-0F73556C54B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I-110 Introducción a la Ingeniería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nálisis Proyecto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551628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.: Héctor Agu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332000" y="1127160"/>
          <a:ext cx="7489800" cy="5035680"/>
        </p:xfrm>
        <a:graphic>
          <a:graphicData uri="http://schemas.openxmlformats.org/drawingml/2006/table">
            <a:tbl>
              <a:tblPr/>
              <a:tblGrid>
                <a:gridCol w="7489800"/>
              </a:tblGrid>
              <a:tr h="65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 Nota Individual: puntualidad, participación, cumplimiento de ro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Prototipo: cumplimiento de especificaciones, evaluar prototipo, estimación de tiempo de construcció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Dise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Construcció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Infor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cc"/>
                </a:solidFill>
                <a:latin typeface="Trebuchet MS"/>
              </a:rPr>
              <a:t>Proyecto de Ingeniería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8 Marcador de contenido"/>
          <p:cNvSpPr/>
          <p:nvPr/>
        </p:nvSpPr>
        <p:spPr>
          <a:xfrm>
            <a:off x="457200" y="1557360"/>
            <a:ext cx="73548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fue lo más releva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les gust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0000cc"/>
                </a:solidFill>
                <a:latin typeface="Trebuchet MS"/>
              </a:rPr>
              <a:t>Proyecto de Ingeniería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95280" y="1197000"/>
          <a:ext cx="8569440" cy="464508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S ESPECÍF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0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der los fundamentos del proceso de diseño y sus formas de aplicación en diferentes áreas de la ingenierí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r la estrategia de trabajo colaborativo en la resolución de los problemas que se le presenten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r técnicas de redacción de informes y efectuar presentaciones orales de acuerdo a estándares de calidad establecido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er  los aspectos éticos de un proyecto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0" y="642960"/>
            <a:ext cx="8929800" cy="2698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3143160" y="3429000"/>
            <a:ext cx="41688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Aclarar los requerimi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57000"/>
            <a:ext cx="7354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Fueron claros los requerimient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faltó por preguntar o aclar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balde vibraba: ¿De quién es la responsabilid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Prototi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prender a sol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tender uso del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dquirir elementos para diseño (resistencia de materiales, dificultades práctic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mitió planificación: ¿Se puede diseñar sin experienc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Diseño y Constr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rices de Interacción y Dec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mbios en el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justarse a los plaz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so de elementos de segur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ingenieria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                      EL69F- Trabajo de Títu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Estructu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35280" y="1628640"/>
            <a:ext cx="1224000" cy="216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1628640"/>
            <a:ext cx="863640" cy="432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35280" y="1700280"/>
            <a:ext cx="1657080" cy="2089080"/>
          </a:xfrm>
          <a:prstGeom prst="parallelogram">
            <a:avLst>
              <a:gd name="adj" fmla="val 25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1628640"/>
            <a:ext cx="1224000" cy="208764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96000" y="1484280"/>
            <a:ext cx="863640" cy="432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156000" y="1773360"/>
            <a:ext cx="576360" cy="1942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04000" y="1773360"/>
            <a:ext cx="216000" cy="7189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7164360" y="2924280"/>
            <a:ext cx="216000" cy="7920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16360" y="3645000"/>
            <a:ext cx="215640" cy="215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92360" y="3645000"/>
            <a:ext cx="215640" cy="215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1628640"/>
            <a:ext cx="216000" cy="21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1628640"/>
            <a:ext cx="215640" cy="21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48000" y="4149720"/>
            <a:ext cx="938160" cy="46980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960 h 469800"/>
              <a:gd name="textAreaBottom" fmla="*/ 39384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960200">
            <a:off x="4140000" y="4365360"/>
            <a:ext cx="938160" cy="46980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960 h 469800"/>
              <a:gd name="textAreaBottom" fmla="*/ 39384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rot="19639800">
            <a:off x="2556000" y="4365360"/>
            <a:ext cx="938160" cy="46980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960 h 469800"/>
              <a:gd name="textAreaBottom" fmla="*/ 39384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4165800">
            <a:off x="4662000" y="4998960"/>
            <a:ext cx="938160" cy="46836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600 h 468360"/>
              <a:gd name="textAreaBottom" fmla="*/ 39276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rot="17434200">
            <a:off x="2070000" y="5007240"/>
            <a:ext cx="938160" cy="46836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600 h 468360"/>
              <a:gd name="textAreaBottom" fmla="*/ 39276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17440" y="5614920"/>
            <a:ext cx="4965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8 Marcador de contenido"/>
          <p:cNvSpPr/>
          <p:nvPr/>
        </p:nvSpPr>
        <p:spPr>
          <a:xfrm>
            <a:off x="6443640" y="4365720"/>
            <a:ext cx="2700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ibr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3526920" y="4545000"/>
            <a:ext cx="576360" cy="360360"/>
          </a:xfrm>
          <a:prstGeom prst="rightArrow">
            <a:avLst>
              <a:gd name="adj1" fmla="val 41852"/>
              <a:gd name="adj2" fmla="val 6476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760800">
            <a:off x="4210920" y="4365360"/>
            <a:ext cx="576360" cy="360360"/>
          </a:xfrm>
          <a:prstGeom prst="rightArrow">
            <a:avLst>
              <a:gd name="adj1" fmla="val 41852"/>
              <a:gd name="adj2" fmla="val 6476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rot="8839200">
            <a:off x="2841840" y="4365000"/>
            <a:ext cx="576360" cy="360720"/>
          </a:xfrm>
          <a:prstGeom prst="rightArrow">
            <a:avLst>
              <a:gd name="adj1" fmla="val 41852"/>
              <a:gd name="adj2" fmla="val 6470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Presentacion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79280" y="14241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acer 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spectos formales: texto, imágenes, fond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esentador (preparar a la audiencia y mantener la atención, vocabulario técnico y f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sayar presentaciones: tiempo, coordinación entre presentadores, probar diapositiv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3:11:50Z</dcterms:created>
  <dc:creator>Jvargas</dc:creator>
  <dc:description/>
  <dc:language>en-US</dc:language>
  <cp:lastModifiedBy>Uchile</cp:lastModifiedBy>
  <dcterms:modified xsi:type="dcterms:W3CDTF">2008-05-09T18:12:56Z</dcterms:modified>
  <cp:revision>2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75446294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EI110 - Clases pendientes</vt:lpwstr>
  </property>
</Properties>
</file>