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8160-EA8F-435B-8BF5-47DDAF08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3AC8-7E1D-4AF0-A15E-68551A67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99F6-385B-44EA-96F6-010DA006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59C1-98DC-48D2-ABC9-DC5928F6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1181-997A-4DD4-94E0-6858BFEF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AE44-8D4B-40B2-BB03-028414EB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F382-BE26-4C79-83EF-CFB75B02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8C7C-D8D3-4901-B9D3-F0A993A3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59D-E0CC-4FB2-A51C-970A4290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D4BF-FC05-4EDA-95DA-FB19630A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2156-5D8B-4200-85DA-53D6BB41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8A9B-2B01-4823-AA4F-98BE684F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7DEE-43D0-4A00-BCD4-8835ECD3E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s de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tapas de un proyecto de 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22200" y="2060640"/>
            <a:ext cx="1729080" cy="1008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studio(s)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(pre)fact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052640"/>
            <a:ext cx="1908000" cy="863640"/>
          </a:xfrm>
          <a:prstGeom prst="cloudCallout">
            <a:avLst>
              <a:gd name="adj1" fmla="val -38851"/>
              <a:gd name="adj2" fmla="val 443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ce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11640" y="2421000"/>
            <a:ext cx="287280" cy="287280"/>
          </a:xfrm>
          <a:prstGeom prst="diamond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9" idx="0"/>
            <a:endCxn id="48" idx="1"/>
          </p:cNvCxnSpPr>
          <p:nvPr/>
        </p:nvCxnSpPr>
        <p:spPr>
          <a:xfrm flipH="1" rot="16200000">
            <a:off x="492840" y="1836720"/>
            <a:ext cx="699120" cy="7592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8" idx="3"/>
            <a:endCxn id="50" idx="1"/>
          </p:cNvCxnSpPr>
          <p:nvPr/>
        </p:nvCxnSpPr>
        <p:spPr>
          <a:xfrm>
            <a:off x="2950920" y="256500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2"/>
            <a:endCxn id="48" idx="2"/>
          </p:cNvCxnSpPr>
          <p:nvPr/>
        </p:nvCxnSpPr>
        <p:spPr>
          <a:xfrm rot="5400000">
            <a:off x="2590920" y="2203920"/>
            <a:ext cx="361080" cy="1369080"/>
          </a:xfrm>
          <a:prstGeom prst="bentConnector3">
            <a:avLst>
              <a:gd name="adj1" fmla="val 163373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951280" y="148428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ch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0" idx="0"/>
            <a:endCxn id="54" idx="2"/>
          </p:cNvCxnSpPr>
          <p:nvPr/>
        </p:nvCxnSpPr>
        <p:spPr>
          <a:xfrm flipV="1">
            <a:off x="3455640" y="1915920"/>
            <a:ext cx="1080" cy="5054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886200" y="2349360"/>
            <a:ext cx="129528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0" idx="3"/>
            <a:endCxn id="56" idx="1"/>
          </p:cNvCxnSpPr>
          <p:nvPr/>
        </p:nvCxnSpPr>
        <p:spPr>
          <a:xfrm>
            <a:off x="3598920" y="256500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5759280" y="191628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59280" y="227484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59280" y="263700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9280" y="299556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6" idx="3"/>
            <a:endCxn id="58" idx="1"/>
          </p:cNvCxnSpPr>
          <p:nvPr/>
        </p:nvCxnSpPr>
        <p:spPr>
          <a:xfrm flipV="1">
            <a:off x="5181120" y="2060280"/>
            <a:ext cx="578520" cy="50544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6" idx="3"/>
            <a:endCxn id="59" idx="1"/>
          </p:cNvCxnSpPr>
          <p:nvPr/>
        </p:nvCxnSpPr>
        <p:spPr>
          <a:xfrm flipV="1">
            <a:off x="5181120" y="2418840"/>
            <a:ext cx="578520" cy="1468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6" idx="3"/>
            <a:endCxn id="60" idx="1"/>
          </p:cNvCxnSpPr>
          <p:nvPr/>
        </p:nvCxnSpPr>
        <p:spPr>
          <a:xfrm>
            <a:off x="5181120" y="2565360"/>
            <a:ext cx="578520" cy="21672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6" idx="3"/>
            <a:endCxn id="61" idx="1"/>
          </p:cNvCxnSpPr>
          <p:nvPr/>
        </p:nvCxnSpPr>
        <p:spPr>
          <a:xfrm>
            <a:off x="5181120" y="2565360"/>
            <a:ext cx="578520" cy="5752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7272360" y="2421000"/>
            <a:ext cx="144000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jud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85080" y="1773360"/>
            <a:ext cx="216000" cy="172692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6200" y="4724280"/>
            <a:ext cx="129708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30560" y="4724280"/>
            <a:ext cx="122400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38560" y="4005360"/>
            <a:ext cx="936720" cy="57600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de En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14920" y="4724280"/>
            <a:ext cx="122364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 Det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4184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928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e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 Mar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6" idx="3"/>
            <a:endCxn id="68" idx="1"/>
          </p:cNvCxnSpPr>
          <p:nvPr/>
        </p:nvCxnSpPr>
        <p:spPr>
          <a:xfrm flipH="1">
            <a:off x="645840" y="2636640"/>
            <a:ext cx="8066880" cy="2448360"/>
          </a:xfrm>
          <a:prstGeom prst="bentConnector5">
            <a:avLst>
              <a:gd name="adj1" fmla="val -2829"/>
              <a:gd name="adj2" fmla="val 47014"/>
              <a:gd name="adj3" fmla="val 102829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3"/>
            <a:endCxn id="69" idx="1"/>
          </p:cNvCxnSpPr>
          <p:nvPr/>
        </p:nvCxnSpPr>
        <p:spPr>
          <a:xfrm>
            <a:off x="194328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9" idx="3"/>
            <a:endCxn id="71" idx="1"/>
          </p:cNvCxnSpPr>
          <p:nvPr/>
        </p:nvCxnSpPr>
        <p:spPr>
          <a:xfrm>
            <a:off x="3454200" y="508428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9" idx="0"/>
            <a:endCxn id="70" idx="1"/>
          </p:cNvCxnSpPr>
          <p:nvPr/>
        </p:nvCxnSpPr>
        <p:spPr>
          <a:xfrm flipH="1" flipV="1" rot="5400000">
            <a:off x="2825640" y="4311000"/>
            <a:ext cx="430920" cy="39600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cxnSp>
        <p:nvCxnSpPr>
          <p:cNvPr id="78" name=""/>
          <p:cNvCxnSpPr>
            <a:stCxn id="70" idx="3"/>
            <a:endCxn id="71" idx="0"/>
          </p:cNvCxnSpPr>
          <p:nvPr/>
        </p:nvCxnSpPr>
        <p:spPr>
          <a:xfrm>
            <a:off x="4174920" y="4293720"/>
            <a:ext cx="253080" cy="43092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5616720" y="400536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 de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71" idx="3"/>
            <a:endCxn id="72" idx="1"/>
          </p:cNvCxnSpPr>
          <p:nvPr/>
        </p:nvCxnSpPr>
        <p:spPr>
          <a:xfrm>
            <a:off x="5038560" y="5084280"/>
            <a:ext cx="504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1" idx="3"/>
            <a:endCxn id="79" idx="1"/>
          </p:cNvCxnSpPr>
          <p:nvPr/>
        </p:nvCxnSpPr>
        <p:spPr>
          <a:xfrm flipV="1">
            <a:off x="5038560" y="4220280"/>
            <a:ext cx="578880" cy="864360"/>
          </a:xfrm>
          <a:prstGeom prst="bentConnector3">
            <a:avLst>
              <a:gd name="adj1" fmla="val 49968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3"/>
            <a:endCxn id="73" idx="1"/>
          </p:cNvCxnSpPr>
          <p:nvPr/>
        </p:nvCxnSpPr>
        <p:spPr>
          <a:xfrm>
            <a:off x="691200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633744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5016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16720" y="587700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érmino (Entre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73" idx="3"/>
            <a:endCxn id="85" idx="0"/>
          </p:cNvCxnSpPr>
          <p:nvPr/>
        </p:nvCxnSpPr>
        <p:spPr>
          <a:xfrm flipH="1">
            <a:off x="6876360" y="5084280"/>
            <a:ext cx="1693080" cy="793080"/>
          </a:xfrm>
          <a:prstGeom prst="bentConnector4">
            <a:avLst>
              <a:gd name="adj1" fmla="val -13504"/>
              <a:gd name="adj2" fmla="val 72706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pos de Proyecto Según Ejecu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- Ingeniería Propi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- Ingeniería llave en mano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- Ingeniería por Administración Delegada(*)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- Ingeniería por Administración Controlad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08000" y="260280"/>
          <a:ext cx="8856720" cy="53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60280"/>
                    <a:ext cx="8856720" cy="53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ipos de Contrato d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rvicios de 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- Suma alzad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- Precio unitario por hora efectiv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- Precio unitario por hora efectiva (máximo garantizado)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- Costos directos y suma alzada de gastos gener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inologí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1484280"/>
            <a:ext cx="46083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liente-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tratista – Empres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Kick off Meeting (Reunión de Part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Formación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mites de Bat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der de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sul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Manual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uniones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rchiv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inologí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1484280"/>
            <a:ext cx="46083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liente-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tratista – Empres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Kick off Meeting (Reunión de Part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Formación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mites de Bat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der de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sul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Manual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uniones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rchiv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rminología Contractual - Leg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1484280"/>
            <a:ext cx="575928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Bases de la propuest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ontrat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ceso de contratación abiert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ceso de contratación direct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ul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Garant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e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stados de P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oras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iciación de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Ordene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I2</cp:lastModifiedBy>
  <dcterms:modified xsi:type="dcterms:W3CDTF">2008-06-11T22:04:43Z</dcterms:modified>
  <cp:revision>17</cp:revision>
  <dc:subject/>
  <dc:title>EL63A-Taller de Proyecto en Control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948759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clase de esta semana</vt:lpwstr>
  </property>
</Properties>
</file>