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CD41-3B8E-4574-AA73-146E33F9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EADD-E7E7-45D4-8EF6-BB551DA0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987F-DB8F-4807-9514-32D353446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7D59-197C-4E01-978C-B4FE2CCD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67CF-445C-425B-A154-6CE0FA2D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8027-6D4B-4563-8DA6-4358D0DF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6212-6FC1-48C5-B0BE-E55AB85B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8513-F369-42E3-8DA9-8D71F319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ECAB-A40C-43D1-9797-67CC3C45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E9C-444F-4873-9DF9-9C1472A6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052F-477E-4593-8046-6D84AEE0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AB82-969F-4D09-A9C1-1A5C80E1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4931-35C7-443A-922E-70C2C2A6D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"/>
          <p:cNvGrpSpPr/>
          <p:nvPr/>
        </p:nvGrpSpPr>
        <p:grpSpPr>
          <a:xfrm>
            <a:off x="1197000" y="898560"/>
            <a:ext cx="4259160" cy="7705800"/>
            <a:chOff x="1197000" y="898560"/>
            <a:chExt cx="4259160" cy="7705800"/>
          </a:xfrm>
        </p:grpSpPr>
        <p:pic>
          <p:nvPicPr>
            <p:cNvPr id="42" name="Picture 4" descr=""/>
            <p:cNvPicPr/>
            <p:nvPr/>
          </p:nvPicPr>
          <p:blipFill>
            <a:blip r:embed="rId1"/>
            <a:srcRect l="12501" t="21166" r="39287" b="8730"/>
            <a:stretch/>
          </p:blipFill>
          <p:spPr>
            <a:xfrm>
              <a:off x="1341360" y="898560"/>
              <a:ext cx="3819600" cy="41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5" descr=""/>
            <p:cNvPicPr/>
            <p:nvPr/>
          </p:nvPicPr>
          <p:blipFill>
            <a:blip r:embed="rId2"/>
            <a:srcRect l="12524" t="19213" r="35304" b="25000"/>
            <a:stretch/>
          </p:blipFill>
          <p:spPr>
            <a:xfrm>
              <a:off x="1341360" y="5075280"/>
              <a:ext cx="4114800" cy="33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Rectangle 6"/>
            <p:cNvSpPr/>
            <p:nvPr/>
          </p:nvSpPr>
          <p:spPr>
            <a:xfrm>
              <a:off x="1197000" y="1187280"/>
              <a:ext cx="216000" cy="741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4T22:34:55Z</dcterms:created>
  <dc:creator>Luis Sota</dc:creator>
  <dc:description/>
  <dc:language>en-US</dc:language>
  <cp:lastModifiedBy>Ucurso</cp:lastModifiedBy>
  <dcterms:modified xsi:type="dcterms:W3CDTF">2008-03-21T16:52:45Z</dcterms:modified>
  <cp:revision>1</cp:revision>
  <dc:subject/>
  <dc:title>Slide 1</dc:title>
</cp:coreProperties>
</file>