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6AE-DEB8-456A-8D46-ED91C187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223-B6C3-4D39-8061-BC73E0A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843-70F8-45FF-B67B-F1AB91E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C76-7C29-4B26-9527-5F634077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77E-22FE-4C02-A875-C18D4FDE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496-9941-49D8-A052-0E81E32F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726-B4A3-4E54-8D67-2E25A1E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49A-F404-45C3-A026-5B3DF768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CB6-E01C-493D-BD78-FC4D0343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BA4-62AA-445F-919A-EC75C1A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CA8-BB9D-4D72-85AF-4EAD20F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7B8-EAC3-42AD-84F2-E2DB566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71D-4585-41FC-B74B-8DB5605B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35E4E802-FF7E-479F-B6A3-09D32E36565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Práctica: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ación Rajo Subterrán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6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7524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iene una veta de profundidad indeterminada (no se conoce donde termina), de largo 300m y ancho 100m. Además se tiene un bloque que se encuentra a 300m de profundidad, la cuál no se sabe si se extrae a través de una mina subterránea o por rajo abierto. Para efectos de cálculo, considere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rajo = 1,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subterránea = 6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planta = 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fundición y refinación (venta) = 0,3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F = 1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 del mineral = 1,5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upe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=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loque en cuestión posee una altura de 1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acuerdo a los datos entregados, calcule el beneficio del bloque y concluya si el bloque debe ser extraído por  un método subterráneo o por rajo a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23Z</dcterms:modified>
  <cp:revision>30</cp:revision>
  <dc:subject/>
  <dc:title>Design and Planning of Block Caving Operations</dc:title>
</cp:coreProperties>
</file>