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2B8D-BDB1-4729-B467-B88C9B00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BFE-FC39-40D4-91F7-E4BF167D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2565-1D0B-40F7-9632-029FC0304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4AD7-3F70-450B-91A7-2A076EB3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BB6C-10A5-4993-A880-5E73A445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5C1B-2757-424C-97ED-19D9CD68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5F07-AB12-4165-BBAF-EBC813C4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F5C1-34B4-424E-8F2A-FAD6E878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6E58-795A-4F19-B273-E263F06A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1CE0-CBA8-41F9-9332-776D172E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115-2296-4084-B4F6-34327BF8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BCB0-BF43-4B2F-BB32-ECA8BB10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2D54-121A-4F33-9B49-F5CF72AE8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46F92961-0BF9-44FF-90F8-69C2DDEE13E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lase Práctica: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Valoración Rajo Subterráne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Problema a Res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48640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Problema a Res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1752480"/>
            <a:ext cx="7620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tiene una veta de profundidad indeterminada (no se conoce donde termina), de largo 300m y ancho 100m. Además se tiene un bloque que se encuentra a 300m de profundidad, la cuál no se sabe si se extrae a través de una mina subterránea o por rajo abierto. Para efectos de cálculo, considere los siguientes 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mina rajo = 1,5 US$/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mina subterránea = 6US$/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planta = 5 US$/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de fundición y refinación (venta) = 0,3 US$/l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F = 100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cio del mineral = 1,5 US$/l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uperació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8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ey = 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l Problema a Res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bloque en cuestión posee una altura de 10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 acuerdo a los datos entregados, calcule el beneficio del bloque y concluya si el bloque debe ser extraído por  un método subterráneo o por rajo abie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Freddy Rojas</cp:lastModifiedBy>
  <dcterms:modified xsi:type="dcterms:W3CDTF">2008-03-28T21:54:23Z</dcterms:modified>
  <cp:revision>30</cp:revision>
  <dc:subject/>
  <dc:title>Design and Planning of Block Caving Operations</dc:title>
</cp:coreProperties>
</file>