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D24-0E9B-4E0B-8401-AEF9D54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1B8-395A-4B44-9FA0-4ECBA7D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0CB-22F7-4A82-9F28-71F04445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989-E694-439B-A0ED-08E26D47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CE1-C338-401F-A26E-5C0C190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AE9-9D6F-4203-9BF2-2659FBC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59D-596F-4059-9283-8D5E258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572-265F-4F9B-9A07-3E45981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F5C-16AB-40BB-AA8E-29A1E6F7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937-6FD4-4A83-B6FC-7886F71C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B76-E352-4FBC-BB0F-BF2BE3C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76B-8C02-46CD-9A9B-A84B67E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162C-0533-416A-8D2E-53B5EB0D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A30B4A5-A7B2-4DDA-BAF6-2772E33144D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ación económica con leyes variables</a:t>
            </a:r>
            <a:br>
              <a:rPr sz="28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producción, juega un rol primordial en la determinación del flujo de caja, el que puede afectar toda la estrategia económica de la propiedad min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del chancador y los botaderos, tendrán un mayor efecto en los requerimientos de los sistemas de transporte y los costos oper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743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lla Excel para valorización con leye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1120" cy="145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98680" y="2895480"/>
            <a:ext cx="392580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029200" cy="12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8381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943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venue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28800" y="2057400"/>
                <a:ext cx="510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Y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04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7524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F = [US$/%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41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factor de utilidad el cuál, multiplicándolo por la ley, nos entrega el Ingreso por unidad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 de descu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4197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= factor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33720" y="1905120"/>
                <a:ext cx="51814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</m:t>
                    </m:r>
                    <m:r>
                      <m:rPr>
                        <m:lit/>
                        <m:nor/>
                      </m:rPr>
                      <m:t xml:space="preserve">Aju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" y="3048120"/>
                <a:ext cx="86961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inicial de la 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tiempo que ha transcurrido desde el inicio de la extracción por cielo abierto hasta el inicio de la Trans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52680" y="1600200"/>
                <a:ext cx="21337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Ñ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074600"/>
            <a:ext cx="5790960" cy="5173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716256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114800"/>
            <a:ext cx="7162560" cy="2057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por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= esté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 = Mi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520" y="1752480"/>
                <a:ext cx="7696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aj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de extraer el bl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PD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elocidad de extracción r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057400"/>
                <a:ext cx="46483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empo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otas an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43200" y="1981080"/>
                <a:ext cx="3200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ici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3505320"/>
                <a:ext cx="708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AnualAju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 aju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00200" y="2209680"/>
                <a:ext cx="5715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otaAnualDes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447920" y="3962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= Tiempo desde el inicio de la extracción por rajo hasta el inicio de la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Subterr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Subter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=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133720"/>
                <a:ext cx="6248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subt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o subterráneo descontado +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38400" y="1905120"/>
                <a:ext cx="643716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SubteAjustado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371600" y="3809880"/>
            <a:ext cx="66294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desde el inicio de la extracción por rajo hasta el inicio de la tran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que transcurre desde el inicio de la transición hasta la llegada al 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) Revisión de todos los campos del archivo Excel y proponer cambios, o agregar alguna otra vari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) Realizar un gráfico donde muestre la variabilidad de las leyes de Cu de cada columna (es decir, una gráfico de profundidad vs ley de C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ina a rajo abierto es una excavación superficial, cuyo objetivo es la extracción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lcanzar este mineral, usualmente es necesario excavar grandes cantidades de roca estér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2692440"/>
          <a:ext cx="40384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92440"/>
                    <a:ext cx="40384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bores de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los parámetros físicos de diseño, tales como los tal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lanificación del programa de extracción de mineral y esté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Construcción de un modelo de base de datos del yacimiento, incluyendo su información topográfica, geológica, geotécnica y de co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apa conceptual en la cual se consideran las alternativas de dise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jemplo, un sistema de transporte de materiales convencional que utilice camiones de transporte, resultará en un diseño minero distinto de un sistema de transporte y chancado dentro del p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ecuencia de extracción se debe diseñar tomando en cuenta la ubicación del sistema de correas transportadoras y el de la chancadora in-pit, los cuales se deberán trasladar hacia diferentes puntos cada cierto tiempo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to y transportador "/>
          <p:cNvPicPr/>
          <p:nvPr/>
        </p:nvPicPr>
        <p:blipFill>
          <a:blip r:embed="rId2"/>
          <a:stretch/>
        </p:blipFill>
        <p:spPr>
          <a:xfrm>
            <a:off x="3276720" y="377208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número de camiones requerido en el pit, dependerá del tipo de transporte que se selecc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siempre muchas alternativas para crear una mina a rajo abierto y cada una de éstas resultará en un plan de extracción y flujo de caja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61288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y el tamaño de las insta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jemplo, el tamaño de la planta procesadora y del chancador, determinarán la capacidad de producción máxima de la m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23T00:49:34Z</dcterms:modified>
  <cp:revision>125</cp:revision>
  <dc:subject/>
  <dc:title>Design and Planning of Block Caving Operations</dc:title>
</cp:coreProperties>
</file>