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12.png" ContentType="image/png"/>
  <Override PartName="/ppt/media/image23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0A44-6944-436D-B412-C4715F1373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A7E8-6E53-4EA4-87A8-C5D663D87C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A2A0-5A79-4FFF-8F08-8C114A36F8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87BA-0A52-4D36-985A-468C628072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6B6B-81B5-4B30-A7DC-44162045A7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B672-94DC-4185-8A81-E1FB0E231B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F6A9-BA0E-474B-BB32-0C7626840E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26EC-BD9E-4651-84AF-3817673402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0760" y="615960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68360" y="26028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8840" y="26028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4360" y="213372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57336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vantGarde Md BT"/>
              </a:rPr>
              <a:t>Variabilidad de leyes en el espacio</a:t>
            </a:r>
            <a:br>
              <a:rPr sz="3600"/>
            </a:br>
            <a:r>
              <a:rPr b="0" lang="es-ES" sz="2000" spc="-1" strike="noStrike">
                <a:solidFill>
                  <a:srgbClr val="0000ff"/>
                </a:solidFill>
                <a:latin typeface="AvantGarde Md BT"/>
              </a:rPr>
              <a:t>o la vida no es tan simple como uno quisiera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vantGarde Md BT"/>
              </a:rPr>
              <a:t>Profesor: Dr. Julián M. Ort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Visualización en 3-D 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57440" y="2735280"/>
            <a:ext cx="5829120" cy="412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15573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22320"/>
            <a:ext cx="9144000" cy="503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Variabilidad espacia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3660840"/>
            <a:ext cx="2757600" cy="312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60920" y="2046240"/>
            <a:ext cx="357804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16360" y="4390920"/>
            <a:ext cx="3699000" cy="24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1828800"/>
            <a:ext cx="3124080" cy="18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tipo pórfido cupríf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Andin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cobre de mediana var. (El Tesoro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oro de alta variabilidad (Pullalli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4920" y="2023920"/>
            <a:ext cx="468360" cy="3492720"/>
          </a:xfrm>
          <a:custGeom>
            <a:avLst/>
            <a:gdLst>
              <a:gd name="textAreaLeft" fmla="*/ 62640 w 468360"/>
              <a:gd name="textAreaRight" fmla="*/ 405720 w 468360"/>
              <a:gd name="textAreaTop" fmla="*/ 721440 h 3492720"/>
              <a:gd name="textAreaBottom" fmla="*/ 2509200 h 34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5" stAng="-5400000" swAng="-5400000"/>
                <a:lnTo>
                  <a:pt x="0" y="11056"/>
                </a:lnTo>
                <a:arcTo wR="21600" hR="8925" stAng="10800000" swAng="-1984903"/>
                <a:lnTo>
                  <a:pt x="10031" y="20212"/>
                </a:lnTo>
                <a:lnTo>
                  <a:pt x="21600" y="18915"/>
                </a:lnTo>
                <a:lnTo>
                  <a:pt x="10031" y="14841"/>
                </a:lnTo>
                <a:lnTo>
                  <a:pt x="10031" y="16461"/>
                </a:lnTo>
                <a:arcTo wR="21600" hR="8925" stAng="8815097" swAng="1814242"/>
                <a:lnTo>
                  <a:pt x="154" y="9990"/>
                </a:lnTo>
                <a:arcTo wR="21600" hR="8925" stAng="-10629339" swAng="5229339"/>
                <a:close/>
              </a:path>
              <a:path fill="darkenLess" w="21600" h="21600">
                <a:moveTo>
                  <a:pt x="21600" y="0"/>
                </a:moveTo>
                <a:arcTo wR="21600" hR="8925" stAng="-5400000" swAng="-5400000"/>
                <a:lnTo>
                  <a:pt x="0" y="8925"/>
                </a:lnTo>
                <a:arcTo wR="21600" hR="8925" stAng="10800000" swAng="-170661"/>
                <a:lnTo>
                  <a:pt x="154" y="9990"/>
                </a:lnTo>
                <a:arcTo wR="21600" hR="8925" stAng="-10629339" swAng="5229339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673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140400">
            <a:off x="3906000" y="3771000"/>
            <a:ext cx="1008000" cy="324000"/>
          </a:xfrm>
          <a:prstGeom prst="rightArrow">
            <a:avLst>
              <a:gd name="adj1" fmla="val 50000"/>
              <a:gd name="adj2" fmla="val 7777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valuación de yacimient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583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La idea es predecir donde está el miner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planificación y diseñ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Para eso, se “mide” cuan continuo es un depósit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Además, se construye un </a:t>
            </a:r>
            <a:r>
              <a:rPr b="0" lang="es-CL" sz="2400" spc="-1" strike="noStrike">
                <a:solidFill>
                  <a:srgbClr val="ff0000"/>
                </a:solidFill>
                <a:latin typeface="AvantGarde Md BT"/>
              </a:rPr>
              <a:t>modelo de bloques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de leyes estimad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Se puede medir el error y sus consecuencias con </a:t>
            </a:r>
            <a:r>
              <a:rPr b="0" lang="es-CL" sz="2400" spc="-1" strike="noStrike">
                <a:solidFill>
                  <a:srgbClr val="0066ff"/>
                </a:solidFill>
                <a:latin typeface="AvantGarde Md BT"/>
              </a:rPr>
              <a:t>simulación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40360" y="2276640"/>
            <a:ext cx="379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Estim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Simul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2637000"/>
            <a:ext cx="9144000" cy="2761920"/>
            <a:chOff x="0" y="2637000"/>
            <a:chExt cx="9144000" cy="2761920"/>
          </a:xfrm>
        </p:grpSpPr>
        <p:grpSp>
          <p:nvGrpSpPr>
            <p:cNvPr id="149" name=""/>
            <p:cNvGrpSpPr/>
            <p:nvPr/>
          </p:nvGrpSpPr>
          <p:grpSpPr>
            <a:xfrm>
              <a:off x="0" y="2637000"/>
              <a:ext cx="9144000" cy="2761920"/>
              <a:chOff x="0" y="2637000"/>
              <a:chExt cx="9144000" cy="27619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37000"/>
                <a:ext cx="9144000" cy="27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simu vs krigeage2 espagnol" descr=""/>
              <p:cNvPicPr/>
              <p:nvPr/>
            </p:nvPicPr>
            <p:blipFill>
              <a:blip r:embed="rId1"/>
              <a:srcRect l="48761" t="23761" r="0" b="26514"/>
              <a:stretch/>
            </p:blipFill>
            <p:spPr>
              <a:xfrm>
                <a:off x="3165480" y="2968560"/>
                <a:ext cx="2811600" cy="243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simu vs krigeage2 espagnol" descr=""/>
              <p:cNvPicPr/>
              <p:nvPr/>
            </p:nvPicPr>
            <p:blipFill>
              <a:blip r:embed="rId2"/>
              <a:srcRect l="0" t="48943" r="49909" b="0"/>
              <a:stretch/>
            </p:blipFill>
            <p:spPr>
              <a:xfrm>
                <a:off x="6394320" y="2903400"/>
                <a:ext cx="2749680" cy="249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simu vs krigeage2 espagnol" descr=""/>
              <p:cNvPicPr/>
              <p:nvPr/>
            </p:nvPicPr>
            <p:blipFill>
              <a:blip r:embed="rId3"/>
              <a:srcRect l="0" t="0" r="49355" b="50813"/>
              <a:stretch/>
            </p:blipFill>
            <p:spPr>
              <a:xfrm>
                <a:off x="0" y="2997000"/>
                <a:ext cx="2778120" cy="240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271440" y="267804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e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65716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kri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7480" y="2639880"/>
              <a:ext cx="25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simulación condi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vantGarde Md BT"/>
              </a:rPr>
              <a:t>Podemos modelar nuestra ignorancia!!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Simulación genera escenario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respuesta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incertidumbre en la respuesta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9080" y="3728880"/>
            <a:ext cx="2538360" cy="1478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49320" y="5327640"/>
            <a:ext cx="3141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odelos estocásticos múlti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7760" y="4043520"/>
            <a:ext cx="1714320" cy="533160"/>
          </a:xfrm>
          <a:prstGeom prst="rightArrow">
            <a:avLst>
              <a:gd name="adj1" fmla="val 50000"/>
              <a:gd name="adj2" fmla="val 803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4032360"/>
            <a:ext cx="9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 de la M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10240" y="5200560"/>
            <a:ext cx="227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tribución de posibles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43720" y="3681360"/>
            <a:ext cx="21016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Perspectiva históric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581796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Teoría de probabilidade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en el siglo XV por Pascal y Fermat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Gauss y Bayes desempeñaron un papel más reciente (siglo XVIII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Base de las técnicas geoestadística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Kolmogorov, Weiner, Matern, y Gandin (comienzos del siglo XX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Geoestadística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iciada en los años 50 por Krige y Sichel en Sudáfrica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por Matheron en Francia en los 60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En los 70, Journel y David establecieron centros de investigación en EEUU y Canadá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Simulación condicional: 197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dicadores: 1983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PluriGaussiana: 199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46640" y="698400"/>
            <a:ext cx="1644840" cy="175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5520" y="4452840"/>
            <a:ext cx="1656000" cy="223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70760" y="2746440"/>
            <a:ext cx="239544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Pregunta difíci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(sólo veo el 5, no sé que hay debajo)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Respuesta astut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16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Si conozco varias realizaciones y asumo cierta homogeneidad espacial, puedo inferir su distribución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64000" y="3141720"/>
            <a:ext cx="2673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Ejemplo simpl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952640"/>
          <a:ext cx="4248000" cy="326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2640"/>
                    <a:ext cx="42480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143240" y="2997360"/>
            <a:ext cx="50007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para determinar si discrepancias entre mina y planta son relevant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7480" y="2673360"/>
            <a:ext cx="6629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de leyes para 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optimización de caseron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889360"/>
            <a:ext cx="4572000" cy="28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572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84464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66880" y="4257720"/>
            <a:ext cx="3705120" cy="244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82880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66880" y="4267080"/>
            <a:ext cx="370512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3800520" cy="241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5084640"/>
            <a:ext cx="32364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5046" r="2018" b="5790"/>
          <a:stretch/>
        </p:blipFill>
        <p:spPr>
          <a:xfrm>
            <a:off x="4967280" y="3787920"/>
            <a:ext cx="3781440" cy="19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vantGarde Md BT"/>
              </a:rPr>
              <a:t>Paso de recursos a reservas</a:t>
            </a: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vantGarde Md BT"/>
              </a:rPr>
              <a:t>Nos interesa conocer la respuesta tras una función de transferencia: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series de tiempo de extracción del modelo espacia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Palas extraen desde puntos de extracción y alimentan la planta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Camiones extraen el material desde distintas frentes y envían a chancado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Realidad 3-D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Respuesta 1-D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20816" t="34295" r="18757" b="28649"/>
          <a:stretch/>
        </p:blipFill>
        <p:spPr>
          <a:xfrm>
            <a:off x="468360" y="3282840"/>
            <a:ext cx="3198600" cy="277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6200" y="4527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Combinación de características geológic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Litologí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Alteracione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Mineralización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4399" b="0"/>
          <a:stretch/>
        </p:blipFill>
        <p:spPr>
          <a:xfrm>
            <a:off x="108000" y="3429000"/>
            <a:ext cx="4103640" cy="231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8109"/>
          <a:stretch/>
        </p:blipFill>
        <p:spPr>
          <a:xfrm>
            <a:off x="4896000" y="3429000"/>
            <a:ext cx="4022640" cy="234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65480" y="2241720"/>
            <a:ext cx="2905560" cy="64260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eyes en e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o es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023920"/>
            <a:ext cx="973080" cy="1009800"/>
          </a:xfrm>
          <a:custGeom>
            <a:avLst/>
            <a:gdLst>
              <a:gd name="textAreaLeft" fmla="*/ 0 w 973080"/>
              <a:gd name="textAreaRight" fmla="*/ 351360 w 97308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Modelos complejos: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sualmente, se definen varias “poblaciones” litológicas, de alteración, de mineralización…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nidades geológicas se definen en base a estas característic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900600"/>
            <a:ext cx="4176720" cy="295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3527" r="0" b="0"/>
          <a:stretch/>
        </p:blipFill>
        <p:spPr>
          <a:xfrm>
            <a:off x="4572000" y="4076640"/>
            <a:ext cx="33480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Análisis utilizando plantas y secciones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320" y="2622600"/>
            <a:ext cx="4476600" cy="415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91080" y="2622600"/>
            <a:ext cx="4476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9:57:10Z</dcterms:created>
  <dc:creator>Julián Ortiz Cabrera</dc:creator>
  <dc:description/>
  <dc:language>en-US</dc:language>
  <cp:lastModifiedBy>Windows Vista</cp:lastModifiedBy>
  <dcterms:modified xsi:type="dcterms:W3CDTF">2008-04-15T21:14:40Z</dcterms:modified>
  <cp:revision>129</cp:revision>
  <dc:subject/>
  <dc:title>Diapositiva 1</dc:title>
</cp:coreProperties>
</file>