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EC6-C370-4D15-BC9E-61CF66A4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4F1-6409-45F8-97E9-5A0573AF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D92-9D6C-446D-B045-52FB23C0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CC6-9372-44FB-BDDD-15815E04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77D-0736-4543-B623-DA5740BD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F0B-BBB2-4782-B60C-4B4956A9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2C3-A80F-4F68-BBB0-BE9396F5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24B-EFEB-490B-9C7B-AAB3129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6D3-3708-4840-9794-541A89AB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A03-CB48-4CB1-91D5-B2F4B78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D0F-3F84-4672-9422-17F3268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66A-A67A-4A4F-B7E7-D3AA297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303E-37EA-4409-9421-2BAA65C3EF6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mbio de carrera a 05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r a escuela.ing.uchile.c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1" t="6836" r="12110" b="25782"/>
          <a:stretch/>
        </p:blipFill>
        <p:spPr>
          <a:xfrm>
            <a:off x="428760" y="157176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ya a SERVICIOS y seleccione “CAMBIO DE CARRERA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5 Grupo"/>
          <p:cNvGrpSpPr/>
          <p:nvPr/>
        </p:nvGrpSpPr>
        <p:grpSpPr>
          <a:xfrm>
            <a:off x="857160" y="1714680"/>
            <a:ext cx="6929640" cy="4786200"/>
            <a:chOff x="857160" y="1714680"/>
            <a:chExt cx="6929640" cy="478620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rcRect l="10988" t="18553" r="20898" b="16019"/>
            <a:stretch/>
          </p:blipFill>
          <p:spPr>
            <a:xfrm>
              <a:off x="1142640" y="1714680"/>
              <a:ext cx="66441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4 Elipse"/>
            <p:cNvSpPr/>
            <p:nvPr/>
          </p:nvSpPr>
          <p:spPr>
            <a:xfrm>
              <a:off x="857160" y="4143600"/>
              <a:ext cx="2928960" cy="16430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gresar con usuario y clave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18553" r="20168" b="15039"/>
          <a:stretch/>
        </p:blipFill>
        <p:spPr>
          <a:xfrm>
            <a:off x="642960" y="1571760"/>
            <a:ext cx="77868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coger WORKFLOW y en solicitud, escoger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052 INGENIERIA CIVIL DE MI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76360"/>
            <a:ext cx="90964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6 Elipse"/>
          <p:cNvSpPr/>
          <p:nvPr/>
        </p:nvSpPr>
        <p:spPr>
          <a:xfrm>
            <a:off x="4286160" y="5143680"/>
            <a:ext cx="3929040" cy="785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Elipse"/>
          <p:cNvSpPr/>
          <p:nvPr/>
        </p:nvSpPr>
        <p:spPr>
          <a:xfrm>
            <a:off x="0" y="2571840"/>
            <a:ext cx="1500120" cy="2858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LAN DE EST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046" t="21486" r="17237" b="14065"/>
          <a:stretch/>
        </p:blipFill>
        <p:spPr>
          <a:xfrm>
            <a:off x="1571760" y="150012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lla de la LICENCI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9776" t="22461" r="17237" b="14065"/>
          <a:stretch/>
        </p:blipFill>
        <p:spPr>
          <a:xfrm>
            <a:off x="714240" y="1120680"/>
            <a:ext cx="75726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FIL DEL EGRES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egresado de Ingeniería Civil de Minas de la Universidad de Chile debe ten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básicas (matemática, física y quími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de la ingeniería, en cursos básicos de ingeniería y en curso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pecialidad en áreas propias de la industria mine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 evaluación de yacimientos, geomecánica, tecnología minera, procesamiento de minerales y metalurgia extrac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ocimientos en áre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gestión y economía minera, cultura y protección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pacidad de: liderazgo, comunicación efectiva, trabajo grupal y multidisciplinario, adaptación al cambio, aprendizaje autodirigido, integrar conocimientos, analizar y abstraer, innovar y crear, diseñar sistemas o componentes, aplicar conocimientos científicos, evaluar proyectos y conducir experi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ctitudes y valores como: perseverancia, responsabilidad, honradez, solidaridad, respeto y tolerancia a las personas, cumplimiento de normas éticas, respeto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03:24:40Z</dcterms:created>
  <dc:creator>Freddy Rojas</dc:creator>
  <dc:description/>
  <dc:language>en-US</dc:language>
  <cp:lastModifiedBy>Freddy Rojas</cp:lastModifiedBy>
  <dcterms:modified xsi:type="dcterms:W3CDTF">2008-07-05T03:58:36Z</dcterms:modified>
  <cp:revision>6</cp:revision>
  <dc:subject/>
  <dc:title>Cambie su código de carrera a 052</dc:title>
</cp:coreProperties>
</file>