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FD4-83D7-4B3E-AE27-3163E972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0FE-3C3E-4884-B0D6-496EB201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C94-A535-47CE-9DF2-8B41B40A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30C-EB81-4030-8A35-241526D0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F0C-BBB4-4C03-9F34-4B726BD7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99A-3F2A-4E94-89B0-2174CB48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F33-3262-4B2B-9B69-607EE477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3DE-A643-4192-B50E-2B299F6C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D6D-B91E-4F61-8C31-B973585B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924-F066-404B-B603-8C705C0C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803-AA0D-4B25-9127-3EBEC93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694-846C-46AC-B1F3-4890E5D1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0ACF-46FA-4D76-99CE-8C8D9CA95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c</cp:lastModifiedBy>
  <dcterms:modified xsi:type="dcterms:W3CDTF">2003-10-14T15:13:07Z</dcterms:modified>
  <cp:revision>4</cp:revision>
  <dc:subject/>
  <dc:title>Presentación de PowerPoint</dc:title>
</cp:coreProperties>
</file>