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CD3-7526-4ED4-8A73-9C1C3E47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084-0DD1-4CA3-B3D9-0E8A8DAF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E58-0348-466F-8903-C6D2AD90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473-9599-4031-B9EA-C834E266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EE4-8673-4154-89FA-F51F0247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3DE-4A09-4DFE-8ACA-613BC5A8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023-ACC9-4960-A83E-CD4CE163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C9C-55B4-4C04-9975-168F0466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7C3-E11D-42E1-83EB-0E6F9823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978-DF06-487A-8B14-A2AE68B5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517-EE96-497C-B38C-58B2A43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EE0-9DE5-484D-9D9D-DCED57D3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C854-9CAB-41B0-A2C3-15D52AE5A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90512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ax/bu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S$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29360" y="863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s de b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c</cp:lastModifiedBy>
  <dcterms:modified xsi:type="dcterms:W3CDTF">2003-10-14T15:13:07Z</dcterms:modified>
  <cp:revision>4</cp:revision>
  <dc:subject/>
  <dc:title>Presentación de PowerPoint</dc:title>
</cp:coreProperties>
</file>