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8B4710-99EE-42DA-9F6F-F1156D671CDF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EJEMPLOS PROPUES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1.- A partir de un triángulo isósceles cuyos ángulos en la base son de 72 grados encontrar el valor de coseno y seno  de 18 grados, 36 grados y 54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(Teorema de Th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2.- ¿Cómo definir radian? Usar el teorema de 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3.- quebrar una circunferencia en ángulos pequeños y sumarlos adecuad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4.- Aproximar la longitud de una arco mediante una cue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Usar figuras inscritas y ex inscr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seno y coseno: demostración (Pág. 451 y 452 de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ángulo doble: demostración geométrica  (Pág.445 de NZ. Ver err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0"/>
            <a:ext cx="4724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492280"/>
            <a:ext cx="59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FI-100-02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Introducción a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Física Newtoniana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08360" y="1857240"/>
            <a:ext cx="2057400" cy="779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48000" y="4581360"/>
            <a:ext cx="62643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198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303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212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2530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9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549680" cy="5832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5140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057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9432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5680" y="992160"/>
            <a:ext cx="4444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5140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352760" cy="5819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65760" y="5013360"/>
            <a:ext cx="2614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ote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la ecuación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el gráfico de la Fig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Considera </a:t>
            </a:r>
            <a:r>
              <a:rPr b="0" lang="es-CL" sz="1800" spc="-1" strike="noStrike">
                <a:solidFill>
                  <a:srgbClr val="0066cc"/>
                </a:solidFill>
                <a:latin typeface="Symbol"/>
                <a:ea typeface="Symbol"/>
              </a:rPr>
              <a:t></a:t>
            </a:r>
            <a:r>
              <a:rPr b="0" lang="es-CL" sz="1800" spc="-1" strike="noStrike" baseline="-25000">
                <a:solidFill>
                  <a:srgbClr val="0066cc"/>
                </a:solidFill>
                <a:latin typeface="Verdana"/>
              </a:rPr>
              <a:t>o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eg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4941720"/>
            <a:ext cx="3600360" cy="1582920"/>
          </a:xfrm>
          <a:prstGeom prst="wedgeEllipseCallout">
            <a:avLst>
              <a:gd name="adj1" fmla="val -104277"/>
              <a:gd name="adj2" fmla="val 6768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2268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6306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" y="68904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Verdana"/>
              </a:rPr>
              <a:t>CLASE 1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413000"/>
            <a:ext cx="455796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Ángulos Alternos Internos</a:t>
            </a:r>
            <a:r>
              <a:rPr b="0" lang="es-ES" sz="36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orrespo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Teorema de Tal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Mi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uerda y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ircun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32000" y="2205000"/>
            <a:ext cx="1752840" cy="907920"/>
            <a:chOff x="3132000" y="2205000"/>
            <a:chExt cx="1752840" cy="907920"/>
          </a:xfrm>
        </p:grpSpPr>
        <p:sp>
          <p:nvSpPr>
            <p:cNvPr id="56" name=""/>
            <p:cNvSpPr/>
            <p:nvPr/>
          </p:nvSpPr>
          <p:spPr>
            <a:xfrm flipV="1">
              <a:off x="3132000" y="2782800"/>
              <a:ext cx="1752840" cy="540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32000" y="2399400"/>
              <a:ext cx="1752840" cy="1224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637080" y="2205000"/>
              <a:ext cx="515520" cy="90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340000" y="3573360"/>
            <a:ext cx="2362320" cy="804960"/>
            <a:chOff x="2340000" y="3573360"/>
            <a:chExt cx="2362320" cy="804960"/>
          </a:xfrm>
        </p:grpSpPr>
        <p:sp>
          <p:nvSpPr>
            <p:cNvPr id="60" name=""/>
            <p:cNvSpPr/>
            <p:nvPr/>
          </p:nvSpPr>
          <p:spPr>
            <a:xfrm flipH="1">
              <a:off x="2340000" y="3573360"/>
              <a:ext cx="2362320" cy="590400"/>
            </a:xfrm>
            <a:prstGeom prst="rtTriangl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057920" y="3573360"/>
              <a:ext cx="0" cy="80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81920" y="4508640"/>
            <a:ext cx="2241360" cy="1643040"/>
            <a:chOff x="2581920" y="4508640"/>
            <a:chExt cx="2241360" cy="1643040"/>
          </a:xfrm>
        </p:grpSpPr>
        <p:sp>
          <p:nvSpPr>
            <p:cNvPr id="63" name=""/>
            <p:cNvSpPr/>
            <p:nvPr/>
          </p:nvSpPr>
          <p:spPr>
            <a:xfrm>
              <a:off x="3433680" y="5299200"/>
              <a:ext cx="13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024360" y="4726080"/>
              <a:ext cx="985680" cy="9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81920" y="4674240"/>
              <a:ext cx="1443600" cy="135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38" y="3370"/>
                  </a:moveTo>
                  <a:arcTo wR="10800" hR="10800" stAng="-2608210" swAng="22867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38" y="3370"/>
                  </a:moveTo>
                  <a:arcTo wR="10800" hR="10800" stAng="-2608210" swAng="2286788"/>
                </a:path>
              </a:pathLst>
            </a:cu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3280" y="4751640"/>
              <a:ext cx="1185480" cy="10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4"/>
                  </a:moveTo>
                  <a:arcTo wR="10800" hR="10800" stAng="-39991" swAng="187619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4"/>
                  </a:moveTo>
                  <a:arcTo wR="10800" hR="10800" stAng="-39991" swAng="18761917"/>
                </a:path>
              </a:pathLst>
            </a:custGeom>
            <a:noFill/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039840" y="4873680"/>
              <a:ext cx="39348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28400" y="5361120"/>
              <a:ext cx="79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ADIO =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9840" y="479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a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33680" y="450864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274920" y="5516280"/>
              <a:ext cx="720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60560" y="580392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cuer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87840" y="5659560"/>
              <a:ext cx="288720" cy="216000"/>
            </a:xfrm>
            <a:custGeom>
              <a:avLst/>
              <a:gdLst/>
              <a:ahLst/>
              <a:rect l="l" t="t" r="r" b="b"/>
              <a:pathLst>
                <a:path w="182" h="136">
                  <a:moveTo>
                    <a:pt x="182" y="136"/>
                  </a:moveTo>
                  <a:cubicBezTo>
                    <a:pt x="106" y="79"/>
                    <a:pt x="30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03840" y="4940280"/>
              <a:ext cx="215640" cy="7164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136" y="0"/>
                  </a:moveTo>
                  <a:cubicBezTo>
                    <a:pt x="136" y="0"/>
                    <a:pt x="68" y="22"/>
                    <a:pt x="0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9432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451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333360"/>
            <a:ext cx="4243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248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404640"/>
            <a:ext cx="41054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651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30800" cy="5943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01600" y="54936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6480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6160" y="923760"/>
            <a:ext cx="44258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22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73076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5640" y="620640"/>
            <a:ext cx="32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2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4280" y="1484280"/>
            <a:ext cx="3508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ángulo rectáng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Igual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92720" y="549360"/>
            <a:ext cx="1663200" cy="1210680"/>
            <a:chOff x="5292720" y="549360"/>
            <a:chExt cx="1663200" cy="1210680"/>
          </a:xfrm>
        </p:grpSpPr>
        <p:grpSp>
          <p:nvGrpSpPr>
            <p:cNvPr id="79" name=""/>
            <p:cNvGrpSpPr/>
            <p:nvPr/>
          </p:nvGrpSpPr>
          <p:grpSpPr>
            <a:xfrm>
              <a:off x="5292720" y="549360"/>
              <a:ext cx="1663200" cy="1210680"/>
              <a:chOff x="5292720" y="549360"/>
              <a:chExt cx="1663200" cy="12106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5562000" y="549360"/>
                <a:ext cx="1393920" cy="981720"/>
                <a:chOff x="5562000" y="549360"/>
                <a:chExt cx="1393920" cy="9817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562000" y="549360"/>
                  <a:ext cx="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2000" y="1531080"/>
                  <a:ext cx="13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62000" y="549360"/>
                  <a:ext cx="139392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5292720" y="942120"/>
                    <a:ext cx="155520" cy="13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6101640" y="1596600"/>
                    <a:ext cx="153720" cy="16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6326640" y="844200"/>
                    <a:ext cx="179280" cy="16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5562000" y="1432800"/>
                <a:ext cx="13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97000" y="1432800"/>
                <a:ext cx="0" cy="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597360" y="1367280"/>
                  <a:ext cx="17136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 flipH="1">
              <a:off x="6417000" y="1301400"/>
              <a:ext cx="449280" cy="45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80000" y="5516640"/>
                <a:ext cx="30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36003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5364000" y="3789360"/>
            <a:ext cx="3673800" cy="1514520"/>
            <a:chOff x="5364000" y="3789360"/>
            <a:chExt cx="3673800" cy="1514520"/>
          </a:xfrm>
        </p:grpSpPr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64000" y="3789360"/>
                  <a:ext cx="3673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5364000" y="4354560"/>
                  <a:ext cx="36007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364000" y="4857840"/>
                  <a:ext cx="36007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"/>
          <p:cNvSpPr/>
          <p:nvPr/>
        </p:nvSpPr>
        <p:spPr>
          <a:xfrm>
            <a:off x="600120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784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27880" y="213372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91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88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75680" y="2693880"/>
            <a:ext cx="166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78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5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5560" y="325296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3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00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836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9500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5600" y="3252960"/>
            <a:ext cx="785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97360" y="3257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2400" y="29638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78240" y="3095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2640" y="2535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00560" y="197640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320" y="32814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27520" y="31194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17800" y="2558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9360" y="298764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22480" y="3281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23920" y="2987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4400" y="272268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4320" y="2428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3440" y="216216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46240" y="186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3480" y="216216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4560" y="186840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7520" y="200016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4532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224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14840" y="253512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24560" y="197640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3671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417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8680" y="1143000"/>
            <a:ext cx="4243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34340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404640"/>
            <a:ext cx="414468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990720"/>
            <a:ext cx="439272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38624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35640" y="1974960"/>
            <a:ext cx="324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 es la ecuación de la paráb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para una partícula que salió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rigen con velocidad vo y con u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dirección </a:t>
            </a:r>
            <a:r>
              <a:rPr b="1" lang="es-ES" sz="1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s son las dos condiciones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iniciales que caracteriza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movimiento posterior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8-04-17T16:38:14Z</dcterms:modified>
  <cp:revision>48</cp:revision>
  <dc:subject/>
  <dc:title>Sin título de diapositiva</dc:title>
</cp:coreProperties>
</file>