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6D0-22F5-4AA2-A58C-D06F5236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CA3-F908-4279-A91A-381704F7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E0C-EAE6-460C-88DB-A883B54B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717-D261-4619-BB17-100B07F2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340-A81A-4878-BC5F-7AED0AB8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91D-C530-46F6-B3B2-EDCFBC03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A54-8A18-40CD-9A43-FDF7A199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E0B-ADCB-4C96-9A4E-7E14C82C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2DB-A413-43B3-A29C-013482EF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4F2-B3B7-48C0-8DDF-5F34636B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A5A-5D68-4EA5-9D41-D21E6CB8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C0F-ECE2-48DB-9C69-82D188F9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CEB9-85B6-47BD-849C-603FB5FFE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Dinámica de una masa sobre una cuñ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iagrama de cuerpo lib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Principio de Superpo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Ecuaciones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cc"/>
                </a:solidFill>
                <a:latin typeface="Arial"/>
              </a:rPr>
              <a:t>(Segunda Ley de New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40360" y="189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32320" cy="5977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478400" cy="5611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645080" cy="630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485960" cy="638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21280" cy="6381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48360" y="90792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637000"/>
            <a:ext cx="39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quí se usa la conservación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energía. Esta es la ecu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dicional que permite resol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las incógni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2060640"/>
            <a:ext cx="4392360" cy="2232000"/>
          </a:xfrm>
          <a:prstGeom prst="cloudCallout">
            <a:avLst>
              <a:gd name="adj1" fmla="val -52097"/>
              <a:gd name="adj2" fmla="val 62092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714920" cy="619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03640" y="765000"/>
            <a:ext cx="36738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133880" cy="5600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83664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530960" cy="637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69228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7:11:57Z</dcterms:created>
  <dc:creator>Nelson Zamorano</dc:creator>
  <dc:description/>
  <dc:language>en-US</dc:language>
  <cp:lastModifiedBy>Nelson Zamorano</cp:lastModifiedBy>
  <dcterms:modified xsi:type="dcterms:W3CDTF">2008-05-26T17:53:03Z</dcterms:modified>
  <cp:revision>2</cp:revision>
  <dc:subject/>
  <dc:title>Dinámica de una masa sobre una cuña</dc:title>
</cp:coreProperties>
</file>