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80B-95C2-4CA8-8CE5-19614B9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92A-95BF-4606-9E44-55FA022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04D-F202-4C86-9B57-99A2A7BC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DD8-635B-4FC1-850C-DB18E982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8AF-E332-485E-984D-BD1354BE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10C-D9CC-4854-BA46-FE5C9A5B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4A0-B15A-4D9C-AE43-97354EB7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F44-6261-493C-98C5-060C65FA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F59-36A4-4E5E-BE25-61DB9D16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2EE-6C5F-4B8E-9389-20A9417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204-B53F-4FBA-A314-D59ECC31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25C-F701-4C1E-B1A2-A39E02C7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5652-CF7F-4585-A150-2168B9E2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Dinámica de una masa sobre una cu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iagrama de cuerpo lib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Principio de Superpo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Ecuacione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Arial"/>
              </a:rPr>
              <a:t>(Segunda Ley de 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40360" y="189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32320" cy="5977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478400" cy="5611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4508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85960" cy="638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2128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48360" y="90792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637000"/>
            <a:ext cx="39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quí se usa la conserva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energía. Esta es la ecu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adicional que permite resol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Comic Sans MS"/>
              </a:rPr>
              <a:t>las incógni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2060640"/>
            <a:ext cx="4392360" cy="2232000"/>
          </a:xfrm>
          <a:prstGeom prst="cloudCallout">
            <a:avLst>
              <a:gd name="adj1" fmla="val -52097"/>
              <a:gd name="adj2" fmla="val 62092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714920" cy="619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765000"/>
            <a:ext cx="3673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33880" cy="560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83664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9056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530960" cy="637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69228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-100-02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7:11:57Z</dcterms:created>
  <dc:creator>Nelson Zamorano</dc:creator>
  <dc:description/>
  <dc:language>en-US</dc:language>
  <cp:lastModifiedBy>Nelson Zamorano</cp:lastModifiedBy>
  <dcterms:modified xsi:type="dcterms:W3CDTF">2008-05-26T17:53:03Z</dcterms:modified>
  <cp:revision>2</cp:revision>
  <dc:subject/>
  <dc:title>Dinámica de una masa sobre una cuña</dc:title>
</cp:coreProperties>
</file>