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444-8487-4D56-9505-DE7A7E54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6ED-FE77-4280-8A38-475DE070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4C2-157E-4F06-AA45-8767C852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D33-744A-4B90-A4C7-E0CBDDD8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7A7-D8A7-42B6-AB08-339B6B27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3C7-2603-4434-883B-2BFE702E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26A-407F-48BE-BE44-013467E1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76C-790E-4007-B120-70608A1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B95-C8D5-426C-A714-41986648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1C7-B4AB-40FD-BB59-B19CEA10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40F-138E-4C92-A97B-196DAEF7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4EC-09C0-419F-8F6E-03844FBE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86A9-C455-4F2E-BABA-1987AD584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6386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0" y="184644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62280" cy="5934240"/>
          </a:xfrm>
          <a:prstGeom prst="rect">
            <a:avLst/>
          </a:prstGeom>
          <a:ln w="0">
            <a:noFill/>
          </a:ln>
        </p:spPr>
      </p:pic>
      <p:cxnSp>
        <p:nvCxnSpPr>
          <p:cNvPr id="51" name=""/>
          <p:cNvCxnSpPr>
            <a:endCxn id="49" idx="1"/>
          </p:cNvCxnSpPr>
          <p:nvPr/>
        </p:nvCxnSpPr>
        <p:spPr>
          <a:xfrm flipH="1" flipV="1" rot="5400000">
            <a:off x="3113640" y="2726280"/>
            <a:ext cx="2248560" cy="20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8760" y="184644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619520" cy="625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141300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0efb5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4076640"/>
            <a:ext cx="3672000" cy="176220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10240" y="43894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572000" cy="584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916280"/>
            <a:ext cx="3757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NOT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Muestre que E</a:t>
            </a:r>
            <a:r>
              <a:rPr b="1" lang="es-CL" sz="1800" spc="-1" strike="noStrike" baseline="-25000">
                <a:solidFill>
                  <a:srgbClr val="ff6600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 se pu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escribir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2637000"/>
          <a:ext cx="28083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637000"/>
                    <a:ext cx="2808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810040" y="4941720"/>
            <a:ext cx="1834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m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g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/ (2 k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8200" y="3521160"/>
            <a:ext cx="2864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0, se obtien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resultado indicad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últim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64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486320" cy="575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24000" y="5084640"/>
          <a:ext cx="79992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084640"/>
                    <a:ext cx="799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4720" y="184644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6483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5529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1T00:54:41Z</dcterms:modified>
  <cp:revision>2</cp:revision>
  <dc:subject/>
  <dc:title>Dinámica de una masa sobre una cuña</dc:title>
</cp:coreProperties>
</file>