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400800" cy="86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627360" y="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028520" y="650520"/>
            <a:ext cx="4343400" cy="325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lstStyle>
            <a:lvl1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  <a:defRPr b="0" lang="es-ES_tradn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0D8302C-3CC2-4D31-82F7-9E3E4DBEDEDB}" type="slidenum"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1DED8B1-A251-4A2C-8707-9F1C15EDC13D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267A2A7-18F4-42D3-9165-12037C79337A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CAD706B4-1A75-43B6-9ABF-22BA1F32241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1AABD49-4E53-4CFE-823D-23C766979161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5B67540-A4CC-4274-8108-013783D37341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0F774C3-2776-48EA-BED6-4CA9CE2E9E0E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C449DF4-9AE4-4A03-8BA8-BAC99BE59DF3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6586523-6173-4BB3-8FDA-31B03316CABB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A485EA9-8F63-4ECA-9385-54B9E8C25912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9AC3D53-AE3F-4A96-84AE-DCDA275D6AB7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865F1011-82ED-4D43-99A7-4BD8AAD35045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6C95387-E1AD-4ACE-AECF-772AD958B852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6C94267-9E3B-408D-8890-5AEFDCC2E19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633F37F-4BCF-492A-9D48-E4B71F862F0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C21B6F2-30CB-4B55-9E1C-92F435D7A185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2F1A150-241D-492F-BDB1-B63912D008C9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7CD5259-F3A6-4B12-ADE7-253A63B6835D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42FC460-0B3F-4B8C-89B1-7674CAC104AC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D4366833-9E74-4DDA-879D-FE76B3495E66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EA896F2-8D16-4BEF-B64D-ED91872E3FCB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959FEF5-8B0A-4DB1-975D-9A533640293E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0A440B2-4369-40F6-A192-E1ED12784EE4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3DF6D52-6CEB-45E4-9C65-42B07795F8F6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63ECB8C4-08F3-42BF-BE22-BF3DBE35B308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800C0CF-B60D-425F-BFD7-CC5A7AF7F8CB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A4982BE1-93B3-4CBA-85E9-ED3F8D798748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11222A65-0F65-4164-84C2-A1CC76EE53FD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7665482E-2930-4B89-9A06-F1B93850373F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F5D54C92-76FE-48AE-88F4-E3DA053815FC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9AEB9EF7-638E-4BDB-9D48-00F963C582B2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5E34CF5A-D48E-4B5D-9AF1-A9556E7021AC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BD132255-05AC-4C60-8754-8F02546F624E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0DB35DF0-B5F5-4E87-9993-0B10BDF5E26C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627360" y="8251920"/>
            <a:ext cx="277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b">
            <a:noAutofit/>
          </a:bodyPr>
          <a:p>
            <a:pPr algn="r"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fld id="{25A59870-DB3E-4887-9320-8434AB18EE86}" type="slidenum"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28880" y="650880"/>
            <a:ext cx="4343400" cy="3257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53920" y="4125600"/>
            <a:ext cx="4692960" cy="39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05B1-68AB-4213-9981-58E3AB0B9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878-31CC-4AF7-B9FA-131A2977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8DE-6378-4F8D-A4E5-98C538AC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36D-0408-4477-93AB-D97DD26C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62B8-80DE-4D8E-B408-B901FF35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17D2-EB65-4715-84CD-CBB07132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3EE1-FC2E-4B4F-B6BF-710EA7F9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C03F-2B55-431C-A18E-875ECDFB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B80D-8C66-4CF0-A10B-9EC13E6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4CFA-C2C8-426E-82F1-46E2D141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D007-48BF-410E-A7E0-892AF1AB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510-6F97-4923-938E-7500169D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8411-0FF3-40FD-BC74-2780AB14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B260-6322-490D-866A-3F7191FB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59E8-4FE0-4917-A6BB-EB0100CA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3DD2-B940-4713-A1A1-DD3AE67B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0CFD-61C6-46D8-9441-38D1D536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0A0F-D2F4-4F07-BEFF-41B482E0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153-1EEC-407C-82BC-D82BC6ED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813-5F6C-4AF9-B0AB-93C92B3A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86E-A141-4295-87C6-A9228261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DB8-02D8-425E-9200-429EAEE0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659-5859-44B5-84F6-53DF232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6C6-33A6-470D-A512-7C25D00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CB2B-E2A7-4818-A63C-89A33530F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C2C8-9635-420A-8CD3-3BE49935B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PROPIEDADES FISICAS DE LOS MINER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7" name="Picture 6" descr="C:\Jose\GL31A\Minerales\BayldoniteSmall.jpg"/>
          <p:cNvPicPr/>
          <p:nvPr/>
        </p:nvPicPr>
        <p:blipFill>
          <a:blip r:embed="rId1"/>
          <a:stretch/>
        </p:blipFill>
        <p:spPr>
          <a:xfrm>
            <a:off x="2438280" y="1928880"/>
            <a:ext cx="4419720" cy="3190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2895480" y="55627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botroid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upo de cristales individuales paralelos o radiados entre s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lobular, radiado en forma esfé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loforme, formas esféricas de individuos radi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C:\Jose\GL31A\Minerales\Carbonate-fluorapatiteSmall.jpg"/>
          <p:cNvPicPr/>
          <p:nvPr/>
        </p:nvPicPr>
        <p:blipFill>
          <a:blip r:embed="rId1"/>
          <a:stretch/>
        </p:blipFill>
        <p:spPr>
          <a:xfrm>
            <a:off x="2133720" y="2286000"/>
            <a:ext cx="4724280" cy="32767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2514600" y="574524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colofor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4. Minerales laminad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liado, separables en hoj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áceo, similar a foliado pero más f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mellar o tabular, hojas plan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um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Agregado mineral de granos igu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ran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Otr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geo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alactí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livaj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edad de un mineral de romperse en determinadas direcciones, dejando caras más o menos plan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sponde siempre a superficies paralelas a caras reales o posibles del cris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pende de la estructura interna del crist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livaj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livaje puede ser malo, moderado o bueno, e incluso puede estar aus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 describir clivaje, se debe indicar la cantidad y dirección de cada uno; además no se debe olvidar su cal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Jose\GL31A\Minerales\calcite.gif"/>
          <p:cNvPicPr/>
          <p:nvPr/>
        </p:nvPicPr>
        <p:blipFill>
          <a:blip r:embed="rId1"/>
          <a:stretch/>
        </p:blipFill>
        <p:spPr>
          <a:xfrm>
            <a:off x="304920" y="304920"/>
            <a:ext cx="472428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Jose\GL31A\Minerales\fluorite.gif"/>
          <p:cNvPicPr/>
          <p:nvPr/>
        </p:nvPicPr>
        <p:blipFill>
          <a:blip r:embed="rId2"/>
          <a:stretch/>
        </p:blipFill>
        <p:spPr>
          <a:xfrm>
            <a:off x="4648320" y="3581280"/>
            <a:ext cx="4267080" cy="2986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5105520" y="6094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 en calc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85800" y="45720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 en fluo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artició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la tendencia de los minerales de romperse a lo largo de planos de debilidad estructural producto ya sea de tensiones o presi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mo la mayoría de las veces es paralelo a las caras de los cristales, suele confundirse con el cliva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Fractur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nera en que el cristal se rompe cuando no lo hace según una superficie de clivaje o de parti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forma de la fractura puede ser característica y distintiva de miner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oidal; fibrosa o astillo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errada; irreg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efinición de miner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n mineral se define como un sólido homogéneo con estructura interna ordenada, de origen natural e inorgánico, y con composición química definida (pero variable dentro de ciertos límit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urez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istencia que ofrece una superficie lisa de un mineral a ser rayad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le asigna un valor numérico simbolizado como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pende de la estructura cristalina, es decir, del tipo de enlace interat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una característica vectorial pues depende de la orientación cristalográfica para donde es ray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ureza</a:t>
            </a:r>
            <a:br>
              <a:rPr sz="4400"/>
            </a:br>
            <a:br>
              <a:rPr sz="1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abla de Mohs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 Tal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8. Topa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Yes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. Corind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Calcit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0. Diama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 Fluor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 Apat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 Ortocl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7. Cuar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Dureza</a:t>
            </a:r>
            <a:br>
              <a:rPr sz="4400"/>
            </a:br>
            <a:br>
              <a:rPr sz="1200"/>
            </a:br>
            <a:r>
              <a:rPr b="0" lang="es-ES_tradnl" sz="3600" spc="-1" strike="noStrike">
                <a:solidFill>
                  <a:srgbClr val="ffcc66"/>
                </a:solidFill>
                <a:latin typeface="Times New Roman"/>
              </a:rPr>
              <a:t>Objetos utilizados comúnment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ña :  2 a 2,5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neda de Cobre: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ero: 5 a 5,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idrio: 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rcelana: 6,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ayador de Tungsteno: 8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enacida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érmino asignado a la cohesión del cristal, o sea, corresponde a la resistencia a ser roto, doblado o desgarr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términos más utilizados s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Frági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rompe y pulveriza fáci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leabl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se deforma plásticament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Sécti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uede ser cortado con cuchillo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Tenacida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deformable en forma de alambre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Flexibl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minerales que se doblan pero no vuelven a su forma original (ejemplos son el talco y la clorita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Elástico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minerales que se doblan y logran recuperar su forma posteriormente (un ejemplo claro lo constituyen las mica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eso específico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denota por 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sponde a la relación entre el peso de un mineral y el peso de un volumen igual de agua a 4º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pende de la composición y estruc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Brillo.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specto general de la superficie de un mineral producto de la reflexión y difracción de la luz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lmente se divide en metálico y no metálico, utilizandóse el término submetálico para referirse a términos intermed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Color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olor de un mineral puede ser altamente característico o completamente inservible dependiendo del mineral en cuest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iste una amplia gama de minerales que presentan 2 ó más variaciones de color, esto posiblemente a impurezas existen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Ray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 una propiedad más flexible que el color de un mineral, generalmente varía me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determina rayando el mineral con otro más duro, determinando el color del polvo fino del miner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Luminiscenc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sponde a la emisión de luz de un mineral que no es resultado directo de incandesc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pueden tener los siguientes ca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luore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ocurre cuando los minerales son expuestos a rayos ultravioletas, rayos X o rayos catód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Familias de mineral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lic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Óx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idróx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lfu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lfa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ementos na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Luminiscenc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Fosfore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rresponde a la luminiscencia que continúa después de cortada la exci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ermolumini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opiedad de producir luz visible cuando se calientan a temperatura por debajo del roj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Triboluminiscenci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opiedad poseída por algunos minerales de volverse luminosos cuando son rotos, rayados o gast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piedades eléctricas y magnét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ndición de electricidad es relativa al tipo de enlace de los crist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nerales con enlace metálico son buenos conductores de electrici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magnetismo es una propiedad de algunos minerales de Fierro que atraen cualquier superficie imanta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Uso de estas propied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ásicamente consiste en utilizar alguna(s) de ella(s) para lograr reconocer mine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la práctica basta con utilizar a lo más cuatro para lograr el objetiv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or otro lado, algunas de estas propiedades son poco utilizadas por lo complicado de verificar o poner en práctica el método adecu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Otros características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sabor es una característica típica de algunos miner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gunos minerales logran adherirse medianamente a la len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ol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color de la llama de fue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acciones químicas provocadas por ácidos fuer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Otros características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Picture 4" descr="C:\Jose\GL31A\Minerales\halite.gif"/>
          <p:cNvPicPr/>
          <p:nvPr/>
        </p:nvPicPr>
        <p:blipFill>
          <a:blip r:embed="rId1"/>
          <a:stretch/>
        </p:blipFill>
        <p:spPr>
          <a:xfrm>
            <a:off x="2438280" y="1905120"/>
            <a:ext cx="4191120" cy="286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676520" y="51055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stales de halita fácilmente reconocible por su sabor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sa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piedades físicas y químicas de los mineral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t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ra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ur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nac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so Específ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Propiedades físicas y químicas de los minerale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ril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a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minisc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edades eléctricas y magné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Apariencia externa de los monocristales y forma en que los cristales crecen junto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1. Minerales aislado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cicular, forma de aguj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iliforme, pelos o hi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padas, cristales elongados y planos.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7"/>
          <p:cNvSpPr/>
          <p:nvPr/>
        </p:nvSpPr>
        <p:spPr>
          <a:xfrm>
            <a:off x="1752480" y="10666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ac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105520" y="4495680"/>
            <a:ext cx="25905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ábito de esp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10" descr="C:\Jose\GL31A\Minerales\Acicular.jpg"/>
          <p:cNvPicPr/>
          <p:nvPr/>
        </p:nvPicPr>
        <p:blipFill>
          <a:blip r:embed="rId1"/>
          <a:stretch/>
        </p:blipFill>
        <p:spPr>
          <a:xfrm>
            <a:off x="4648320" y="228600"/>
            <a:ext cx="4257720" cy="3362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:\Jose\GL31A\Minerales\bladed.jpg"/>
          <p:cNvPicPr/>
          <p:nvPr/>
        </p:nvPicPr>
        <p:blipFill>
          <a:blip r:embed="rId2"/>
          <a:stretch/>
        </p:blipFill>
        <p:spPr>
          <a:xfrm>
            <a:off x="304920" y="3124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upo de cristale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dendrítico, arborescente, ramas diverge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radi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drusas, superficie cubierta por pequeños crist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reticulado, en red de cristales fin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Hábito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upo de cristales individuales paralelos o radiados entre sí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lumn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ibro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e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otroidal, racimo de u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niforme, masas con forma de riñ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21:26:56Z</dcterms:created>
  <dc:creator>Manuel Salazar</dc:creator>
  <dc:description/>
  <dc:language>en-US</dc:language>
  <cp:lastModifiedBy>Luis Fernando Lopez</cp:lastModifiedBy>
  <cp:lastPrinted>2001-08-22T19:14:29Z</cp:lastPrinted>
  <dcterms:modified xsi:type="dcterms:W3CDTF">2008-05-13T10:10:43Z</dcterms:modified>
  <cp:revision>19</cp:revision>
  <dc:subject/>
  <dc:title>MINERALES</dc:title>
</cp:coreProperties>
</file>