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2.png" ContentType="image/png"/>
  <Override PartName="/ppt/media/image69.png" ContentType="image/png"/>
  <Override PartName="/ppt/media/image2.png" ContentType="image/png"/>
  <Override PartName="/ppt/media/image14.png" ContentType="image/png"/>
  <Override PartName="/ppt/media/image24.png" ContentType="image/png"/>
  <Override PartName="/ppt/media/image58.wmf" ContentType="image/x-wmf"/>
  <Override PartName="/ppt/media/image20.png" ContentType="image/png"/>
  <Override PartName="/ppt/media/image59.wmf" ContentType="image/x-wmf"/>
  <Override PartName="/ppt/media/image21.png" ContentType="image/png"/>
  <Override PartName="/ppt/media/image22.png" ContentType="image/png"/>
  <Override PartName="/ppt/media/image23.png" ContentType="image/png"/>
  <Override PartName="/ppt/media/image57.wmf" ContentType="image/x-wmf"/>
  <Override PartName="/ppt/media/image74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72.png" ContentType="image/png"/>
  <Override PartName="/ppt/media/image70.png" ContentType="image/png"/>
  <Override PartName="/ppt/media/image68.wmf" ContentType="image/x-wmf"/>
  <Override PartName="/ppt/media/image28.png" ContentType="image/png"/>
  <Override PartName="/ppt/media/image71.png" ContentType="image/png"/>
  <Override PartName="/ppt/media/image29.png" ContentType="image/png"/>
  <Override PartName="/ppt/media/image67.wmf" ContentType="image/x-wmf"/>
  <Override PartName="/ppt/media/image27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6.png" ContentType="image/png"/>
  <Override PartName="/ppt/media/image63.png" ContentType="image/png"/>
  <Override PartName="/ppt/media/image60.jpeg" ContentType="image/jpeg"/>
  <Override PartName="/ppt/media/image64.png" ContentType="image/png"/>
  <Override PartName="/ppt/media/image15.png" ContentType="image/png"/>
  <Override PartName="/ppt/media/image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61.wmf" ContentType="image/x-wmf"/>
  <Override PartName="/ppt/media/image3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559-6386-4170-BA9F-DEA730BE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E649-EBED-4E7D-B8C4-C66F389D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E3D9-E76E-4FEE-8A92-B78E4ACE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763-89A9-4C04-850A-1A4A4ACE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719-FD2B-4399-B488-1C0463EF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9398-F9AA-41A9-A56C-60C9E66E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B842-2D0E-4448-9A8E-D30AA57B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5CF-764A-4C75-8CCD-51CF13C7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CF59-310A-4E13-B223-90BBFADC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3FCB-0665-4A50-B281-5046A0D8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BE94-3A1C-4355-A128-78A3BBEB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8885-AD2F-4412-905B-10BAB98F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FE2C-EE63-46E4-9C68-3753C7EE504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www.bioinfo.org.cn/book/biochemistry/contents.htm" TargetMode="External"/><Relationship Id="rId2" Type="http://schemas.openxmlformats.org/officeDocument/2006/relationships/hyperlink" Target="http://www.aw-bc.com/mathews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65240" y="1560600"/>
            <a:ext cx="65692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c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 las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los Morgan S.,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A, Universidad de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589720" cy="5867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55040" y="6324480"/>
            <a:ext cx="660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 cadenas laterales de estos ami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s son capaces de establecer puentes de Hidróg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4245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525780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oxid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2 cisteínas vecinas permite form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uentes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lfuro. Estos enlaces pueden unir covalentemente cadenas polipeptídicas diferentes o también imponerle restricciones espaciales a una misma cadena polipeptíd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569360" cy="5435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683440" y="304920"/>
            <a:ext cx="6043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agua tiene la estructura de un dipolo el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trico gracias a la alta electronega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 oxígeno en relación al hidrógeno, de modo que los electrones de enlace tien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acercarse hacia el oxígeno. Este dipolo no posee cargas formales sino que se gen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 por una distribución asimétrica de los electrones de enlace. Permite la form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puentes de Hidróg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65160" y="762120"/>
            <a:ext cx="7213680" cy="5333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88240" y="304920"/>
            <a:ext cx="75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jemplos de polaridad. Una m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ula lineal será apolar cuando los vectores que forman el dipolo se anul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58880" y="711360"/>
            <a:ext cx="4026240" cy="54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8720" y="1962000"/>
            <a:ext cx="802656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715000" cy="5572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480" y="30492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s cadenas laterales no polares interact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an a través de interacciones hidrofóbicas, tales co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cciones de Van der Waals, que corresponden a interacciones débiles, en estrechos rango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ancia (en el radio de Van der Waals). Los grupos apolares son incapaces de formar inter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ares, tales como puentes de Hidrógeno o interacciones ión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15000" y="380880"/>
            <a:ext cx="2819520" cy="4077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5472000" cy="3708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472428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residuos ar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ticos absorben luz ultravioleta, alrededor de los 280 nm de longitud de onda. Estos grupos son capaces de formar interacciones hidrofóbicas, principalmente entre grupos aromát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1447920"/>
            <a:ext cx="8972640" cy="3047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5638680"/>
            <a:ext cx="8305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absorbancia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tensidad de luz incidente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nsidad de luz transmitida al atravesar la muestra en un trayec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3840" y="380880"/>
            <a:ext cx="8458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c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foro es una molécula capaz de absorber luz en un cierto rango de longitudes de onda característico, en el espectro UV-VIS. La absorbancia de un compuesto en solución es medida en un espectrofotómetro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8920" y="3581280"/>
            <a:ext cx="123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o: 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uterio: 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07200" y="3581280"/>
            <a:ext cx="214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ciona rangos estrech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longitud de on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0292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&gt; 0; I &lt;  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43560" y="495288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o/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18280" y="4994280"/>
            <a:ext cx="38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   (Ec. de Lambert-Be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6019920" cy="3790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5520" y="4572000"/>
            <a:ext cx="79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forma de zwitterion predomina a pH fisi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143000"/>
            <a:ext cx="6645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ciones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icas de Proteínas: Aminoácidos; Quiralidad; Polaridad; Interacciones no covalentes; Absorbancia; Acidez y Basicidad; Enlace Peptídico; Estructura I, II, III, IV; Plegamiento; Denaturación; Clasificación de Proteínas; Fu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5715000" cy="2171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9480" y="762120"/>
            <a:ext cx="8020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ecuac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Henderson-Hasselbach rige la disociación de cualquier ácido o base débil a un pH determinado. Sin embargo, no predice el comportamiento de un poliácido, tal como una proteí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9320" y="5105520"/>
            <a:ext cx="30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de,        HA         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5146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114800" y="5083200"/>
            <a:ext cx="1822320" cy="785880"/>
            <a:chOff x="4114800" y="5083200"/>
            <a:chExt cx="1822320" cy="785880"/>
          </a:xfrm>
        </p:grpSpPr>
        <p:sp>
          <p:nvSpPr>
            <p:cNvPr id="86" name=""/>
            <p:cNvSpPr/>
            <p:nvPr/>
          </p:nvSpPr>
          <p:spPr>
            <a:xfrm>
              <a:off x="4114800" y="5083200"/>
              <a:ext cx="182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a 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][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4952520" y="54640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38480" y="5500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HA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314400" y="5218200"/>
            <a:ext cx="13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lo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410080" y="609480"/>
            <a:ext cx="3289320" cy="5980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4920" y="457200"/>
            <a:ext cx="4759200" cy="6211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20000" y="22860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 = - lo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762800" cy="4038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82840" y="4724280"/>
            <a:ext cx="593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as latera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as, pueden formar interacciones iónicas, dependientes del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10080" cy="403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46800" y="4835520"/>
            <a:ext cx="652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s cadenas laterales tienen propiedad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-base, pueden formar interacciones ión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6640" y="1989000"/>
            <a:ext cx="3181320" cy="4077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3886200" cy="4076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8600" y="762120"/>
            <a:ext cx="79556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punto iso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trico (pI) corresponde al valor de pH al cuál una molécula tiene carga neta (z) igual a c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un zwitterion simple, pI = (p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+ p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/2 (a); Para un aminoácido de cadena lateral ácido-base, pI es el prome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los pK entre la especie con carga +1 y -1 (b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7880" y="1643040"/>
            <a:ext cx="792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 =         +1                           0                          -1                                     +2                   +1                    0                    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28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lculo d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o iso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trico (pI) de un aminoác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37200" y="59911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35164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26880" y="2590920"/>
            <a:ext cx="67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Niveles de la estructura de las pr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s y métodos de aná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162400" cy="3862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77120" y="4726080"/>
            <a:ext cx="73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ptido se define por la formación de al menos un enlace peptíd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enlace peptídico se forma entre un grup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ino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xi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enientes de dos aminoác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57520" y="1162080"/>
            <a:ext cx="3828960" cy="4076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9000" y="263520"/>
            <a:ext cx="759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structura primaria de una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 es su secuencia de aminoácidos, es carácterística de cada proteína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 ser determinada mediante métodos químicos o fís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585720"/>
            <a:ext cx="7183440" cy="6183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0320" y="152280"/>
            <a:ext cx="829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degrada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Edman (c) es un método químico para determinar la secuencia de aminoácidos (estructura prima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una cadena polipeptíd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8720" y="1206360"/>
            <a:ext cx="802656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537080" cy="367164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4932360" y="1079640"/>
            <a:ext cx="4103640" cy="4797360"/>
            <a:chOff x="4932360" y="1079640"/>
            <a:chExt cx="4103640" cy="479736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4932360" y="1079640"/>
              <a:ext cx="4103640" cy="30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rcRect l="0" t="37752" r="0" b="0"/>
            <a:stretch/>
          </p:blipFill>
          <p:spPr>
            <a:xfrm>
              <a:off x="4932360" y="3961080"/>
              <a:ext cx="4103640" cy="1915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79280" y="4089240"/>
            <a:ext cx="4753080" cy="2316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" y="228600"/>
            <a:ext cx="81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spectromet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masas es un método físico usado para determinar la estructura primaria de una proteí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1744560"/>
            <a:ext cx="8763120" cy="443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93640" y="212760"/>
            <a:ext cx="824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enlace pep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dico define a un péptido, y tiene carácter parcial de doble enlace. Por ello, el enlace peptídico es plano y no permite la libre rotación de sus sustituy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58920" y="762120"/>
            <a:ext cx="8785080" cy="2612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9480" y="414036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gulos de torsión en torno al Carbono alfa permiten flexibilidad conformacional a la cadena principal (cadena polipeptídica, sin considerar los grupos de cadena lateral, carácterísticos de cada aminoác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248440" cy="6172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30200" y="152280"/>
            <a:ext cx="834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subconjunto restringido de valores para lo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gulos de torsión de la cadena principal son observados en proteína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pueden distinguir rangos de valores esperados para cada estructura secunda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724280" cy="4554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72000" y="1219320"/>
            <a:ext cx="439272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 para ser funcional adopta una estruc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ida, llamada usualmente su estado nati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aturación: El estado nativo se puede pe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la acción de la temperatura, fuerza iónica, detergent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tes oxidantes, y caotróp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incipio de Anfins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 estructura tridimensional de una pro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á determinada por la secuencia de aminoácidos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se a numerosos progresos, el código de plegamient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decir, la predicción del estado nativo en base a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encia de aminoácidos aún no ha sido elucid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3241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438280" y="38088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veles de la estructura de pro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0120" y="4454640"/>
            <a:ext cx="121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: secuenci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3200" y="4454640"/>
            <a:ext cx="1738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: Estructura 3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ilizada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ntes de Hid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g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cadena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establecidos por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upo amida form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el enlace peptíd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76200" y="4378320"/>
            <a:ext cx="25124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: Estructura 3D de u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a polipep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d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a. Involucra arreglo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ructura II (estructura super-II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 interacciones de cadena latera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ante puentes de Hidrógen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cciones hidrofóbica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cciones iónicas (puen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inos) y eventualment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ntes disúlfu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80800" y="4378320"/>
            <a:ext cx="2535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: Ensamble de cade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pep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dicas en un comple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ional. Todas las inter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es en III pueden e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es en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79440" y="1306440"/>
            <a:ext cx="4022640" cy="5064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622840" y="1077840"/>
            <a:ext cx="2073240" cy="218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004080" y="3135240"/>
            <a:ext cx="1054080" cy="3417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12920" y="380880"/>
            <a:ext cx="43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ructuras secundarias: el alfa 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938160"/>
            <a:ext cx="7467480" cy="5919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74640" y="228600"/>
            <a:ext cx="79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j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ntiparalel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los puentes de H corren perpendiculares a la cadena princip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 hoj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s el arreglo de varias hebra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919920" cy="5784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96160" y="304920"/>
            <a:ext cx="75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j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aralel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Los puentes de H corren oblicuos a la cadena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4840" y="212760"/>
            <a:ext cx="695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ac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xperimental del contenido de estructuras secunda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3582720" cy="5181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30360" y="1254240"/>
            <a:ext cx="439020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 estructuras secundarias de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s pued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 determinadas mediante dicroísmo circular, u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écnica, en principio, similar al de la espectrofotomet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ólo que ahora se incide luz circularmente polariz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bre la muestra. Para la luz polarizada en cada senti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zquierda o derecha), una molécula quiralpresenta 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ores de su coeficiente de extinción mo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La diferencia entre ambas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es graficada cont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longitud de onda incidente y se obtiene un espec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dicroísmo circular. En la figura se muestran los espec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os carácterísticos de alfa hélice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, hoja b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y una cad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estructurada (random coil, rc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68480" y="0"/>
            <a:ext cx="340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41200"/>
            <a:ext cx="914400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6680" y="620640"/>
            <a:ext cx="4189320" cy="2671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3924360" cy="2962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24000" y="3373560"/>
            <a:ext cx="4319280" cy="3079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714920" y="3573360"/>
            <a:ext cx="4321080" cy="2681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3560" y="228600"/>
            <a:ext cx="89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rucutra Super Secundaria (super-II)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rrespopnde a arrreglos regulares de estructuras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506760" y="0"/>
            <a:ext cx="563724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35720" y="187200"/>
            <a:ext cx="402120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asume que la estructura n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e al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imo energé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lobal. Sin embargo, numerosos mínimos lo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n ser identificados. Algunos de ellos pu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rresponder a intermediarios en el cam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plegamiento de la proteí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doja de Levinth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tiempo en segundos, requerido p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 una proteína explore todas las conform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ibles se estima co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/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nde n = número de residuos en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ructura 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 una proteína de 100 residuo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8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o es mucho más que la edad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iverso, estimada alrededor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ños = 6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u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 imposible que una proteí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plore todo su espacio conform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ra adoptar su estado nativo.  Ci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minos de plegamiento deberían 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dentificados para cada proteín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32080" y="1332000"/>
            <a:ext cx="68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todos de separación de proteínas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Electroforesis, cromatografías y Técnicas de afi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38080" y="1430280"/>
            <a:ext cx="3533760" cy="3533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572000" y="1419120"/>
            <a:ext cx="3544920" cy="3544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28800" y="533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MUNOFLUORESC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105520"/>
            <a:ext cx="830592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TICUERPO PRIMARIO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TI-TUBULIN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TI-AC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TICUERPO SECUND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LOURESCEIN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ODAM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50628" t="44685" r="4088" b="31096"/>
          <a:stretch/>
        </p:blipFill>
        <p:spPr>
          <a:xfrm>
            <a:off x="5021280" y="3019320"/>
            <a:ext cx="2863800" cy="1316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2260" t="15521" r="52288" b="60260"/>
          <a:stretch/>
        </p:blipFill>
        <p:spPr>
          <a:xfrm>
            <a:off x="1774800" y="3019320"/>
            <a:ext cx="2874960" cy="13161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639800" y="476280"/>
            <a:ext cx="617220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MUNOHISTOQUIMICA/INMUNOFLUORESC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TECTA LA PRESENCIA DE UNA PROTEINA EN UNA CELULA/TEJIDO/ORGANISMO PERMITIENDO CONOCER SU EXPRESION ESPA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15440" y="2060640"/>
            <a:ext cx="24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MUNOFLUORESC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59160" y="249228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) DIRE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44880" y="2492280"/>
            <a:ext cx="13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) INDIRE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26320" y="4729320"/>
            <a:ext cx="131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CUB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18560" y="523872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V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3800" y="5715000"/>
            <a:ext cx="186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ISUALIZACION 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ICROSCOP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67080" y="4335480"/>
            <a:ext cx="12826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028840" y="4335480"/>
            <a:ext cx="12826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61" idx="2"/>
            <a:endCxn id="162" idx="0"/>
          </p:cNvCxnSpPr>
          <p:nvPr/>
        </p:nvCxnSpPr>
        <p:spPr>
          <a:xfrm>
            <a:off x="4784400" y="5033520"/>
            <a:ext cx="1080" cy="2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2" idx="2"/>
            <a:endCxn id="163" idx="0"/>
          </p:cNvCxnSpPr>
          <p:nvPr/>
        </p:nvCxnSpPr>
        <p:spPr>
          <a:xfrm>
            <a:off x="4784400" y="5543640"/>
            <a:ext cx="108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664720" y="4572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ctroforesis en soluc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0240" y="1025640"/>
            <a:ext cx="791820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foresis es una 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nica de separación de proteínas y ácidos nucléicos basados en su mig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un campo eléctrico. En solució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6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nde E, campo eléctrico; z, carga eléctrica del analito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viscosidad del medio; r, radio de Stokes (simi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 radio hidrodinámico), v, velocidad de migr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uego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= z/6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       (Tiselius, 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nde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es la migración electroforética en solución, o también llamada migración específic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9240" y="3276720"/>
            <a:ext cx="8555040" cy="22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lectroforesis en solu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fue reemplazada por la electroforesis en gel. En el caso de separar proteí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realiza electroforesis denaturante en geles de poliacrilamida (SDS-PAGE, del inglés “SDS-Polyacryl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l electroforesis). El gel funciona como soporte y es un medio poroso capaz de filtrar las proteínas por su tama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las moléculas pequeñas atraviesan el gel más rápido), mientras que el campo eléctrico aplicado sobre el ge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ite su separación por carga. La acción del detergente aniónico, SDS permite imprimirle a la proteína denatu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carga eléctrica negativa, aproximadamente proporcional a su masa. En SDS-PAGE, se cumple aproximadamente q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(A - logMW)/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nde MW, peso molecular en daltons (g/mol); A = logMWo, una especie de tamaño tal que no migraría en el g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migración en mm. Luego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es inversamente proporcional al logMW, con una pendiente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/A, y un intercepto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S-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4521240" cy="5040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453360" y="290520"/>
            <a:ext cx="1574640" cy="3786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767120" y="3938760"/>
            <a:ext cx="37990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179280" y="404640"/>
            <a:ext cx="7372440" cy="5851800"/>
            <a:chOff x="179280" y="404640"/>
            <a:chExt cx="7372440" cy="585180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179280" y="404640"/>
              <a:ext cx="7372440" cy="585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267080" y="1600200"/>
            <a:ext cx="4267440" cy="4267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2882880" cy="2286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2895840" cy="2895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152280"/>
            <a:ext cx="9026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WESTERN BLO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nsferencia electrofo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tica de proteínas desde un gel a una matri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ólida (ej. nitrocelulosa). Proteínas específicas son identificadas después de incubarlas con anticuerpos específicos y revelarla reacción antígeno-anticuerpo mediante una reacción coloreada o quimio-luminisc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pro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 es un polímero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L)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inoác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Propiedades de los aminoá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504960" y="380880"/>
            <a:ext cx="22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WESTERN B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192320"/>
            <a:ext cx="7556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. INCUBACION CON EL ANTICUERPO PRIM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4. INCUBACION CON UN ANTICUERPO SECUNDARIO ACOPLADO A UN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ENZIMA (FOSFATASA ALCALINA O PEROXIDA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5. DETE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6760" y="277956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TEI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82840" y="5394240"/>
            <a:ext cx="139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TEI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MOBI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63720" y="562932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81640" y="5081760"/>
            <a:ext cx="19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NTICUERPO PRIM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49400" y="523404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0280" y="3924360"/>
            <a:ext cx="22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NTICUERPO SECUND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8840" y="3301920"/>
            <a:ext cx="153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NZ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FA/PEROXIDA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74960" y="3524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74960" y="4065480"/>
            <a:ext cx="49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874960" y="3124080"/>
            <a:ext cx="2352600" cy="2960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486400" y="3124080"/>
            <a:ext cx="3429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371600" y="627120"/>
            <a:ext cx="7232760" cy="62355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74640" y="228600"/>
            <a:ext cx="77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s pro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nas también pueden ser separadas por su punto isoeléct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4835520" cy="5489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410080" y="1066680"/>
            <a:ext cx="3375000" cy="5791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152280"/>
            <a:ext cx="449568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oelectroenfoqu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Las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s migran en un campo eléctrico a través de una gradiente de pH. Las proteínas dejan de migrar cuando encuentran el pH que corresponde a su pI (z=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54040" y="87480"/>
            <a:ext cx="40154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ctroforesis 2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Desp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 de un isoelectroenfo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corre un SDS-PAGE y se obtiene una sepa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2 dimensiones. Permite el análisis de muest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niendo muchas proteínas distintas. Se usa 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óm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458200" cy="60771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000080" y="228600"/>
            <a:ext cx="67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r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s también pueden ser separadas sólo por su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016600" y="0"/>
            <a:ext cx="41274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52880" y="60480"/>
            <a:ext cx="61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matogra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Filtración en Gel (o de exclusión molecul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7320" y="457200"/>
            <a:ext cx="426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 matriz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ida porosa permite incluir en ella proteí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bajo peso molecular (eluyen tardiamente de la colum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que recoren un camino más largo), y excluir proteína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or peso molecular (que no caben en los poros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 sólida. La separación ocurre en solu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4953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7696440" cy="5226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038240" y="5181480"/>
            <a:ext cx="6997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v = (Ve - Vo)/(Vt-Vo); donde Vo, volumen de exclus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; Ve, volumen de elución; Vt, volumen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5644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06200" y="154080"/>
            <a:ext cx="539568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matogra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intercambio catió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atriz sólida (fase estacionaria) está cargada negativa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mdo que interactúa con cationes (cationes son retardados en la column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entras que los aniones son repelidos y eluyen inmediatam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cationes pueden ser eluidos después de adicionar cat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 interactúen con la matriz, permitiendo la elución de proteínas básic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o es, cargadas positivamente. El mismo principio es usado p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lizar cromatografías de intercambio aniónico, sólo que en este ca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atriz está cargada positivamente y permite el intercambio de an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proteínas cargadas negativamente, proteínas ácida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29360" y="2625840"/>
            <a:ext cx="266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os son casos de cromatogra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intercambio ión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3578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224000" y="3049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matogra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afi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8200" y="1254240"/>
            <a:ext cx="3918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este caso, un ligando espe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ico de u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ína de interés está unido covalente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a matriz sólida. La proteína que une el lig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anece incluída en la columna, y puede 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uida por la adición de ligando soluble 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fase móvil (solución). Se utiliza en los últimos pa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una purificación. Es ampliamente usado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urificación de proteínas recombina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rcRect l="2356" t="0" r="4008" b="0"/>
          <a:stretch/>
        </p:blipFill>
        <p:spPr>
          <a:xfrm>
            <a:off x="4103640" y="0"/>
            <a:ext cx="504036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8600" y="1066680"/>
            <a:ext cx="3809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romatogra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afinidad ocupa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proteínas en estado nativo, de modo que perm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r proteínas que interactúan con otras form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jos que pueden tener un significado fun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ués de un análisis electroforético, los com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 complejo pueden llegar a ser identifi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158920" y="914400"/>
            <a:ext cx="5856480" cy="5943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41560" y="187200"/>
            <a:ext cx="792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principio de afinidad se puede usar a gran escala para probar interacciones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 -proteína de una col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roductos génicos. Es una aproximación usada en análisis proteóm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038480" cy="334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441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25080" y="4343400"/>
            <a:ext cx="666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mi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 denota que un m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o une un grupo carboxilo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grupo am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841320"/>
            <a:ext cx="9144000" cy="6016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49840" y="304920"/>
            <a:ext cx="83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la medida que se progresa en la purifica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proteínas, se pierde actividad total, pero se gana actividad especí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640320" y="1001880"/>
            <a:ext cx="246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munoprecipit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9440" y="1828800"/>
            <a:ext cx="721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 demo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bio.davidson.edu/courses/GENOMICS/IMPfolder/IMP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2880" y="2895480"/>
            <a:ext cx="80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principio es similar al de la cromatogra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afinidad, sólo que se hace en ausencia de una colum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anticuerpo específico se une a bolitas de sefarosa. Dado el tamaño de las partículas de sefaros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ite la precipitación del antígeno específico, y tambien permite co-precipitar otras proteínas que interactúan c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teína de interé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2330" t="3795" r="1589" b="0"/>
          <a:stretch/>
        </p:blipFill>
        <p:spPr>
          <a:xfrm>
            <a:off x="1187280" y="1523880"/>
            <a:ext cx="5264280" cy="5334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60080" y="177840"/>
            <a:ext cx="858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stema de Doble 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brido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ermite identificar interacciones entre proteín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vivo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proteína de fusión con 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minio de unión a DNA sirve como carnada, mientras que una proteína de fusión con un dominio de activación sirve co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a. Cuando el dominio de activación y el dominio de unión a DNA se encuentran cerca, producto de la inte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e la proteína carnada y la proteína presa, se activa la transcripción de un gen reportero que evidencia que la inte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urrió. Todo el sistema debe ser expresado en una misma célula, usualmente en levad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8800" y="351000"/>
            <a:ext cx="89805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rtefactos del sistema de doble híbr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alsos posi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un factor de transcripción es usado como ce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interacciones inespecí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el cebo o la presa afectan la viabilidad cel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entos aleatorios de origen descono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alsos nega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edimento estérico entre las proteínas de fusión previene la función del repor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estabilidad de las proteínas de fu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lla en la localización subcelular relevante para la actividad del repor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dentificación de los Artefac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 Confirmar la reproducibilidad de la inte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Uso de múltiples report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 Uso de métodos independientes para determinar especif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-33480" y="1143000"/>
            <a:ext cx="91951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étod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entaja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ble híbr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mple, barato y sensib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lsos posi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 v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ctrometría de Masa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cta complejos proteic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o, sofist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lento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 v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ips de proteína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diciones definid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tenci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 vitr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fisiológico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*) Requiere purificación de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hninger, A. (1994) Principles of Biochemistry. 3rd 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ioinfo.org.cn/book/biochemistry/contents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thews &amp; van Holde (1999).  Biochemi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w-bc.com/mathew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397512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440" y="136440"/>
            <a:ext cx="862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estructura tet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drica regular del átomo de carbono permite enlazar un máximo de 4 sustituyentes distintos. Dos isómeros son posibles. Uno, y su imagen en el espejo (enantiómeros). La relación de enantiomería es llamada quiral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26560" cy="430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6480" y="4038480"/>
            <a:ext cx="708588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ami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 denota quiralid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apacidad de desviar el plano de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uz polarizada hacia la izquie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levo-rotac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5227560" cy="5333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38680" y="609480"/>
            <a:ext cx="28195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cialmente, con 20 ami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podrían forma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400 dipéptidos difer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8000 tripéptidos difer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1.27x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3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ínas diferentes contenie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0 residuos de aminoáci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número de átomos del univer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estimada en 9x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7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aminoácidos pueden diferenciarse por su polarida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iedades ácido-bas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drofobicidad, tamaño, flexibilidad conformacional, reactividad química, capacidad de formar puentes de hidróg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13:52:12Z</dcterms:created>
  <dc:creator>Paulina La Bella</dc:creator>
  <dc:description/>
  <dc:language>en-US</dc:language>
  <cp:lastModifiedBy>Gina</cp:lastModifiedBy>
  <dcterms:modified xsi:type="dcterms:W3CDTF">2008-08-25T20:04:02Z</dcterms:modified>
  <cp:revision>51</cp:revision>
  <dc:subject/>
  <dc:title>Diapositiva 1</dc:title>
</cp:coreProperties>
</file>