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FBCA-15CF-4F76-82E6-F9F74EDF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45E4-2E2B-4CAC-BEC4-B19010C7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1143-8829-4FE2-8296-3AE10589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B9B2-DBE7-4AD3-B5A3-BF5AB942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FB3A-1B9F-48D8-917E-2CA48858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37DE-8DC3-40F9-9CF3-F46BC9FF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232B-DF49-47CC-80A6-DF634705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BD07-A938-4966-99FD-33951687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BD84-D6FE-41F6-8EF8-8BD8AB6F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8AC2-0FCF-468A-A4C3-118F49D4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53F2-E05A-4123-BDA7-F3B69CFA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81B3-B87C-46A8-BF42-09055DE4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6F19-8194-480D-BAA8-E51DE7217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pH en el cuál se desarrollan fluctúa entre 1.5 y 2.5, con pH óptimo que depende de la fuente de energía que estén utilizando, Fe(II) o azufre reduc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Qué se obtiene a bajos p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olubilización de sustra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e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(F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ERÓBICOS ESTRICTOS O FACULTATIV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sí estos M.O. serían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anaerobios facultativ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por lo que serían capaces de oxidar los minerales en ausencia de oxí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S + 8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u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canismo pro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S + 2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u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S + 2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 + 2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6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DE LIXIVI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ixiviación á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 consume el ácido, se detiene la reacción y el pH sub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DE LIXIVI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ixiviación fér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 el mecanismo más efectivo de lixiviación, disuelve los sulfuros metálicos, pero genera una capa de S elemental, que impide que este proceso contin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más cuando se consume el Fe(III), se detiene la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EN PRESENCIA DE BACTER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rtir de 1960 cuando recién comenzaron estudios biológicos sobre participación de M.O. en lixiviación de minerales sulfurados se consideró que los M.O. actuaban mediante alguno o los dos mecanismos siguie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M.O. se adhieren al sólido, generando un biofilm, luego comienzan a disolver directamente el sulfuro o el S elemental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S  +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e mecanismo sólo lo ejercen los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.O. capaces de oxidar compuestos reducidos de 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M.O. adheridos así como los que se encuentran en solución, en presencia de oxígeno y d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ueden oxidar el Fe(II) a Fe(III), segú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F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1/2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reacción consume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lo qu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puede producir precipitación de Fe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e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3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acción que sería 1.000.000 de veces más rápida que la reacción en ausencia de bacte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e(III) es un muy buen oxidante de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e(II) resultante de esta reacción puede ser nuevamente oxidado a Fe(III) por las bacterias, así esta cadena de reacciones: oxidación de Fe(II) por bacterias y oxidación de los sulfuros por el Fe(III)  puede continuar dando lugar a la disolución de los sulfuros metálicos mediante la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ción indirecta de los M.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CIONES ASOCIADAS A LOS PROCESOS DE BIOLIXIVI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. Lixiviación férrica (producto de la acción bacterian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 Consumo de ácido por oxidación de Fe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 Precipitación de Fe(OH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generación de ácido asociada a esta re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 Oxidación de S y generación 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CANISMOS DE ACCIÓN DE ALGUNOS MICROORGANIS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canismo Directo: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ferrooxida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thiooxida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M.O. con capacidad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oxidar compuestos de S reduc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canismo Indir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cidithiobacillus ferr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M.O. con capacidad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oxidar Fe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udios realizados a partir de 1995, por W. Sand han determinado o demostrado que el mecanismo directo de oxidación de sulfuros no existiría. Es decir, no existirían mecanismos en ausencia de Fe(III), para disolución de sulfu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. Glucurónico de los LP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t.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e uniría a Fe(III) formando complejos los cuales se encontrarían en el biofilm que producen las células al adherirse al mineral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ntención de sustratos en forma solu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más alto pH menor cantidad de Fe(II) disponible por precipitación de Fe(OH)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, por la oxidación del Fe(I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Fe 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1/2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2 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  (quími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Fe(OH)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+ 3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 partir de pH 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s células que no contienen LPS no pueden adherirse al mineral y tampoco pueden disolver los sulfur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élulas  + Mineral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herencia (L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cuerdo a esta teoría células crecidas en S no se adhieren a pirita (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y tampoco la oxidarí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posición de W. Sand en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acuerdo a estudios cristalográficos de los sulfuros metálicos, existirían dos grupos de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lfuros constituídos por cristales que pueden ser solubilizados sólo por Fe(II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lfuros constituídos por cristales que pueden ser solubilizados por Fe(III) y 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W. S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del tiosulfat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sulfuros que serían disueltos sólo por Fe(III) serían 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Mo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W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un producto intermedio importante sería el tiosulf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 este mecanismo de lixiviación química y bacteriana, a partir del sulfuro se produce tiosulfato, tetrationato y sulfato como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+  Fe 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F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–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n presencia de oxíge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EL TIOSULF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449440" y="1981080"/>
          <a:ext cx="4243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981080"/>
                    <a:ext cx="4243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del polisulf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sulfuros que serían disueltos por Fe(III) y H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erían CuFe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Cu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y un producto intermedio importante sería el polisulf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 este mecanismo de lixiviación química y bacteriana, a partir del sulfuro se produce polisulfuro, S elemental y sulfato como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Fe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Fe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u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n presencia de oxíge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. S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 DEL POLISULFU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314440" y="1981080"/>
          <a:ext cx="4513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4440" y="1981080"/>
                    <a:ext cx="4513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EVOS MECANIS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posición de H. Tributsch en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partir de estudios de microscopia electrónica se ha demostrado que para que se produzca la oxidación del sulfuro es necesario que las bacterias se contacten a través de los EPS con el sulfur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el cas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At.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las bacterias almacenarían el S en el biofilm (EP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ra el cas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las bacterias almacenarían fragmentos de pirita en el biofilm (EPS-F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ANISMOS PROPUESTOS PO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. TRIBUTS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gún Tributsch existirían tres mecanismo utilizados por las bacterias para la disolución de los sulfu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por contact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indirect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S + Fe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+ H2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xiviación cooperativa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roducen simultáneamente ambos mecanismos: por contacto e indirecto; bacterias utilizarían nutrientes solubilizados desde el mi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219320" y="914400"/>
          <a:ext cx="6553080" cy="5029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14400"/>
                    <a:ext cx="65530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295280" y="990720"/>
          <a:ext cx="6477120" cy="5029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90720"/>
                    <a:ext cx="6477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membrana celular de estos M.O. es impermeable a los protones, que se encuentran en el medio de cultivo. (pH 1.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H al interior del citoplasma es alrededor de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cterias acidófilas requieren una diferencia de pH entre el medio y el citoplasma, para generar energía (ATP) por fosforilación oxida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LAS REACCIONES QUÍMICAS DE GENERACIÓN D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(III) COMO SULFATO FÉRRICO (F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EXPLICAN LA ACTIVIDAD OXIDATIVA DE ESTAS BACTERIAS SOBRE LOS SULFUROS METÁLICOS</a:t>
            </a:r>
            <a:br>
              <a:rPr sz="3600"/>
            </a:b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LIXIVIACIÓN BACTERIANA DE MINERALES SULFURADOS ES UN PROCESO NATURAL EN EL CUAL PUEDEN PARTICIPAR BACTERIAS, LAS QUE ACTÚAN COMO CATALIZADORES Y LO HACEN ACTIVAMENTE CUANDO EN EL AMBIENTE EN EL CUÁL ELLAS SE ENCUENTRAN, SE DAN CIERTAS CONDICIONES COMO HUMEDAD, TEMPERATURA, DISPONIBILIDAD DE NUTRIENTES, AUSENCIA 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UESTOS TÓXIC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ETC.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transferencia de electrones y protones desde el medio al interior de la célula lleva a la generación de un potencial electroquímico de transmembrana debido a lo cuál se produce síntesis de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DP + Pi   </a:t>
            </a:r>
            <a:r>
              <a:rPr b="0" lang="es-E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ATP + 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8137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MICROORGANISMOS ACID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oxidación de S o sulfuros genera ácido, por lo que el pH del medio ambiente puede ser más al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+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ha descrito crecimiento en medio S algo menor para cultivos a pH 5.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ACIDAD DE FIJAR NITRÓ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 demostrado que un gran número de cepas que participan en los procesos de biolixiviación son capaces de fijar nitrógeno. Esta característica es debida a la presencia de Nitrogen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2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itrogen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minoácidos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Bases orgánic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idos nucle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ACIDAD DE FIJAR NITRÓ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a capacidad se ha demostrado en cepas 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ferrooxid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Leptospirillum ferrooxid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thiooxidan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o está comprob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3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puede encontrar presente en la gan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¿AERÓBICOS ESTRICTOS O FACULTATIV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ha demostrado que los M.O. como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Acidithiobacillus ferrooxidans, Sulfobacillus thermosulfidooxidans y Sulfolobus metallicus,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que oxidan compuestos de S reducido en condiciones aeróbicas, también lo pueden hacer en ausencia de oxígeno, pero en presencia de Fe(III), que actuaría como aceptor de los electron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10:24:11Z</dcterms:created>
  <dc:creator>Blanca Escobar</dc:creator>
  <dc:description/>
  <dc:language>en-US</dc:language>
  <cp:lastModifiedBy>Reynaldo Charrier</cp:lastModifiedBy>
  <dcterms:modified xsi:type="dcterms:W3CDTF">2008-07-31T15:39:25Z</dcterms:modified>
  <cp:revision>4</cp:revision>
  <dc:subject/>
  <dc:title> SON MICROORGANISMOS ACIDÓFILOS</dc:title>
</cp:coreProperties>
</file>