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E2ED9-A162-463F-9A79-6CBA77472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3B08C-BD09-444F-856C-489E3BC92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C7D4D-E838-46B9-8275-EDDB9B981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3E5FD-36FD-4C8C-8F58-A7BA9D1C3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3075B-22CB-4586-812B-318E12F02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886B-42A8-4224-AA71-F3969755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D029-5775-4E05-8488-33A0794D9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EA11-8DEB-44AE-8ED8-683FC6FA5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805AD-EBA5-44A5-A086-7538BAAC1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987E-3153-4C58-AF0F-01403D2A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A629-3F8B-4A29-A278-EB066E60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01B55-AC09-401B-A549-1A73BA7E1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966F-67EC-4F77-8383-919A438A1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6-10-02T15:08:36Z</dcterms:modified>
  <cp:revision>31</cp:revision>
  <dc:subject/>
  <dc:title>METANOGENESIS </dc:title>
</cp:coreProperties>
</file>