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02AA-A709-4C10-9388-3658F196D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8187-544D-4138-B7F8-197986F7B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4424-A270-46E5-8A09-9DDF3BD29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A34B-0400-4DF2-9E16-00AA8006F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EA93-EBD1-4F80-9BE1-4C6B29F22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5087-84B0-4C2D-9A79-3C69C0FF2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9097-646D-49E7-A06D-E8CF46941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7990-180D-4C8D-8CA4-11A1764B4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AF25-A4B8-41A0-BD38-9EC974ED6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9377-0639-4394-AC4B-42E8A3F91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15D3-1E22-400D-A144-5538C9EFE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4B89-5572-4C34-8F4E-98B091779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12DCF-B338-4EB1-8717-6F8D4FBEBB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TENCION DE ALIMENTOS POR FERMENTAC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543312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1696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MX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ambién se ha demostrado la producción de Bacteriocinas, proteínas que inhiben el desarrollo de otros M.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Históricamente estos cultivos mixtos se desarrollaron por crecimiento de contaminantes naturales de la lech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xisten evidencias que dan cuenta del uso de métodos de preservación de la leche desde hace unos 8.000 a 9.000 añ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Hoy se conoce la mayoría de las especies y géneros de estos iniciadores, siempre quedan algunos desconocido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CROORGANISMOS EN FERMENTACIONES LÁCT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ultiv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roductos fi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Lactococcus lacti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s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lacti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ác. lác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Lactococcus lacti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s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cremori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ác. lác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Lactococcus lacti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s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lactis  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iacetilo,CO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biovar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. diacetylactis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cetaldehí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Streptococcus salivariu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ác. láctico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thermophilu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cetaldehí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Lactobacillus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ác. láctico, ác. acético, ác. gras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Leuconostoc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diacetilo, etan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Propionibacterium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CO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ác. propiónic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evaduras, hong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esacidificación, lipólisis,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proteóli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CIÓN DE QUE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enza con acidificación mediante conversión de lactosa en ácido láctico por acción de determinados microorganismos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so roquefort se obtiene por el crecimiento del hongo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nicilium roquefor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ionibacterias producen ácido propiónico que se acumula en los hoyos del queso suiz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CIÓN DE QUE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idificación de la leche permite que las proteínas coagul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agregar renina (proteasa) se forma el cuajo, que separado del suero forma requesón o queso fresco de camp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ando la crema en lugar de leche se cuaja el producto es queso cre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mbién se puede hacer otros tipos de queso:  se calienta para eliminar la humedad y se deja madurar mediante actividad bacteriana adicio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CIÓN DE QUE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endiendo del contenido de humedad es el tipo de queso que se obtien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M.O. usados para madurar el queso, hidrolizan proteínas y grasas y además dan determinados sabores, flavores y aspecto al ques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. Brie y Camember son quesos sua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DUCCIÓN DE YOGU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mbién la leche puede ser acidificada y aromatizada mediante fermentación controlada para producir yogurt. 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ctobacillus bulgaricu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ptococus termophilu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viert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ctosa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. láctico, acetaldehí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 temperatura utilizada normalmente es 40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utilizan en una relación 1:1para obtener el flavor y la textura adecuad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. termophilus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ría formiato el que estimularía el crecimiento de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. bulgaricu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ero no sería el único sustrato limitante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DUCTOS LÁCTEOS FERMENTAD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ra leche acidificada es el kefir, producida por la fermentación de bacterias del ácido láctico y levaduras que producen algo de alcoh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tequilla se obtiene por fermentación de nata de leche pasteurizada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iacetil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productos que se hacen por fermentación de leche, además de ser consumidos por su sabor o por su valor nutricional, también aportarían una acción antipatogénica sobre el intestino human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che sin lacto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TECNOLOGÍA EN PRODUCTOS LACTEO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aplica ingeniería genética con el objeto de mejorar la calidad de las proteínas (casein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-Caseina </a:t>
            </a: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jora la cuaj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mentando el rendimiento en que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BRICACIÓN DE PA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BRICACIÓN DE P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 fabricación del pan se originó hace miles de años atrás y lo mismo que el vino, la cerveza, el queso y las leches fermentadas se encuentra entre los productos más antiguos modificados microbiológicam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n los pueblos (civilizaciones) más antiguos el pan fue la mas importante fuente nutricional y energética. (Egipto, Grecia, Babilonia y Roma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n estas civilizaciones también avanzaron en el arte de hornear, de moler el trigo, etc.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DUCTOS LÁCTE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che como materia prima para la indust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alidad de la leche depende de la higiene y de la composi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higiene se relaciona con la calidad bacteriológica y con el contenido de células somátic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omposición de la leche se refiere a su contenido en: grasas, proteínas y sóli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omposición de la leche se puede alter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manejo nutricional o por mejoramiento genéti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BRICACIÓN DE P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l trigo es el grano más importante en la fabricación del pan por su superior valor nutritivo y textura respecto de otros granos como cebada, avena, centeno, maíz y arroz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ambién otros tipos de masas son preparados a partir de macerados de almidón provenientes de cassava y otras plantas o de legumbres (poroto de soya).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ualquiera sea el grano utilizado y aunque es convertido en masa y horneado, siempre se encontrarán poblaciones de M.O. presentes, usualmente como habitantes nativos de las materias primas utiliza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us actividades fermentativas afectarán en distintos grados la textura, el flavor, color y características nutricionales del producto fi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s especies microbianas y su concentración en la mezcla de fermentación puede cambiar con las diferentes harinas utilizadas, la naturaleza del  líquido y otras adiciones a la masa, así como la forma en que se maneja la masa antes de que sea calentada por vapor, horneada o fri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s fermentaciones durante la fabricación del pan son producidas en la mayoría de los casos por unas relativamente pocas especies de levaduras y de ciertas bacterias formadoras de ácido láctico.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ando los M.O. fermentadores producen dióxido de carbono desde los azucares presentes o agregados a la masa, lo distribuyen en la masa generando celdillas que aclaran o alivianan la mas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os tipos de M.O. pueden ser usados para fermentar la masa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ezclas de levaduras y bacterias que crecen espontáneamente en el batido y en la ma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niciadores ácidos para el hogar o pastelería que son mantenidos por transferencia a sustratos fresc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ultivos iniciadores comerciales para acidificar las masas obtenidos con monocultivos de cepas de lactobacilos heterolácticos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evadura de panificación “Saccharomyces cerevisiae”, la mas utilizada en el mundo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a adición intencional de cultivos conocidos de levaduras y/o bacterias a la masa de panificación ayuda a la masa a obtener un control sobre el ambiente microbiano, especialmente la regulación de la velocidad de fermentación y los cambios físicos que afectan la textura, el flavor, la apariencia del pan hornea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L PAN BLANCO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a masa del pan blanco consiste de harina de trigo, agua, levadura y cloruro de sodio en la proporción de 100:65: 2:2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e pueden agregar otros ingredientes con el propósito de modificar el flavor o el valor nutricional. Entre estos están azucares (glucosa o sacarosa) leche no grasa en polvo y grasa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L PAN BLAN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bido al contenido en gluten, proteína compleja del trigo, se forma una masa elástica, la cuál retiene los gases que se produc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acción de las levaduras resulta en la producción y migración de dióxido de carbono en una red de compartimentos celulares. Estos cambios aumentan el volumen de la masa y mejoran su palatabilidad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L PAN BLAN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Otros productos metabólicos de la fermentación y del proceso de horneado, contribuyen al aroma y flavor del pan horne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 harina de trigo contiene alrededor de 0.5% de azúcares fermentables, especialmente glucosa, fructosa, sacarosa, maltosa y glucofructosanos en cantidades que son adecuados para una rápida y sostenida ferment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L PAN BLAN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n ausencia de azúcares agregados, las levaduras rápidamente metabolizan glucosa, luego fructosa y malto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Mas maltosa llega a estar disponible desde la masa en las últimas etapas a través de la acción hidrolítica de las amilasas de la harina sobre el almidón contenido en los gránulos de almidón fracturados.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DUCTOS LÁCTE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ción de la leche se puede alterar para preservar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 mediados del siglo 19 se comenzó a hacer procesos de evaporación, posteriormente de esterililiz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se tiene leche fresca sin agitar es posible separar la crema, la que se va a procesar para producir mantequilla y queso, la parte de abajo con poca crema se lleva a deshidratación. 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L PAN BLAN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Bioquímicamente el proceso de fermentación procede por la Vía de Emden-Mayerhof o vía glicolítica rindiendo aproximadamente 0.47g CO2 (270 ml) y 0.48 g de etanol por g de glucosa fermentada. Otros productos incluyen glicerol, ácido succínico y pequeñas cantidades de aldehídos, cetonas, éster etílico y otros component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L PAN BLAN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cterias del ácido láctico siempre acompañan a las levaduras de panaderí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 más altos números encontrados son 100 millones de células por gramo de levadu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Ácidos láctico y acético se encuentran presente en las masas de pan blanco y son los más importantes ácidos residuales en el pan termin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ácido láctico es un líquido sin color, casi sin olor con un fuerte gusto ácido.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L PAN BLAN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 ácido acético se caracteriza como un ácido débil con un olor frutoso y sus diluciones tienen un gusto agrad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han reportado niveles de 50-100 mg de ácido láctico y 10 a 50 mg de ácido acético por libra de pa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os esteres etílicos pueden también aument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 flavor del p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DUCTOS LÁCTE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ción normal de la le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6% grasa 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ácidos grasos esen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2% proteí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7% lacto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taminas, minerales, 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CESAMIENTO DE LA LE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fabricación de quesos se concentran proteínas y grasas, se reduce H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y se eliminan carbohidratos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ltrafiltración:  microfiltración a alta pre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era la composición (concentración de proteínas  y grasas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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e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licación de calor e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eficioso ya que reduce la carga microbiana y elimina patóge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también perjudicial ya que desnaturaliza proteínas: inmunoglobulinas y enzimas. También 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minuye actividad de las vitami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TENIDO DE COLESTEROL EN LA LE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-15 mg/100ml le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esterol  </a:t>
            </a:r>
            <a:r>
              <a:rPr b="0" lang="es-E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2-04% lip-t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% colesterol disuelto en la gr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% en membrana del glóbulo gra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% en leche descrem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 reducción es importante en la di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ATAMIENTOS TÉRMICOS A LA LE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teurizacion de la leche: 72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 por 16 seg. o 63ºC  por  30 minu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co efecto sobre la calidad de la le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erilización de la leche: 120ºC por 20 minu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o U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5  - 145ºC por varios segun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roducen cambios en la leche:  las proteínas tienden a coagular, formar geles o precipitar durante el almacena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DUCTOS LÁCTE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leche puede ser fermentada para producir queso, yogurt, crema ácida, o mantequilla por bacterias del ácido láctico y streptoco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os tienen menor contenido de agua (-a 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or facilidad para ser decompuestos por M.O. (mas estab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ía el 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a duración comparada con la leche natur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che debe ser previamente pasteuriz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o obtenido depende del tipo de leche, de los M.O.inoculados y de las condiciones del procesa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265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MX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77724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 crecimiento de M.O. en la fermentación de la leche, no sólo sirve para preservarla al producir inicialmente ácido láctico desde lactosa sino también resulta en una variedad de productos metabólicos y actividades enzimáticas los cuales llevan a una vasta variedad de leches fermentadas y quesos disponibles hoy en dí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s sustancias antagónicas que producen estas bacterias serían ácidos orgánicos: láctico, acético, propiónico, H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bajo pH, aw reducida en ques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ha demostrado actividad inhibidora sobre una variedad de M.O. patógenos: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Salmonella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S. aureus, E. coli, Listeri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etc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9:02:25Z</dcterms:created>
  <dc:creator>Blanca Escobar</dc:creator>
  <dc:description/>
  <dc:language>en-US</dc:language>
  <cp:lastModifiedBy>Blanca Escobar</cp:lastModifiedBy>
  <dcterms:modified xsi:type="dcterms:W3CDTF">2007-10-04T22:20:31Z</dcterms:modified>
  <cp:revision>27</cp:revision>
  <dc:subject/>
  <dc:title>BIOTECNOLOGIA MICROBIANA</dc:title>
</cp:coreProperties>
</file>