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0C5E3-98EC-4118-881F-6D3A3E7D1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D3A4F-D3DD-41E4-9073-F6B66E5F8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8806E-E1FF-4538-9AEB-3B8EC500E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210B3-2BDB-4BAC-A126-47512F495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25EAA-956E-4E69-A853-FCBCF0430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F6F79-5807-4EFC-AB3C-422EBC390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7260-F06D-44AC-90AE-1D45A8252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8EA08-C383-4955-870A-7438E4EEF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F9F6A-FFC2-4EF3-88D0-2902D48DF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3D4F0-E824-440E-88EE-491C476B0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541B7-6D7F-49BE-9B5A-8265A30DA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3C768-DF80-4762-B351-FC41421EE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4A6E-19ED-4110-8FC1-E37EB90F4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h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las fibras 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a:t>
            </a:r>
            <a:r>
              <a:rPr b="1" lang="es-ES" sz="2800" spc="-1" strike="noStrike" baseline="30000">
                <a:solidFill>
                  <a:srgbClr val="000000"/>
                </a:solidFill>
                <a:latin typeface="Times New Roman"/>
                <a:ea typeface="Arial Unicode MS"/>
              </a:rPr>
              <a:t>7</a:t>
            </a:r>
            <a:r>
              <a:rPr b="1" lang="es-ES" sz="2800" spc="-1" strike="noStrike">
                <a:solidFill>
                  <a:srgbClr val="000000"/>
                </a:solidFill>
                <a:latin typeface="Times New Roman"/>
                <a:ea typeface="Arial Unicode MS"/>
              </a:rPr>
              <a:t>- l0</a:t>
            </a:r>
            <a:r>
              <a:rPr b="1" lang="es-ES" sz="2800" spc="-1" strike="noStrike" baseline="30000">
                <a:solidFill>
                  <a:srgbClr val="000000"/>
                </a:solidFill>
                <a:latin typeface="Times New Roman"/>
                <a:ea typeface="Arial Unicode MS"/>
              </a:rPr>
              <a:t>8 </a:t>
            </a:r>
            <a:r>
              <a:rPr b="1" lang="es-ES" sz="2800" spc="-1" strike="noStrike">
                <a:solidFill>
                  <a:srgbClr val="000000"/>
                </a:solidFill>
                <a:latin typeface="Times New Roman"/>
                <a:ea typeface="Arial Unicode MS"/>
              </a:rPr>
              <a:t>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7-11-02T13:59:09Z</dcterms:modified>
  <cp:revision>19</cp:revision>
  <dc:subject/>
  <dc:title>FERMENTACIONES EN ESTADO SÓLIDO O SEMISÓLIDAS</dc:title>
</cp:coreProperties>
</file>