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7B6-8AA6-4E57-8B8E-F6B0861A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949-3E5C-4EA8-AE74-45B4AECD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07B-10C1-47E0-A2DF-DCC7C06E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443-3C9D-4883-B7C0-9F6D4816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582-4AA4-4A4F-8B9B-C5A13C12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4D5-3FCB-4629-948B-83E6874A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D61-9D6C-45C4-A03E-887088A7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907-4C91-458C-9524-20BEE03B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F25-D561-49FF-A880-AF276F3E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263-24E4-4C5B-8040-5AB03CD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C8E-5F7B-41C8-B222-418DB68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C1E-77E1-4AFA-AE39-AAA6ECB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66D-18B3-4054-9E9D-A1DD0FBE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fluoresce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7-11-05T20:45:55Z</dcterms:modified>
  <cp:revision>5</cp:revision>
  <dc:subject/>
  <dc:title>MICROBIOLOGIA AGRICOLA</dc:title>
</cp:coreProperties>
</file>