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6443-CE85-4F95-B796-DF1FA11C6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5FE9-6934-4A32-B5D4-9862F8A25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874A-8068-40F8-8E86-FE53F5F2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3C44-2F7F-4554-AFEF-353C70A66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0A98-6337-4AD0-82DD-7CEAE62E1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9D23-0831-42F3-8A56-210DC965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8F36-FC7D-4E24-8D6A-E688AFCE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7A9F-E712-4C12-ACE4-A94121E83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9E27-958B-48DF-B31D-72ED24A4C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DE96-AD30-4AD2-BE53-441E9038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A65-3E43-4588-A8E5-9D4C35EC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AAC2-80EB-4304-A66C-62BBFA29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0D74-D9EE-4173-968F-4C819137DC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8, 4-11-25/9, 2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/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10, 6-13-20/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ciembre 2008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in de semestre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57200" y="152280"/>
            <a:ext cx="8229600" cy="79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8 de Agosto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CORTINEZ VILLALOBOS, VICT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LENGA Y EUCALIPT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Co-Guia: Oriana Salazar Integrante: Rene Carm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ZOA CONTE, RICAR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ODUCCION DE BIO-ETANOL DE SEGUNDA GENERACION A PARTIR DE RESIDUOS DE MAIZ Y TRI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  Co-Guia: Oriana Salazar   Integrante: Alejandro Gar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ONTECINOS PAVEZ, CATA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L EFECTO DE LA ADICION DE EXTREMOS HIDROFOBICOS EN LA EXPRESION Y PURIFICACION DE XILANASAS RECOMBINA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M.Elena Lienqueo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Co-Guia: Oriana Salazar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Integrante: Cristian Salg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621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4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NADIER STAVELOT, MAURICE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NFLUENCIA DE LA CRISTALINIDAD Y ADHERENCIA BACTERIANA EN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      Co-Guia: Blanca Escobar Integrante: Oriana Salazar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LASCO SARAGONI, NONOY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ELECTROQUIMICO DE LA BIOLIXIVIACION DE PIRIT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Tomás Vargas Co-Guia: Blanca Escobar Integrante:  Francisco Gracia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NUDMAN GUENDELMAN, ARI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LA GENERACION Y TRANSPORTE DE GAS SULFHIDRICO EN LAS REDES DE AGUAS SERVIDAS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Leandro Herrera Co-Guia: Cristian Salgado Integrante: Luis Felipe Salaz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INEDA ERICE, DANIEL</a:t>
            </a:r>
            <a:br>
              <a:rPr sz="1800"/>
            </a:b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TECNICO ECONOMICO DE PRODUCCION DE HIDROGENO MEDIANTE ELECTROLISIS UTILIZANDO ENERGIA ELECTRICA</a:t>
            </a:r>
            <a:br>
              <a:rPr sz="1800"/>
            </a:b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José Hernández Co-Guia: Leandro Herrera Integrante:  Francisco Gracia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66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11 de Septiem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ERRERO ADAROS, ALEJAND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IDENTIFICACION, CLONACION Y EXPRESION RECOMBINANTE DE UNA EXOGLUCANASA DE ALTA ACTIVIDAD CON VISTAS A LA PRODUCCION DE BIOETAN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SALINAS, ALEJAND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VEGA, MARCE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 Oriana Salazar Co-guia: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RIVEROS FIGUEROA, NIM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REDICCION DEL COEFICIENTE DE PARTICION DE PROTEINAS EN SISTEMAS DE DOS FASES ACUOSAS BASADO EN LA DETERMINACION DE CARGA E HIDROFOBICIDAD SUPERFI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00"/>
                </a:solidFill>
                <a:latin typeface="Times New Roman"/>
              </a:rPr>
              <a:t>Guia: Cristian Salgado  Co-guia: Barbara Andrews  Integrante: M.Elena Lienqu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89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00"/>
                </a:solidFill>
                <a:uFillTx/>
                <a:latin typeface="Times New Roman"/>
              </a:rPr>
              <a:t>Jueves 25 de Septiembre 14:30 Sala por fij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MERCADO ARGANDOÑA, SERG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HEK-293 EN SUSPENSION PARA LA PRODUCCION DE UN ANTICUERPO QUIMERICO ANTI-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Barbara Andrews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Juan Asenjo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ACHECO VEGA, CAROLI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ESTUDIO DE FACTIBILIDAD PLANTA PRODUCTORA KITS DE DIAGNOSTICO POR RT-PC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Ricardo Badilla Co-guia: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PEÑA ALVAREZ, JA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OPTIMIZACION DEL CULTIVO DE CELULAS CHO EN SUSPENSION PARA LA PRODUCCION DE ANTICUERPO QUIMERICO ANTI FACTOR DE NECROSIS TUMORAL (TNF) HUMA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an Asenjo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Co-guia: 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Barbara Andrews</a:t>
            </a: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ffff00"/>
                </a:solidFill>
                <a:latin typeface="Times New Roman"/>
              </a:rPr>
              <a:t>Integr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WILKENS DIAZ-MUÑOZ, CAMI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ANALISIS COMPARATIVO DEL METABOLISMO DE LACTATO PARA CELULAS CHO EN GLUCOSA Y GALACT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Guia:ZIOMARA GERDTZEN  Co-guia:Barbara Andrews  Integran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297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Jueves 2 de Octubre 14:30 Sala por fij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08-06T15:45:56Z</dcterms:modified>
  <cp:revision>142</cp:revision>
  <dc:subject/>
  <dc:title>El ingeniero, etica y sociedad</dc:title>
</cp:coreProperties>
</file>