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13C9D-2212-48CF-8FE6-02EDA83C74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00E2-172D-4146-AF54-6E122136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D640-3267-4323-838D-E71CDFF70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799E-67E4-4312-8175-BB6AA9239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2323-CCF7-4CD4-B7EB-9143FE99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CA37-AE43-4E5E-AE40-0D3F1E419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3E59E-6E5F-430D-9E88-4E1D357D9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B7F-983E-4D5D-AD4A-EC23FD227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943C1-ED6D-4D86-90B4-5CBE2EFA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8D133-999C-469F-B7C8-489C9FB5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2C9F-2B50-428C-9A3D-405621834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9C6DD-A448-487D-AD6E-7E3D2062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073E-23B9-429F-ADC9-F72B4C8F9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nama.cl/" TargetMode="External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2008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me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s una de las partes más crucial del In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ser de la menor extensión posible (1 a 1 1/2 página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ebe entregar una visión completa (autocontenido), de modo que los lectores puedan decidir si leen otras sec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tiene antecedentes que justifiquen la realización de la memoria, la metodologías utilizada, lo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resultados  y las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principales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conclus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resentación del tema de estudio, permite ubicar al lector indicando bajo que área se encuentra contenido el estudio específic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os principales aspectos que dan relevancia al estudio específico que se propone desarrollar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ntecedentes Bibliográfic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recopilación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y análisi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de las  experiencias o publicaciones recientes sobre el tema en estudi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incluir en forma oportuna las referenc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!! Es básico investigar sobre el tema del proyecto, adecuada y profunda búsqueda bibliográfica 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Se realizó el semestre pasado (IQ-BT69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 [40] , tales como la robótica [25] y los sistemas expertos [1]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¿¿¿ Qué  tiene de extraño este texto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Ejemplo de entrega de antecedentes</a:t>
            </a:r>
            <a:br>
              <a:rPr sz="32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IMPORTA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alfabé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(Charniak y Mc Dermot, 1985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ferencia por orden de apar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Alrededor de 30 años atrás y, especialmente en los últimos 10 años, comenzó un amplio uso comercial de algunas aplicaciones de la inteligencia artificial, tales como la robótica y los sistemas expertos</a:t>
            </a:r>
            <a:r>
              <a:rPr b="0" lang="es-ES" sz="2400" spc="-1" strike="noStrike">
                <a:solidFill>
                  <a:srgbClr val="ffff00"/>
                </a:solidFill>
                <a:latin typeface="Arial"/>
                <a:ea typeface="Times New Roman"/>
              </a:rPr>
              <a:t> [1]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ferenc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240" y="1142640"/>
            <a:ext cx="84582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Citar las que se usarán en el trabaj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Belter PA, Cussler  E.L., Hu W. (1988) “ Bioseparations:  Processing for Biotechnology",John Wiley &amp; Sons, New York, 368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apítulos en Lib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Hagel L(1998) “ Gel Filtration" en "Protein Purification: Principles, High-Resolution Methods, and Applications”, Editado por J-C Janson and L. Ryden,2 Edition, Wiley-Liss, New York, 79-144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ap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Eriksson H, Sandahl K, Brewer J, Osterlund B (1991b). “Reactive planning for chromatography”, Chemometrics and Intelligent laboratory Systems: Laboratory Information Management 13: 185-194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emo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Muñoz D (1989) "Metodologías de Adquisición de conocimiento para la construcción de sistemas computacionales basados en el conocimiento (Sistemas Expertos) y aplicación a la ingeniería de procesos", Memoria de Magister en Cs. de la Ingeniería mención Química, Univeridad de Chile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Manu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NeuroData (1991) "Nexpert Object - Reference manual", Neuron Data Inc.,Palo Alto, USA, 284pp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Comunicación Direct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Righetti P.G (1999) Comunicación personal.</a:t>
            </a:r>
            <a:r>
              <a:rPr b="1" lang="es-ES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-248400" algn="just">
              <a:lnSpc>
                <a:spcPct val="9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Arial"/>
                <a:ea typeface="Times New Roman"/>
              </a:rPr>
              <a:t>Páginas we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-198720" algn="just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 u="sng">
                <a:solidFill>
                  <a:srgbClr val="ccccff"/>
                </a:solidFill>
                <a:uFillTx/>
                <a:latin typeface="Arial"/>
                <a:ea typeface="Times New Roman"/>
                <a:hlinkClick r:id="rId1"/>
              </a:rPr>
              <a:t>www.conama.cl</a:t>
            </a:r>
            <a:r>
              <a:rPr b="1" lang="es-ES_tradnl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: Página Comisión Nacional Medio Ambiente, 20/mayo/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9432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46200"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escripción del Proyecto y Justific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xplicar y fundamentar (con los antecedentes previos) qué problema se pretende abord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la relevancia o utilidad del proyecto propues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n dar  las razones que implican que se desarrolle este proyec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ier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Qué se puede gan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 Gener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46483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un desglose detallado del objetivo general, se relacionan con los resultados parciales que deberán obtenerse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 algn="just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Son los logros intermedios que, en conjunto, posibilitan o alcanzar el objetivo gener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4290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Objetivos Específicos</a:t>
            </a:r>
            <a:r>
              <a:rPr b="1" lang="es-ES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212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presenta en forma breve y precisa lo más relevante que se pretende lograr con el proyect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ser coherente con la justificación previa y con los resultados posteriores que se planteará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os objetivos se deben correlacionar directamente con las conclusion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761760" y="27432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ffff99"/>
                </a:solidFill>
                <a:uFillTx/>
                <a:latin typeface="Times New Roman"/>
              </a:rPr>
              <a:t>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Gener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99"/>
                </a:solidFill>
                <a:latin typeface="Times New Roman"/>
              </a:rPr>
              <a:t>O. Específ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1640" y="25909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 u="sng">
                <a:solidFill>
                  <a:srgbClr val="ccffff"/>
                </a:solidFill>
                <a:uFillTx/>
                <a:latin typeface="Times New Roman"/>
              </a:rPr>
              <a:t>Conclus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ón Princip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c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ffff"/>
                </a:solidFill>
                <a:latin typeface="Times New Roman"/>
              </a:rPr>
              <a:t>Conclusiones de cada activ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5480" y="3429000"/>
            <a:ext cx="167652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05320" y="4038480"/>
            <a:ext cx="1066680" cy="0"/>
          </a:xfrm>
          <a:prstGeom prst="line">
            <a:avLst/>
          </a:prstGeom>
          <a:ln w="76320">
            <a:solidFill>
              <a:srgbClr val="ffff99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8.8, 4-11-25.9, 2.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0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6-13.11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1.12.2008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: 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.01.20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05/08/09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echa máxima para rendir examen de grado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todologí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ater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éto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28954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n ser breves y si necesita extenderse más use anex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Resultados (y Discusione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Indica los productos concretos obten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Recomend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dividir el capítulo por objetivos específ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usar tablas y gráficos en forma simultánea. Si piensa que lo necesita colocar uno de ellos en apéndi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recomienda ir discutiendo inmediatamente los resultados, resulta más fácil para el l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141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468360" y="476280"/>
            <a:ext cx="3779640" cy="3831480"/>
            <a:chOff x="468360" y="476280"/>
            <a:chExt cx="3779640" cy="3831480"/>
          </a:xfrm>
        </p:grpSpPr>
        <p:graphicFrame>
          <p:nvGraphicFramePr>
            <p:cNvPr id="99" name=""/>
            <p:cNvGraphicFramePr/>
            <p:nvPr/>
          </p:nvGraphicFramePr>
          <p:xfrm>
            <a:off x="468360" y="476280"/>
            <a:ext cx="3779640" cy="27144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68360" y="476280"/>
                      <a:ext cx="3779640" cy="27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" name=""/>
            <p:cNvSpPr/>
            <p:nvPr/>
          </p:nvSpPr>
          <p:spPr>
            <a:xfrm>
              <a:off x="468360" y="3787560"/>
              <a:ext cx="377964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859280" y="404640"/>
            <a:ext cx="3780000" cy="5110560"/>
            <a:chOff x="4859280" y="404640"/>
            <a:chExt cx="3780000" cy="5110560"/>
          </a:xfrm>
        </p:grpSpPr>
        <p:graphicFrame>
          <p:nvGraphicFramePr>
            <p:cNvPr id="103" name=""/>
            <p:cNvGraphicFramePr/>
            <p:nvPr/>
          </p:nvGraphicFramePr>
          <p:xfrm>
            <a:off x="4859280" y="404640"/>
            <a:ext cx="3780000" cy="2714760"/>
          </p:xfrm>
          <a:graphic>
            <a:graphicData uri="http://schemas.openxmlformats.org/presentationml/2006/ole">
              <p:oleObj progId="Excel.Sheet.12" r:id="rId3" spid="">
                <p:embed/>
                <p:pic>
                  <p:nvPicPr>
                    <p:cNvPr id="10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59280" y="404640"/>
                      <a:ext cx="3780000" cy="2714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5" name=""/>
            <p:cNvSpPr/>
            <p:nvPr/>
          </p:nvSpPr>
          <p:spPr>
            <a:xfrm>
              <a:off x="4859280" y="3716280"/>
              <a:ext cx="3780000" cy="1798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Figure 2: Comparison between Predicted and Observed Dimensionless Retention Times on Phenyl Sepharose 6FF  2 M ammonium sulphate using the First approach based on  protein average surface hydrophobicity (</a:t>
              </a:r>
              <a:r>
                <a:rPr b="1" lang="en-US" sz="1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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rface) (o) Standard proteins, (●) </a:t>
              </a:r>
              <a:r>
                <a:rPr b="1" lang="es-ES" sz="1400" spc="-1" strike="noStrike">
                  <a:solidFill>
                    <a:srgbClr val="000000"/>
                  </a:solidFill>
                  <a:latin typeface="Times New Roman"/>
                </a:rPr>
                <a:t>b-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glucanase BglII with UNKNOWN 3D structure, (- - -) Confidence intervals (95%)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1042920" y="515772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IMPORTA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99"/>
                </a:solidFill>
                <a:latin typeface="Times New Roman"/>
              </a:rPr>
              <a:t>Si hay figuras deben tener un texto que las expli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Discus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s una de las partes más importantes de la memor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Se debe mostrar todo lo aprendido, junto a la </a:t>
            </a:r>
            <a:r>
              <a:rPr b="0" lang="en-US" sz="20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apacidad de análisis y sínte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Debe estar relacionada y comentar lo presentado tanto en resultados como en los antecedentes bibliográficos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(apoyarlos o refutarl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Capitulo 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Conclus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 la parte más importantes de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Debe responder a los objetivos propues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Se ha logrado establecer 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No puede contener nada que no tenga respaldo con lo antes expuesto en la memo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No deben aparecer nuevos result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ome tiempo en escribir este capítulo, COMENTELO CON SU PROFESOR GU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60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REDACCION DEL BORRADOR DE MEMORIA 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Forma de reda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Tenga cuidado en la forma de redacción, pues se confunden los resultados con </a:t>
            </a:r>
            <a:r>
              <a:rPr b="0" lang="en-US" sz="2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las conclus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El pH óptimo para la reacción en estudio es 7.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Resultado o Conclus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¿ Cómo debería ser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Escriba todo en términos positiv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No se logró detectar la presencia de orgánicos en la solució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28520" indent="-205560" algn="just">
              <a:lnSpc>
                <a:spcPct val="90000"/>
              </a:lnSpc>
              <a:spcBef>
                <a:spcPts val="451"/>
              </a:spcBef>
              <a:buClr>
                <a:srgbClr val="ffff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  <a:ea typeface="Times New Roman"/>
              </a:rPr>
              <a:t>¿Correcto o no?, ¿Cómo debería ser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Arial"/>
                <a:ea typeface="Times New Roman"/>
              </a:rPr>
              <a:t>La cantidad de orgánicos en la solución se encontraba bajo los niveles de detección. Se recomienda utilizar otros métodos de análisi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 u="sng">
                <a:solidFill>
                  <a:srgbClr val="ffff99"/>
                </a:solidFill>
                <a:uFillTx/>
                <a:latin typeface="Arial"/>
                <a:ea typeface="Times New Roman"/>
              </a:rPr>
              <a:t>ORTOGRAF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Arial"/>
                <a:ea typeface="Times New Roman"/>
              </a:rPr>
              <a:t>Cuidado con palabras com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Solo o sólo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Este o éste, esta o ésta o está?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Más o 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Revisar el texto antes de entreg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99"/>
                </a:solidFill>
                <a:latin typeface="Arial"/>
                <a:ea typeface="Times New Roman"/>
              </a:rPr>
              <a:t>Preferentemente que lo lea otra perso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Fecha de entrega del Borrador de Memoria</a:t>
            </a:r>
            <a:br>
              <a:rPr sz="4400"/>
            </a:br>
            <a:br>
              <a:rPr sz="4400"/>
            </a:b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9 de Diciembre </a:t>
            </a:r>
            <a:br>
              <a:rPr sz="48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En SECRETARIA DOCENTE DIQBT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Proceso de Titu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000080" y="-115920"/>
            <a:ext cx="7143840" cy="70992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916360" y="692280"/>
            <a:ext cx="934920" cy="792000"/>
          </a:xfrm>
          <a:prstGeom prst="ellipse">
            <a:avLst/>
          </a:prstGeom>
          <a:noFill/>
          <a:ln w="7632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1700280"/>
            <a:ext cx="1619280" cy="1608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Cuando la comisión evaluó su 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</a:rPr>
              <a:t>31/12/20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5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/01/2008</a:t>
            </a:r>
            <a:br>
              <a:rPr sz="5400"/>
            </a:br>
            <a:r>
              <a:rPr b="0" lang="es-ES" sz="5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Número de Ejemplares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en cuero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1 Copia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para cada miembro de la comisión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 (en tapa blanda)</a:t>
            </a:r>
            <a:br>
              <a:rPr sz="4400"/>
            </a:b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Co-guía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tegrante</a:t>
            </a:r>
            <a:br>
              <a:rPr sz="3200"/>
            </a:b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f. Invitado (Si lo ha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00"/>
                </a:solidFill>
                <a:latin typeface="Times New Roman"/>
              </a:rPr>
              <a:t>Además para Cybertesis (NUEV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CD que contenga los siguientes archivo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ortada de la memoria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Resumen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Indice de Contenidos (DO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Texto de la memoria COMPLETA (PDF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894120" y="189000"/>
            <a:ext cx="5249880" cy="66690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95280" y="620640"/>
            <a:ext cx="295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Todas las memorias deberán entregar esta autorización para que sean publicadas en Cyberte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780000" cy="18889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924360" y="5084640"/>
            <a:ext cx="2735280" cy="1513080"/>
          </a:xfrm>
          <a:prstGeom prst="ellipse">
            <a:avLst/>
          </a:prstGeom>
          <a:noFill/>
          <a:ln w="572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Memor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05264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Títu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99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99"/>
                </a:solidFill>
                <a:latin typeface="Arial Unicode MS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1 Introd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Antecedentes Bibliográf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Descripción del Proyecto y Justificac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Obje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2 Metod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ater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Métod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3 Resultados ( y Discusion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4 Disc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5 Conclus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Times New Roman"/>
              </a:rPr>
              <a:t>Capítulo 6 </a:t>
            </a:r>
            <a:r>
              <a:rPr b="1" lang="es-ES_tradnl" sz="2000" spc="-1" strike="noStrike" u="sng">
                <a:solidFill>
                  <a:srgbClr val="ffff00"/>
                </a:solidFill>
                <a:uFillTx/>
                <a:latin typeface="Arial Unicode MS"/>
                <a:ea typeface="Arial"/>
              </a:rPr>
              <a:t>Bibliograf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00"/>
                </a:solidFill>
                <a:latin typeface="Arial Unicode MS"/>
                <a:ea typeface="Arial"/>
              </a:rPr>
              <a:t>Anex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391520" y="3429000"/>
            <a:ext cx="17524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50 pági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Times New Roman"/>
              </a:rPr>
              <a:t>Car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80000" y="1052640"/>
            <a:ext cx="15242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6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5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}</a:t>
            </a:r>
            <a:endParaRPr b="0" lang="en-US" sz="2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639200" cy="58053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1258920" y="18900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https://titulacion.ing.uchile.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99"/>
                </a:solidFill>
                <a:latin typeface="Times New Roman"/>
              </a:rPr>
              <a:t>Examen de Grad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Lectura del Resum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sentación de la memoria (2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99"/>
                </a:solidFill>
                <a:latin typeface="Times New Roman"/>
              </a:rPr>
              <a:t>Preguntas de la comisión ( 60 minut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332000" y="0"/>
            <a:ext cx="6740280" cy="66992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427640" y="0"/>
            <a:ext cx="3240000" cy="1557360"/>
          </a:xfrm>
          <a:prstGeom prst="ellipse">
            <a:avLst/>
          </a:prstGeom>
          <a:noFill/>
          <a:ln w="76320">
            <a:solidFill>
              <a:srgbClr val="ff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04640"/>
            <a:ext cx="25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42d0c"/>
                </a:solidFill>
                <a:latin typeface="Times New Roman"/>
              </a:rPr>
              <a:t>Sólo para el examen de g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mi memoria no es aceptada por la comisión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memoria puede quedar con nota Suspendida y se dan 3 semanas para que se hagan los cambios necesario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La nota máxima en ese caso en 4.0 y corre los mismos plazos que en el caso normal (3 semanas para la revisión de la comisión y 3 semanas para las correcciones del alumn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00"/>
                </a:solidFill>
                <a:latin typeface="Times New Roman"/>
              </a:rPr>
              <a:t>¿ Qué pasa si no he terminado en la fecha prevista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Si tienes causas justificadas se puede pedir una prorroga de hasta 2 me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Para ello se necesi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Llenar formulario de prorroga hasta 1 semana después de vencido el plazo de entrega del borrador (</a:t>
            </a: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9.12.200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profesor guía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00"/>
                </a:solidFill>
                <a:latin typeface="Times New Roman"/>
              </a:rPr>
              <a:t>-Adjuntar carta del alumno (a) que justifique la solicitud de prórrog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590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¿ Consultas  y </a:t>
            </a:r>
            <a:r>
              <a:rPr b="0" lang="es-E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 escribir</a:t>
            </a:r>
            <a:r>
              <a:rPr b="0" lang="es-ES" sz="4400" spc="-1" strike="noStrike">
                <a:solidFill>
                  <a:srgbClr val="ffff00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24000" y="-31680"/>
            <a:ext cx="4894200" cy="69310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250920" y="4653000"/>
            <a:ext cx="19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NUEV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700360" y="549360"/>
            <a:ext cx="3238560" cy="4680000"/>
            <a:chOff x="2700360" y="549360"/>
            <a:chExt cx="3238560" cy="4680000"/>
          </a:xfrm>
        </p:grpSpPr>
        <p:sp>
          <p:nvSpPr>
            <p:cNvPr id="53" name=""/>
            <p:cNvSpPr/>
            <p:nvPr/>
          </p:nvSpPr>
          <p:spPr>
            <a:xfrm>
              <a:off x="3203640" y="4076640"/>
              <a:ext cx="2735280" cy="11527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00360" y="549360"/>
              <a:ext cx="2735280" cy="3585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71640" y="907920"/>
            <a:ext cx="7323120" cy="12258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385956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539640" y="549360"/>
            <a:ext cx="7999560" cy="44211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589720"/>
            <a:ext cx="8134560" cy="61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80960" y="1689120"/>
            <a:ext cx="8180280" cy="34876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547640" y="620640"/>
            <a:ext cx="49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Times New Roman"/>
              </a:rPr>
              <a:t>Consideraciones bás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Títul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Representativo, pero br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Debe dar una </a:t>
            </a:r>
            <a:r>
              <a:rPr b="1" lang="es-ES_tradnl" sz="3200" spc="-1" strike="noStrike" u="sng">
                <a:solidFill>
                  <a:srgbClr val="ffffff"/>
                </a:solidFill>
                <a:uFillTx/>
                <a:latin typeface="Arial"/>
                <a:ea typeface="Times New Roman"/>
              </a:rPr>
              <a:t>idea concreta del tema</a:t>
            </a:r>
            <a:r>
              <a:rPr b="1" lang="es-ES_tradnl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 del tema en estudi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ffffff"/>
                </a:solidFill>
                <a:uFillTx/>
                <a:latin typeface="Times New Roman"/>
              </a:rPr>
              <a:t>DEBE ESTAR LI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Ing Quimica</cp:lastModifiedBy>
  <dcterms:modified xsi:type="dcterms:W3CDTF">2008-11-05T15:52:22Z</dcterms:modified>
  <cp:revision>144</cp:revision>
  <dc:subject/>
  <dc:title>El ingeniero, etica y sociedad</dc:title>
</cp:coreProperties>
</file>