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315-2D60-4A8A-8AC2-DEAA3143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34F-537D-4BCC-85E6-D98182DC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68E-2982-425F-AF89-0193A97C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642-4B58-4901-B0D6-F7FA9209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D7D-8690-4C8E-9900-68C43E18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D2A-E1D5-46CF-8326-A77029E2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A9A-DFF4-4F67-876B-3326785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69-A4E3-4033-8ED1-EB3BF90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E8D3-B58A-4D52-B9BF-CD8FCD82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27E-137F-4477-BD21-48F8B11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665-E7A5-47E8-9FD3-CE0DEF46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6AA-DF63-4AF3-AC30-0CCB7366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EF7-FB19-4386-B80D-6BF2CE95C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C31B: Desarrollo de Software de Aplic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8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. M. 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cilia@dcc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Ciencia de la Compu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4DD-4FFE-4437-8999-C124907F6C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es así como se desarrolla habitualmente la práctica profesional? y ¿por qué sería conveniente que así fu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5CA-5C38-4940-8A48-DB69783BA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Defini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ón de un software con múltiples versiones  por múltiples personas. [Parnas8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457-B74C-47BB-946A-F28D991287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68" name="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3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5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6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S trata de organizar un buen proceso de desarrollo para lograr un buen produc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5FC-9CA2-4356-A8F6-C5EA12620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volución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83" name="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96" name="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98" name="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2"/>
                <a:endCxn id="96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0" name="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101" name="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" name=""/>
              <p:cNvCxnSpPr>
                <a:stCxn id="103" idx="0"/>
                <a:endCxn id="101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5" name="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106" name="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0"/>
                <a:endCxn id="106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C86-7BB9-4990-8A33-1DD76A45F6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sto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escribían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os desarrollaron grande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grandes sistemas comerciale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rabajo va más allá de la progra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rea el término “ingeniería de softw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CDF-EAE2-496D-B453-62C9BC6D42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ras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06E-288A-4F64-944D-767D9FE4C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gram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olo programador escribe todo el progr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small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aprecian el sistema comple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más tiempo para comunicación que para cod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s de personal afec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781-5E57-4F98-A15E-E0C82D4B02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ara qué la Ingeniería d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construir grandes sistema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definir claramente lo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large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, organización, herramientas, teorías, metodologías y técnicas como base para resolver los problemas comput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DEF-E011-463F-868F-7D3915925C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fluencia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616-80DD-4D3F-8EF7-4CA8A1DFF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idade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BDC-4F31-443E-B179-6D4001C08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l del Ingenier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8A9-6EC5-4909-8D03-872C65C47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619760" y="152280"/>
            <a:ext cx="1447560" cy="1447920"/>
            <a:chOff x="7619760" y="152280"/>
            <a:chExt cx="1447560" cy="1447920"/>
          </a:xfrm>
        </p:grpSpPr>
        <p:sp>
          <p:nvSpPr>
            <p:cNvPr id="139" name=""/>
            <p:cNvSpPr/>
            <p:nvPr/>
          </p:nvSpPr>
          <p:spPr>
            <a:xfrm>
              <a:off x="8146440" y="152280"/>
              <a:ext cx="350640" cy="1447920"/>
            </a:xfrm>
            <a:prstGeom prst="upDownArrow">
              <a:avLst>
                <a:gd name="adj1" fmla="val 50000"/>
                <a:gd name="adj2" fmla="val 822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8168040" y="173880"/>
              <a:ext cx="350640" cy="1447560"/>
            </a:xfrm>
            <a:prstGeom prst="upDownArrow">
              <a:avLst>
                <a:gd name="adj1" fmla="val 50000"/>
                <a:gd name="adj2" fmla="val 8218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142" name="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D1-5157-4775-8433-BBD892883F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29B-D0A6-4DE0-87F8-424418C095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alidad es Más Car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AB4-3219-43F4-A373-4632F3A6F4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 Casc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155" name="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7" idx="3"/>
              <a:endCxn id="158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3"/>
              <a:endCxn id="160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3"/>
              <a:endCxn id="162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2" idx="3"/>
              <a:endCxn id="157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endCxn id="155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E9A-8B20-47F8-9D99-15B06A2F07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formación de Grup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upos de trabajo debe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entre dos y tres perso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rse antes del martes 5 de ago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rle un mail al auxiliar del curso informándole la conformación de los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para el martes 5 no tenga grupo será asignado arbitr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A29-7E51-4B85-9376-34DC3243C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lific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5.5 de promedio en t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 en controles se puede exi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396-7AA1-4134-975C-977698C84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Ingenierí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y Cualidades del Software y su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ciclo de vida d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s del ciclo de vida del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y va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esarroll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0BF-21F0-4B55-BB83-430C3C88A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59E-E431-4F9F-A1B2-F5DBFF5141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Ingeniería, Tecnología y 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137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ciencia para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ingenie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tecnología en presencia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o, ¿qué es la ciencia y cuándo estamos aplicando la 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erpo de doctrina metódicamente formado y ordenado, que constituye una rama particular del s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s de la realidad cuyo comportamiento es explicable y que permiten predecir el comportamiento de situaciones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F0F-0B2C-4147-9026-BF0A97156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para la construcción de software en presencia de recursos limi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qué es el software? y ¿qué ciencia se aplica en su construc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852-923B-456A-835D-C0AF62A54A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cutables, de instalación, de re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isitos, diseño, pruebas, código fuente, manuales de usua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 de la aplicación, parámetros de 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596-9B7A-489C-ADD4-47954AD2A2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8:43Z</cp:lastPrinted>
  <dcterms:modified xsi:type="dcterms:W3CDTF">2008-07-31T18:13:26Z</dcterms:modified>
  <cp:revision>11</cp:revision>
  <dc:subject/>
  <dc:title>CC31B: Desarrollo de Software de Aplicaciones</dc:title>
</cp:coreProperties>
</file>