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DBE-3556-4E60-BC0E-886235BB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D9C-EE1D-461C-9875-7D058735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C54-89CA-4765-A8E3-58BD1B9A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3A1-D4D3-4F4A-BB98-7303D61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62C-D883-4BC0-B99A-73EB1F6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57B-854B-4F59-B6FA-4324FC40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B8B-2066-4EE1-B1B3-49855443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EBA-2CF1-4A71-AC6A-9B9CFF02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25D-42AB-43AF-A0BA-27BA2D4E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240-A600-43D1-BE01-7428F11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4E8-3BC1-4098-A0C0-E5D127A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3C6-61B7-4ED8-AD79-C630EE9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EBF3-687F-4697-BF96-ED6C6BE87BA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C37-351F-45D8-A1F4-BE4AA5668E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135-AE8D-46C1-8C99-297E2510A8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722-9A15-4C21-9156-81DB463584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BF2-022E-43F1-9BDF-D0D911B739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45F-E3D0-4ADF-9200-42B43A950A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A8A-123E-49B9-AFBC-32A9B52B46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E7F-C801-4CC8-A69C-0AE97A0F00B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1A3-025A-40FC-920C-BA6B1CCF11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53F-9AB3-4690-A163-6D17583309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6C0-87FE-44DE-8E18-49B1FADE1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07B-7A23-4425-9A66-8D15A545B3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449-F030-4B3F-AE1E-F56E72DDAD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9E0-5F75-4210-A93A-998FF733C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C84-9A53-41D2-AF23-A3920B7A71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C93-F44A-4AF8-A614-2825635691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EC6-A5CC-4147-BEF8-E38218AD8D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514-9676-4EE1-83A7-FEE810A30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1:18Z</cp:lastPrinted>
  <dcterms:modified xsi:type="dcterms:W3CDTF">2008-08-05T16:18:36Z</dcterms:modified>
  <cp:revision>20</cp:revision>
  <dc:subject/>
  <dc:title>CC31B: Desarrollo de Software de Aplicaciones</dc:title>
</cp:coreProperties>
</file>